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5F1D-D71D-415B-93C9-E1D72C6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881C-2D52-4B18-91B0-F6FD4088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0A65D-A490-443A-9DBC-6C5FDA0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66B38-F434-4905-AB86-831CF1E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7DA5E-27A5-480E-83C5-AFF3259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6A1D-C4AD-4618-9FA0-0392C64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4BA7C-0B89-49ED-AF5A-C852EAF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4AFFA-D71A-44E3-9900-9A549CF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D4451-F2B6-4580-8BB8-4C22565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48C72-B44F-44F1-91D2-87BC7D23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5C569-E7A5-4F65-913D-431188C6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DC005-D2B4-4A5D-B951-95D8A0FC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3548-3BFC-4AE5-A9C2-C396B18E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C6FE1-C1E2-4C0C-A23A-BF26F43D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8A5E4-AA99-4496-AD8E-2D6853C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7A5C6-4CB8-495E-8EEE-AAE87FE4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2D3D3-60BB-4F12-949A-ABB20D34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9908F-87C7-4FD3-89F9-507ADDE2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42B5F-AC82-43D3-A2B5-4F61F03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D699-5ECE-4B95-88D5-6B51DCD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12D6E-2825-4DF6-A124-38851BD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9A6F3-F8E2-42EB-BE13-0599C740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7D3C5-3979-4FB1-8C24-B92DF6FD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7316-6630-48D0-B60E-50C35124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4E4B7-89E0-4D8D-A66B-43F16BE4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3CAE5-5E93-464E-8C33-C7B9B461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B29A-4DB9-4B6E-B0E8-2A2BC71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90E4D-93C3-4712-BA99-B55C44A6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93CA5-383B-4328-8C74-5DF2282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ECD2-C1E0-4E82-8347-D4A1682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1AA32-461C-45AA-8C30-C139B5F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ACCBE-555E-4E75-B491-5439E323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A29A9-0F80-4871-87B0-BC7D04B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3AD4C-87B8-46B9-B291-9003AD3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A405-FC7E-4DDA-982F-E90720BD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04DB8-3FE9-41E2-8AF6-9B139B08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8E23E-E8F7-44AC-B953-54C8C09D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702B-1148-412B-BC97-6596098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C63DE-B1BA-45DD-BAE3-24378BA5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A6379-25EB-430A-86EF-CDDF01F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D34F0-9BF2-4E48-8414-056C1536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B866A-AEAC-4DD5-998F-EC2AC91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35BF2-1661-4E88-8858-C116056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3B0BF-024A-49C9-B6F9-9F3ACAD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2ADE0-DB0E-480B-93F7-145A194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05F-A5F3-4997-A9B5-C27C8A6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C4C25-B1AF-4E4D-9E33-3D931EA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BCE7-E162-430E-B1D8-82BDF06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E2A28-E2DD-49BA-A166-4097A74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31C9D-BEA7-47D0-BBF3-8197CA99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09121-70D5-478E-89E2-867B1DC2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D04B9-0DD0-44F9-9176-A02C43CB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1F4E7-2243-4D1A-A453-6569DADE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515FA-1390-4689-81BE-C230793B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3FCDE-1241-4492-B814-A9D4B83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5132B-9361-46D1-A25D-5AC6941A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3E6-67DF-4659-A02E-290FB39A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6949D-2FC6-40F4-9C8C-67B8A93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2D1DF-782B-403D-A634-EE6ECB2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67D9C-81C3-40F9-8332-E30F2E2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25EC1-626B-4C09-8E27-679A0B2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171FE-11A1-4A83-BF6C-235765B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43B7E-3E37-4389-A469-97F4E84F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A7915-A1D6-4BF1-8536-A4C5D0B7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1C1D0-7DEB-415E-A5CE-C968B395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3F051-D82A-4B8A-8366-862821B1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AED43-5FD0-4726-8D45-F307127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258-A298-4E10-BC29-2314E78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A7813-3DFC-4F5F-9B30-75532FB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47357-F6DD-4336-BD1B-0118BD7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CF398-2C2A-43BB-8AE5-2A99B854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78B3F-2DCA-4B4B-842D-36B96AE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B01E9-0D68-4BC1-9CCB-A44D674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03E8E-A86B-4C3D-A636-836700F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2FA35-1ECD-4B5B-8E17-F9D5A2D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792B1-0EF0-4157-9F04-A20E0F9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FFBD8-2D1C-40FC-A52E-B6129E03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FC2B8-F57D-4126-8D5A-720DA6D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A548-488E-40BA-AA3C-9F10A88E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3DA32-54DD-4804-9357-FFBC11A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56D72-A5D2-49E6-9D6B-36B8BF8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0A257-E816-475D-927C-A8DCF9D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22652-AB4C-4681-B647-0DF19AF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F3189-E6B7-48B0-8411-B3E8CABE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D1047-41EB-4E95-B64A-0154A8A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BFBA3-05A0-47A8-A1E8-8D080CE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8BE6E-1D5B-43E7-8B5A-40F23D8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130ED-D5CF-4400-947B-1BCC8F78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1A3CB-821A-4CB5-8989-7EB817B6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581C-01A4-48C1-AE7E-85876D47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A07B7-5FD2-40C1-A371-A991AC70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A6653-9A41-433F-BCF3-E3AC3264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22F2E-3C70-4E09-B575-115503A6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DEECC-C467-41C0-BA79-9B7F228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FF97C-AF52-4AF6-99A6-E81A44C4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9B406-AE4D-4029-B09A-CC938685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CF6E8-0CFF-4102-BB19-ACDEEC7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6930D-8954-45E0-82F1-8B8400E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4BDA9-9D74-4A25-A91A-CF1148D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A130C-6FC3-4BD3-A901-93478461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FA94-6EFB-40F1-BD31-E94101B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DC336-412F-4766-A91B-C403932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570A4-8C2C-42FD-8A50-7B75B9A5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8BB47-6A55-4FED-A92C-B0D00568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11C39-0AEA-4CEF-86AA-E229E877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1176E-0EF7-4877-AC84-7A2B2AC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21E1C-D4BA-4FF8-B27A-A975B04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8D8DA-423F-448E-BC34-D059FEE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AEBF1-D259-47B5-B219-0D651F42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BD4FF-E9A2-4C3F-BA3F-859248F7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E67A5-02DD-40CD-A096-F5F53B2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869E-F5DA-4EE7-8D76-9D1FFFF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BF8-92E1-4AB2-BB62-5D569AD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6C87B-9D53-4386-8F96-3354EB8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8A12D-BCDB-483B-B23A-F9D5374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AAD9A-F09A-4EEB-82D6-1C72178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C0F4A-AD89-4712-89C4-E2FC02C8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033F9-EF3C-468A-AC92-08614C43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7EF39-50EA-4366-AACE-02BC9362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09EC7-AEC4-44F8-AA40-19B1D072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F14E4-2C18-4D60-BE1E-D75F6A8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12ECB-CE7C-4793-B1B7-84F7BEF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96ED4-C23B-465A-AC2A-7315D196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FD20-BDFA-4B81-BE21-CAAB3F1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807C4-85DF-40E2-A1C6-1DECC2A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E0E3F-2BBE-4338-9751-12C3CA2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5F061-710F-4752-95AC-476F6A3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A05B4-72B3-4733-B324-5B84E3F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E61B2-CB30-4632-9947-11011F3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7F41E-9176-429E-A708-DB6F42BE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BEE55-4CCF-4757-8DE8-35DD87AC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B4D1-F748-4AEE-B998-E14D4988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7792-1DD3-4FA5-A30F-639C5CAA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294-B5B5-4191-A931-CC7DFF06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083F-2D81-479D-A43C-9CC4EA38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AA2A-301B-44E7-A4E1-FBFA1337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EC89-9E1D-4C58-9F80-CDF1D3FC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549A-2581-4573-9856-CE0BC254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9667-87FC-47E0-885A-8A2D519B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E10C-689D-447F-98FF-617B7EF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9B88-1CED-4F89-934B-7EB914D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7383-6E11-4EDB-AFFF-CC2EA01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945A-54A6-44AB-85AA-1AAF4DE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D145-C663-4E9F-A924-CA259E63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56E5-6D1B-48E3-83BD-B3CC798E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302A-9029-41C1-B7B2-C224F297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E0F8-7B06-41B4-957A-E6DBC38D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0F74-5AAF-4A83-B3BF-4C70F195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B604-A136-4FF2-B1A9-A27F2A5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20E4-3CB4-4300-A320-153346F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4C95-6D92-43CC-8AC2-70955FA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4167-8830-4850-A70F-40CCDC5A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866B-A911-4671-8C1E-3D23399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EF60-C21F-4190-AF97-BA42F16C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4CD1-1A3E-47AE-A3F9-C31F78A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3E38-666A-4B60-AEF4-EDB19F7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618B-B782-4348-B1EF-82794D7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D294-3068-4401-85B3-BD362FE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86FB-2DB1-4294-86CB-8CCB6449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BB27-6D26-4502-9A8E-86CB4737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5D7D-2A39-4ED4-8B28-73AE84C2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CD6D-40A1-4562-82EA-9860FF7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8F5C-179A-489F-A73C-5F7CE4E6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DE2C-B63D-4850-B3B5-DE8F3FB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BE00-2BB6-40D3-B3AA-C8ACEAD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06D9-F74A-44C0-926A-9B24B86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D848-A1F3-466A-ACC5-FBEE21FF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F9F6-196A-4778-8181-96908BAA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7386-A39F-4EAB-83B7-B9A4041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0288-0A60-4390-823E-D583CCF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6FDC-D0ED-4AD3-9C11-889813B8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3CD1-7CD8-4C54-A7A0-EA56C19A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A489-6FD6-47D8-9045-D730BD2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4968-1D17-49F7-BB86-16C81B0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B552-0AAC-4C60-85A9-79436A01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0294A-4DAF-4C34-BF40-4D64A8DB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D4D1-B520-4CD8-851D-943E1C9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368C-4A97-4325-901F-81BA11A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A6C5-41B9-4BCD-A3F1-468A3FD6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26D6-9150-4E1D-B673-539B55CB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8C57-A6BC-4A2C-81DC-CC847EB1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A751-9ED7-493C-9141-78A8C05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731C-BA45-4A91-8B92-AF08295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A3AD-2B6B-4396-A433-D6C545E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8CCD-5835-43CC-AEA6-766298A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8BF5-C985-4809-8A5F-A64B9BD1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9E63-CB66-4506-BF91-C3B5D3D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27A7-D61E-4418-B5B4-1D693ED6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8E96-63B2-42D7-81BD-F443AFF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EF51-5AB9-4DD3-85BC-9C92538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314E-ECB7-4526-A472-72E4F03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FB4F-0012-4321-817B-FAB54988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C3D6-A10A-4F5E-B798-10BCAE0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0C57-5D2E-4434-9299-D9559AC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534F-DFD7-4AE7-ACDA-DEDFD161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6EEB-FFC2-44F9-8D6A-5AEEADF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68439-B4C3-44C4-80CB-D7C4FB3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3994-11D6-4791-A462-7CD62183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EACE-87E4-4A1C-8D82-E964C24E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C038-52FB-4B89-9CD2-1EB02B8F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C227-9920-48FC-9D7D-D36AEF4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379CD-AA1F-4284-AAC0-8B8F486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461F6-3432-4EB3-9C12-73EBDFC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2D67-FFD8-487D-94CF-4B72CC3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C508-A14B-4460-905C-90B290F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48FE-90AF-4D13-863A-96885CB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6322-E1E4-44D5-B85F-137381F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EA5A-31D7-4D14-A9F0-488F792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A91A3-188E-4B13-9754-A337F40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5354C-4C8C-4DC6-92FF-039E554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AEE42-D860-4411-ADD0-55F9B57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E4FBC-668A-4DB8-ADAB-7181A729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E262-79B4-4F0E-986C-59CDB492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23176-8274-40B9-9A2C-B5C22D47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BE354-31F7-410C-88FE-CE133C78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A35F-6CF3-4D0C-8A6D-0B08CA2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2000" y="571644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97080" y="5716440"/>
            <a:ext cx="985680" cy="98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433600" y="5716440"/>
            <a:ext cx="98604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62000" y="458136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2124000" y="677880"/>
            <a:ext cx="70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408640" y="106200"/>
            <a:ext cx="3686040" cy="1881360"/>
            <a:chOff x="5408640" y="106200"/>
            <a:chExt cx="3686040" cy="1881360"/>
          </a:xfrm>
        </p:grpSpPr>
        <p:sp>
          <p:nvSpPr>
            <p:cNvPr id="6" name="Freeform 8"/>
            <p:cNvSpPr/>
            <p:nvPr/>
          </p:nvSpPr>
          <p:spPr>
            <a:xfrm>
              <a:off x="5408640" y="672840"/>
              <a:ext cx="1789200" cy="89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61280" y="671400"/>
              <a:ext cx="2633400" cy="131616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113520" y="280800"/>
              <a:ext cx="789120" cy="3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356600" y="106200"/>
              <a:ext cx="1123920" cy="56844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2"/>
          <p:cNvSpPr/>
          <p:nvPr/>
        </p:nvSpPr>
        <p:spPr>
          <a:xfrm>
            <a:off x="0" y="620640"/>
            <a:ext cx="5003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15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5760" y="159696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1292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77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360" indent="-37800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61880" y="6227280"/>
            <a:ext cx="2160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635880" y="6227280"/>
            <a:ext cx="20174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B38-BA86-44E8-8AD9-E5B2A339D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61880" y="6227280"/>
            <a:ext cx="2933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0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1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821-9FD7-45BD-A95B-D2D13151E1FD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7C6D-9732-4A2A-AE72-D499B15ACC9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5D8-FBB6-4055-B8A3-057175E47FB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7F76-CEBA-4D52-8F20-688D6EA3AB7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F996-9977-42D8-883E-5BA0ADC8329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7FE-2B6C-4063-B384-7E3A52A8CDE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F1E6-DBEE-4E82-8B8D-6EB9CAA5A2C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9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4A44-C0DE-4B83-AE26-544434D9AB5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6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105-F5C7-48F9-810D-ABDB141CEBA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A9C5-31F0-4FB1-8957-EC8AF89403B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EEF-4895-4332-868C-A7703457773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18D-7B83-4002-9E15-D7A02497DA4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BF5-41F8-46E4-9525-FCEB81D7948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4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662-9038-4B1B-8E24-0597C565862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038-F75B-455E-BFB2-3C9BDB9B306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7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13A-0963-4BE9-A651-688C309B41A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4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F0A-E56B-4C93-B9FF-05988B97DCB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"/>
          <p:cNvSpPr/>
          <p:nvPr/>
        </p:nvSpPr>
        <p:spPr>
          <a:xfrm>
            <a:off x="731880" y="1683000"/>
            <a:ext cx="76010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勤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专注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坚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经历分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30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1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文本框 1"/>
          <p:cNvSpPr/>
          <p:nvPr/>
        </p:nvSpPr>
        <p:spPr>
          <a:xfrm>
            <a:off x="6227640" y="43164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艺本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永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9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文本框 1"/>
          <p:cNvSpPr/>
          <p:nvPr/>
        </p:nvSpPr>
        <p:spPr>
          <a:xfrm>
            <a:off x="1187280" y="148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的专业课期末都是飘过的，考研专业课那么难，肿么破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学长的专业课曾经也是飘过的，那只是说明当时没有认真挺好课做好课后作业而已。当你复习了高数再去学自学专业课，你会发现原来专业课里面好多高数知识啊！这就是学以致用，慢慢的便都融会贯通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3"/>
          <p:cNvSpPr/>
          <p:nvPr/>
        </p:nvSpPr>
        <p:spPr>
          <a:xfrm>
            <a:off x="1209600" y="278136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下面我谈下我的考研过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首先我没有报班，基础一般。其次我参加了第九届化工设计竞赛，也就是三井杯，从去年四月份一直做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份，去昆明理工答完辩回校我记得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号，然后去成都同学家一趟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回校开始正式考研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你没听错，我只复习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个月的时间。中间还有专业实验和校外实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总结考研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想说：专注、勤奋、坚持！考研并没有那么难，相信自己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  can  do   i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24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励志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文本框 1"/>
          <p:cNvSpPr/>
          <p:nvPr/>
        </p:nvSpPr>
        <p:spPr>
          <a:xfrm>
            <a:off x="1187280" y="13003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分享一些考研路上激励我的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"/>
          <p:cNvSpPr/>
          <p:nvPr/>
        </p:nvSpPr>
        <p:spPr>
          <a:xfrm>
            <a:off x="125892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is impossible for a willing heart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之所愿，无所不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0"/>
          <p:cNvSpPr/>
          <p:nvPr/>
        </p:nvSpPr>
        <p:spPr>
          <a:xfrm>
            <a:off x="1258920" y="2627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ung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foolish.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忘初心，方得始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1"/>
          <p:cNvSpPr/>
          <p:nvPr/>
        </p:nvSpPr>
        <p:spPr>
          <a:xfrm>
            <a:off x="1258920" y="32749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er you 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kier you will be.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越努力越幸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12"/>
          <p:cNvSpPr/>
          <p:nvPr/>
        </p:nvSpPr>
        <p:spPr>
          <a:xfrm>
            <a:off x="1258920" y="3924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3"/>
          <p:cNvSpPr/>
          <p:nvPr/>
        </p:nvSpPr>
        <p:spPr>
          <a:xfrm>
            <a:off x="1258920" y="4572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4"/>
          <p:cNvSpPr/>
          <p:nvPr/>
        </p:nvSpPr>
        <p:spPr>
          <a:xfrm>
            <a:off x="900000" y="52912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when you cho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ind and rain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既然选择了远方便只顾风雨兼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WordArt 2"/>
          <p:cNvSpPr txBox="1"/>
          <p:nvPr/>
        </p:nvSpPr>
        <p:spPr>
          <a:xfrm>
            <a:off x="2843280" y="2565360"/>
            <a:ext cx="331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7" name="TextBox 2"/>
          <p:cNvSpPr/>
          <p:nvPr/>
        </p:nvSpPr>
        <p:spPr>
          <a:xfrm>
            <a:off x="2711880" y="1062000"/>
            <a:ext cx="274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1978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最后祝愿学弟学妹们考研顺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9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组合 9"/>
          <p:cNvGrpSpPr/>
          <p:nvPr/>
        </p:nvGrpSpPr>
        <p:grpSpPr>
          <a:xfrm>
            <a:off x="1335240" y="1650960"/>
            <a:ext cx="4017960" cy="647640"/>
            <a:chOff x="1335240" y="1650960"/>
            <a:chExt cx="4017960" cy="647640"/>
          </a:xfrm>
        </p:grpSpPr>
        <p:sp>
          <p:nvSpPr>
            <p:cNvPr id="1234" name="矩形 6"/>
            <p:cNvSpPr/>
            <p:nvPr/>
          </p:nvSpPr>
          <p:spPr>
            <a:xfrm>
              <a:off x="1862280" y="17492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菱形 5"/>
            <p:cNvSpPr/>
            <p:nvPr/>
          </p:nvSpPr>
          <p:spPr>
            <a:xfrm>
              <a:off x="1335240" y="165096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22"/>
          <p:cNvGrpSpPr/>
          <p:nvPr/>
        </p:nvGrpSpPr>
        <p:grpSpPr>
          <a:xfrm>
            <a:off x="1862280" y="2395440"/>
            <a:ext cx="3921120" cy="647640"/>
            <a:chOff x="1862280" y="2395440"/>
            <a:chExt cx="3921120" cy="647640"/>
          </a:xfrm>
        </p:grpSpPr>
        <p:sp>
          <p:nvSpPr>
            <p:cNvPr id="1237" name="矩形 23"/>
            <p:cNvSpPr/>
            <p:nvPr/>
          </p:nvSpPr>
          <p:spPr>
            <a:xfrm>
              <a:off x="2292480" y="248256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的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菱形 24"/>
            <p:cNvSpPr/>
            <p:nvPr/>
          </p:nvSpPr>
          <p:spPr>
            <a:xfrm>
              <a:off x="1862280" y="239544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组合 25"/>
          <p:cNvGrpSpPr/>
          <p:nvPr/>
        </p:nvGrpSpPr>
        <p:grpSpPr>
          <a:xfrm>
            <a:off x="2300400" y="3139920"/>
            <a:ext cx="3921120" cy="648000"/>
            <a:chOff x="2300400" y="3139920"/>
            <a:chExt cx="3921120" cy="648000"/>
          </a:xfrm>
        </p:grpSpPr>
        <p:sp>
          <p:nvSpPr>
            <p:cNvPr id="1240" name="矩形 26"/>
            <p:cNvSpPr/>
            <p:nvPr/>
          </p:nvSpPr>
          <p:spPr>
            <a:xfrm>
              <a:off x="2730600" y="3227040"/>
              <a:ext cx="3490920" cy="47340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菱形 27"/>
            <p:cNvSpPr/>
            <p:nvPr/>
          </p:nvSpPr>
          <p:spPr>
            <a:xfrm>
              <a:off x="2300400" y="3139920"/>
              <a:ext cx="860400" cy="64800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圆角矩形 10"/>
          <p:cNvSpPr/>
          <p:nvPr/>
        </p:nvSpPr>
        <p:spPr>
          <a:xfrm>
            <a:off x="1392120" y="527040"/>
            <a:ext cx="1606680" cy="885960"/>
          </a:xfrm>
          <a:prstGeom prst="roundRect">
            <a:avLst>
              <a:gd name="adj" fmla="val 16667"/>
            </a:avLst>
          </a:prstGeom>
          <a:solidFill>
            <a:srgbClr val="e3e9db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3160800" y="3948120"/>
            <a:ext cx="3490920" cy="47304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考研并没有那么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菱形 12"/>
          <p:cNvSpPr/>
          <p:nvPr/>
        </p:nvSpPr>
        <p:spPr>
          <a:xfrm>
            <a:off x="2730600" y="3860640"/>
            <a:ext cx="860400" cy="64800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3457440" y="4740120"/>
            <a:ext cx="3490920" cy="47340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考研励志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菱形 14"/>
          <p:cNvSpPr/>
          <p:nvPr/>
        </p:nvSpPr>
        <p:spPr>
          <a:xfrm>
            <a:off x="3027240" y="4653000"/>
            <a:ext cx="860400" cy="64764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4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706320" y="1628640"/>
            <a:ext cx="78487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宋体"/>
              </a:rPr>
              <a:t>个人考研基本信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院校：中国石油大学（华东） 化学工程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专业：化学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成绩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英语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PS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：中石油（华东）初试专业课只能选物化，与许多学校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专业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今年本专业复试分数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9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录取比例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复试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1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，录取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5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5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8" name="图片 9" descr="QQ图片20151011115809.jpg"/>
          <p:cNvPicPr/>
          <p:nvPr/>
        </p:nvPicPr>
        <p:blipFill>
          <a:blip r:embed="rId2"/>
          <a:stretch/>
        </p:blipFill>
        <p:spPr>
          <a:xfrm>
            <a:off x="2928960" y="357120"/>
            <a:ext cx="1876320" cy="3038400"/>
          </a:xfrm>
          <a:prstGeom prst="rect">
            <a:avLst/>
          </a:prstGeom>
          <a:ln w="0">
            <a:noFill/>
          </a:ln>
        </p:spPr>
      </p:pic>
      <p:pic>
        <p:nvPicPr>
          <p:cNvPr id="1259" name="图片 12" descr="QQ图片20151011115756.jpg"/>
          <p:cNvPicPr/>
          <p:nvPr/>
        </p:nvPicPr>
        <p:blipFill>
          <a:blip r:embed="rId3"/>
          <a:stretch/>
        </p:blipFill>
        <p:spPr>
          <a:xfrm>
            <a:off x="6500880" y="35712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711360" y="1197000"/>
            <a:ext cx="7848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为什么考研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你对这个专业真的感兴趣吗？</a:t>
            </a:r>
            <a:r>
              <a:rPr b="0" lang="zh-CN" sz="3000" spc="-1" strike="noStrike">
                <a:solidFill>
                  <a:srgbClr val="002060"/>
                </a:solidFill>
                <a:latin typeface="华文行楷"/>
                <a:ea typeface="华文行楷"/>
              </a:rPr>
              <a:t>兴趣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是最好的老师。兴趣会不会给你带来学习的动力，只有有过这种感觉的人才会明白。我相信大家都曾有过对于一些事物因为感兴趣而去学习的感觉，只是时间长短而已。考研需要兴趣，也更需要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勤奋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专注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考研是最适合我的选择吗？</a:t>
            </a:r>
            <a:r>
              <a:rPr b="0" lang="zh-CN" sz="2000" spc="-1" strike="noStrike">
                <a:solidFill>
                  <a:srgbClr val="7030a0"/>
                </a:solidFill>
                <a:latin typeface="仿宋"/>
                <a:ea typeface="仿宋"/>
              </a:rPr>
              <a:t>我认为考研并不是唯一的选择，也不一定是最好的选择。关键是你想要什么，你要选择什么样的道路？不论你选择什么，这是你的选择，要对自己的选择负责，你现在的选择将决定你今后的生活。如果你选择了考研，就一定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坚持下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6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6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Text Box 6"/>
          <p:cNvSpPr/>
          <p:nvPr/>
        </p:nvSpPr>
        <p:spPr>
          <a:xfrm>
            <a:off x="711360" y="1197000"/>
            <a:ext cx="7848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方正舒体"/>
                <a:ea typeface="方正舒体"/>
              </a:rPr>
              <a:t>如何选择报考学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说考研院校的选择至关重要，由于不了解考研中的诸多因素，导致报考学校时的跟风、盲目、举棋不定都是对考研不利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研初期可以根据自己的兴趣爱好、自我学习能力评估、本科课程的掌握程度，给自己进行合理定位，初步确定几所不同层次高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虑所报高校初试专业课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分清学术型和专业型硕士的区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年考研网上正式报名时间在十月份。去年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就是到了考研后期，这是对于自己的复习情况基本有所了解，确定好所报高校后，最好不要随意再进行更改，避免因所报高校专业不同而浪费精力。此时要相信自己，将精力放在复习冲刺上。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71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7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6f54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组合 22"/>
          <p:cNvGrpSpPr/>
          <p:nvPr/>
        </p:nvGrpSpPr>
        <p:grpSpPr>
          <a:xfrm>
            <a:off x="179280" y="0"/>
            <a:ext cx="3961080" cy="647640"/>
            <a:chOff x="179280" y="0"/>
            <a:chExt cx="3961080" cy="647640"/>
          </a:xfrm>
        </p:grpSpPr>
        <p:sp>
          <p:nvSpPr>
            <p:cNvPr id="1278" name="矩形 11"/>
            <p:cNvSpPr/>
            <p:nvPr/>
          </p:nvSpPr>
          <p:spPr>
            <a:xfrm>
              <a:off x="649080" y="87120"/>
              <a:ext cx="349128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菱形 12"/>
            <p:cNvSpPr/>
            <p:nvPr/>
          </p:nvSpPr>
          <p:spPr>
            <a:xfrm>
              <a:off x="179280" y="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文本框 2"/>
          <p:cNvSpPr/>
          <p:nvPr/>
        </p:nvSpPr>
        <p:spPr>
          <a:xfrm>
            <a:off x="1039680" y="1341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考研是对整个大学学习的一次总结，让你对自己所学专业进行一次系统的复习。本科生到研究生，就是量变到质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2"/>
          <p:cNvSpPr/>
          <p:nvPr/>
        </p:nvSpPr>
        <p:spPr>
          <a:xfrm>
            <a:off x="1042920" y="3645000"/>
            <a:ext cx="77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学历的提升，当下，虽然公司企业强调个人能力，但越来越多的情况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历要求成为了一道门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2"/>
          <p:cNvSpPr/>
          <p:nvPr/>
        </p:nvSpPr>
        <p:spPr>
          <a:xfrm>
            <a:off x="1042920" y="5229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考研就像一场战斗，一旦你坚持到最后，你会发现，不管是你的知识储备、性格品质都会得到很大提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2"/>
          <p:cNvSpPr/>
          <p:nvPr/>
        </p:nvSpPr>
        <p:spPr>
          <a:xfrm>
            <a:off x="1042920" y="443700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交际圈扩大，每个人的发展都不是单一的发展，离不开群体。不可否认，你未来的发展与自己的朋友圈有着密切的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2"/>
          <p:cNvSpPr/>
          <p:nvPr/>
        </p:nvSpPr>
        <p:spPr>
          <a:xfrm>
            <a:off x="1042920" y="206064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对于我们工艺这个专业，就我了解到同学的就业情况，才刚毕业就有些同学从事了其他行业。原因何在，是因为我们本科阶段学的范围太宽，好像就业面很广，其实不然。如果你喜欢本专业，你不想从事本专业工作么？。当我们读研后，将会有自己的研究方向，以后工作便更有针对性，从事本专业的机会将会大大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8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290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文本框 1"/>
          <p:cNvSpPr/>
          <p:nvPr/>
        </p:nvSpPr>
        <p:spPr>
          <a:xfrm>
            <a:off x="985680" y="176364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准备不在于早，而在于是否真正用心准备，是否真正全身心投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的四点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1"/>
          <p:cNvSpPr/>
          <p:nvPr/>
        </p:nvSpPr>
        <p:spPr>
          <a:xfrm>
            <a:off x="1042920" y="255600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定要制定一个适合自己的复习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1"/>
          <p:cNvSpPr/>
          <p:nvPr/>
        </p:nvSpPr>
        <p:spPr>
          <a:xfrm>
            <a:off x="1042920" y="3274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体是革命的本钱，懂得劳逸结合。保证好自己的睡眠时间，最好每周有两到三次的身体锻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"/>
          <p:cNvSpPr/>
          <p:nvPr/>
        </p:nvSpPr>
        <p:spPr>
          <a:xfrm>
            <a:off x="1042920" y="4282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态，从始至终保持平稳的心态至关重要，心浮气躁乃学习大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9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02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文本框 1"/>
          <p:cNvSpPr/>
          <p:nvPr/>
        </p:nvSpPr>
        <p:spPr>
          <a:xfrm>
            <a:off x="1100160" y="1314360"/>
            <a:ext cx="732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学：我们专业都是考数二（线代加高数），当然不管数几，数学终究是重中之重。每年都有因为总分上线，而卡到数学 的同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以同济版教材为纲，前期汤家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张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配合李永乐线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后期回归历年真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语：长期积累的过程，每天花点时间记点单词、读点文章，保持对英语学习的感觉很重要。建议在暑假开始做真题，把真题吃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考研单词一本  作文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政治：不建议复习太早，暑假结束后正式复习不晚，以红宝书为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肖秀荣考研政治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课：建议从暑假开始，课本至少复习两遍，把课后题做两边。然后买报考学校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初试题，越详细的越好，把它做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是我针对未报班的同学，对于报班的同学，我想说既然报了班，就跟着班走，轻松些，书籍的话考研班会发很多，没必要再买太多。书不再多，而是要把自己手里的资料吃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复习方案和推荐书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07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8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0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文本框 1"/>
          <p:cNvSpPr/>
          <p:nvPr/>
        </p:nvSpPr>
        <p:spPr>
          <a:xfrm>
            <a:off x="1187280" y="14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们当中，我想可能会有同学有这样的想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都没过，英语这么差，怎么考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考研英语和四六级并无多大关系，考研英语没有听力，我想许多同学之所以没有过四六级，就是败在英语听力上。说实话，我英语也不好，正是因为考研复习英语才过了四级，听力成绩依然很低。考研的路上，是不是还有意想不到的收获，我的几位同学也正是考研复习才通过了英语六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图片 1" descr=""/>
          <p:cNvPicPr/>
          <p:nvPr/>
        </p:nvPicPr>
        <p:blipFill>
          <a:blip r:embed="rId1"/>
          <a:stretch/>
        </p:blipFill>
        <p:spPr>
          <a:xfrm>
            <a:off x="4476600" y="176040"/>
            <a:ext cx="4667400" cy="3343320"/>
          </a:xfrm>
          <a:prstGeom prst="rect">
            <a:avLst/>
          </a:prstGeom>
          <a:ln w="0">
            <a:noFill/>
          </a:ln>
        </p:spPr>
      </p:pic>
      <p:sp>
        <p:nvSpPr>
          <p:cNvPr id="1314" name="TextBox 3"/>
          <p:cNvSpPr/>
          <p:nvPr/>
        </p:nvSpPr>
        <p:spPr>
          <a:xfrm>
            <a:off x="1187280" y="3860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曾挂在高数上，高数那么难，怎么办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所以觉得难，是因为我们之前没有去认真听好老师的讲课，一旦落下几章，后面便像听天书一样。高数是一门连贯性很强的课程，当我们自学的时候，你会发现，学好上一章，下一章的内容似乎就是让一章节的延伸，慢慢的就找到了学习的乐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1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7" name="图片 5" descr=""/>
            <p:cNvPicPr/>
            <p:nvPr/>
          </p:nvPicPr>
          <p:blipFill>
            <a:blip r:embed="rId2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3:55:32Z</dcterms:created>
  <dc:creator>微软用户</dc:creator>
  <dc:description/>
  <cp:keywords/>
  <dc:language>en-US</dc:language>
  <cp:lastModifiedBy>kk</cp:lastModifiedBy>
  <dcterms:modified xsi:type="dcterms:W3CDTF">2016-04-27T09:13:26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