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F0118-994C-4334-B454-61A22FF5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AB6CF-3377-4194-A9F4-A4AD4A33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C9BFA-DC96-4434-9623-D7B66A1A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2A2A2-EE7E-4361-8850-411E9863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D9709-FF47-4139-8A39-4FAE24F8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60470-35B6-4D26-8A29-FEA43142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DAC3A-687B-48FB-8B8F-D94D103C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01FDF-331A-4035-B3B6-1FA36D4DB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DCCCB-3CEF-4A65-85D9-563A89C6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BB91-7A08-45AC-86B0-A32B8F95A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522F8-BE0F-43C3-91E9-9FDFCC72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3E4C74-37D9-4848-89EC-1694E49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371B2-803F-4EB9-8865-679BB383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0991E-637E-482B-BD48-0714E7B7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E598F-4FBF-4F22-B76A-7299E6B4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A8147-96C6-4DB6-9EB9-11370ACA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6BDF7-3776-4D58-BC42-A44DEF59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53935-A06B-472A-A5E4-A7AC35CD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D9584-338F-4D3D-8D72-C99DE4F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AE9C8-D5EC-4271-A02D-3F0734AC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8193B-52CE-417C-AB25-DA25674D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7941B-1A4E-4ACB-8EC1-7E369284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9726D-819B-4A5B-A01B-891161FE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EAECC-FA2E-4AF1-B380-DD1B4F7E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2D36C2-1C5B-4F4F-91FB-65FA80DD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F3FA0-B7A6-4E34-AF76-2965E820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E73621-E86A-4E0E-A088-6C34B6DA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95AE8-1E81-447B-89C4-5CF2D73E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EB7FD-2F6A-4D18-B843-A1CB583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86758-42E4-4553-8D6A-DE5A6D6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1D3D-B5BD-4AFA-952A-6ABAA056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AA6D7-83F3-4172-9E50-3F7A307C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F0F34-F0C1-407B-AD3B-DD46BA86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677A3-D4E6-4524-BC0D-0285E9C1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09CD9-18CF-4619-8D2C-EEE8889F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B9DEA-2FC3-42A7-927F-DBB7B568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371B9-EEF4-456F-AF85-9C8DDCC4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0BBB7-B30A-4ACC-B812-06C219BF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F4B5B-9B14-425F-B1B9-3103A800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82839-7823-4C08-A5E0-8C06BD96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D36A1-FB51-400E-A680-B86D5B9E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AF2-0007-4D05-94CB-9A4D9686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4AAD0-8A27-4BF6-AAF7-5057A09E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DADED-88E1-4258-9E67-60B2CAA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65716A-EB1F-42EC-8A4E-A89E1907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F1081-F1E8-4AF0-953F-2C08EF55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87F82-DB72-4681-ADF5-443908D4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7FA-C917-49AF-8409-AC04980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C81A-BFCC-4084-9F98-71ECB4AC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0FE2-17FC-4E7C-97AB-4D0D3374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044-7DFA-45C6-875E-0EE66F75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B8C-34C7-4B25-8253-EECF64D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208A-5047-47F0-8434-78466178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D9CB-6A44-4338-9707-100C585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795-0BC1-4669-8C28-1CC6F6AF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894C-CEB4-4CA1-8325-04DD4563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F2E-F7CB-48F5-B865-0CF00715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52E5-BF09-4430-9B9A-C75EED40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D58E-5787-473A-9BEC-85AA190B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F4ED-10DF-4C28-8AC4-C83E17B4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593-1DFB-4721-95BD-D36AF4B2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0DB6-8C02-4A2B-96B6-30AAA65E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8004-C28A-462A-80F0-BDDC6EAF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17EA-6EF3-456B-B375-18024BC8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0AB8-6F84-43C7-A2CE-47B68F91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828E-B6F5-482E-B6F1-B32C6868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CA6-0125-4BCE-B10F-819EC41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FE35-AC78-446A-8ECC-6BEB0DF1B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D817-9763-47A5-B2EE-33C1F965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1D4EA-9727-4C78-866B-6480944F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B84B-CF14-4D75-A7DD-111730D4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0EAFB-F75A-4A1C-8064-4598E9DA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EBFAC-030F-4542-9A2B-9C94CBAD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4FA7-8DFA-4C29-A4D8-4F18D638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E422-FA94-4C9C-AE64-0EA16D67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EE6F6-180E-4D58-A3EC-62EC8109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90AD-9BB8-49BD-B325-148B4266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00612-F284-4A31-A820-82C165A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E62D6-C564-4E99-BB5C-259EF427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EB643-42A7-483F-91FA-48D4702B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47C31-9B70-4446-8D98-CC152C98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B3DF0-3680-4A3B-BF1B-9A46AAC0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77E8-C238-460A-AE21-C45D430B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1960B-48F2-4C4A-827F-DB495AF1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F7FD3-C374-4CA5-8DD6-2F761158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284E-145A-4CD0-9A9D-C2963FD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64A9-224F-4A62-8D5A-D6841BE5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5F89-2675-41E3-A827-E419EA05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B498-CE9C-4AF9-AA56-21E0B50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F135-F04F-4E65-A531-E6E0C8A1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8E99F-AF92-4884-BFC7-ACC51987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32EE-90DC-41E7-8B82-83CA0A04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29D48-2C72-43CA-AFBB-59D480C9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7509F-3605-4861-8F80-340E553C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CB5E-89C7-4114-95E0-130FE712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392B-833A-4384-A434-B3383F6B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2C6B-5BAE-4D99-9C22-8576C3E0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41F08-951B-4933-8C54-42D152DE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C93AE-B498-41CC-B835-01DD2A01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8C5B-2D46-48D0-AB69-3640D7C0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D137D-1513-482F-9440-4E90B04E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19D4C-8C48-4104-9B2F-951B037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21BD-1AC5-4BF9-BE3F-98C48C95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A25C-184D-40B9-AE20-3CD2D8D0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33BF8-2D2F-42B3-AEBD-60AE21FE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B8D4-4CA1-498F-8CA6-1A32D833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2A4B2-FBA9-479B-93C5-6AD725C5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3FF9-0F3B-4C95-BE1A-0989D335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A945D-FC08-4800-AD64-70C7EBFD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56D25-0DD0-4F41-89C9-8A9437D0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011D2-4DC4-47C3-9888-D33BBD6D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E760C-F56D-4A3D-A094-F0F4935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3BAB1-E3BA-43B3-A095-F7E215DD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9C126-92B4-4A2A-92D6-931C05E0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5313B-A942-4EA1-AA86-F17F2127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3E838-D372-486A-A670-B6F354BCE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8D6E-EF6C-43ED-A408-CD9D1673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85FFE9-2B27-47BE-B1C2-911AA61C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57861-7A84-4F8A-94E4-24D46587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3E5B2-07C0-467E-B751-871BD670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B0687-D3C5-409B-95EA-7F3FEE84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EDA78-A46D-40FE-8F9F-186ABCF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F248C-B0D6-460F-A7EC-197D1509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EA474-BE15-43FB-9419-F17B62E1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10E03-EF22-491C-8EA8-D695D75C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053F-C61A-4BAB-9D18-B77360E5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DE59-5395-43FE-9B05-2CB63C7F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D78C9-7B1A-433E-96AA-6ACA57C4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859E-06CF-4F22-9EB5-7EC118BE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BE254-A6A3-45F7-B20A-36362A12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7460A-5DA0-44D5-A69F-88DCA154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995BC-D27E-4FD3-9A70-F8D290A1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40FA-59E0-4A0B-B573-D567E2232A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91E2-E30B-4A9C-91D0-72D6F6DFA0C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E521-C993-466C-9702-8321AB3626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E0E6-003B-47AB-B8FD-7C40CF57188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8898-5465-4CCA-9F7D-2BA7C8B60E2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ABA0-1ABC-48E2-A03A-4C3766B539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0ABF-88BD-465A-B2F5-0B540B2D98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0D65-24EB-4D9A-A100-CFF1EA06AF9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FF98-2553-47CD-8F5F-94BE601B891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F973-0101-446F-AF12-99F90BD764B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6" descr=""/>
          <p:cNvPicPr/>
          <p:nvPr/>
        </p:nvPicPr>
        <p:blipFill>
          <a:blip r:embed="rId2"/>
          <a:stretch/>
        </p:blipFill>
        <p:spPr>
          <a:xfrm>
            <a:off x="0" y="47520"/>
            <a:ext cx="9144000" cy="6762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EF1-8DF1-496E-9E90-641084E66F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321,4,&#24187;&#28783;&#29255; 4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组合 1"/>
          <p:cNvGrpSpPr/>
          <p:nvPr/>
        </p:nvGrpSpPr>
        <p:grpSpPr>
          <a:xfrm>
            <a:off x="-22320" y="981000"/>
            <a:ext cx="9144000" cy="1467000"/>
            <a:chOff x="-22320" y="981000"/>
            <a:chExt cx="9144000" cy="1467000"/>
          </a:xfrm>
        </p:grpSpPr>
        <p:sp>
          <p:nvSpPr>
            <p:cNvPr id="480" name="圆角矩形 2"/>
            <p:cNvSpPr/>
            <p:nvPr/>
          </p:nvSpPr>
          <p:spPr>
            <a:xfrm>
              <a:off x="-22320" y="98100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4"/>
            <p:cNvSpPr/>
            <p:nvPr/>
          </p:nvSpPr>
          <p:spPr>
            <a:xfrm>
              <a:off x="179280" y="118044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考研经验交流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直接连接符 4"/>
          <p:cNvSpPr/>
          <p:nvPr/>
        </p:nvSpPr>
        <p:spPr>
          <a:xfrm flipV="1">
            <a:off x="-19080" y="620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直接连接符 5"/>
          <p:cNvSpPr/>
          <p:nvPr/>
        </p:nvSpPr>
        <p:spPr>
          <a:xfrm flipV="1">
            <a:off x="-54000" y="2838600"/>
            <a:ext cx="9144000" cy="712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图片 7" descr=""/>
          <p:cNvPicPr/>
          <p:nvPr/>
        </p:nvPicPr>
        <p:blipFill>
          <a:blip r:embed="rId1"/>
          <a:stretch/>
        </p:blipFill>
        <p:spPr>
          <a:xfrm>
            <a:off x="179280" y="2279520"/>
            <a:ext cx="5184720" cy="4044960"/>
          </a:xfrm>
          <a:prstGeom prst="rect">
            <a:avLst/>
          </a:prstGeom>
          <a:ln w="0">
            <a:noFill/>
          </a:ln>
        </p:spPr>
      </p:pic>
      <p:sp>
        <p:nvSpPr>
          <p:cNvPr id="485" name="TextBox 8"/>
          <p:cNvSpPr/>
          <p:nvPr/>
        </p:nvSpPr>
        <p:spPr>
          <a:xfrm>
            <a:off x="4714920" y="4500720"/>
            <a:ext cx="30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介绍人： 刘 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  级：工艺</a:t>
            </a:r>
            <a:r>
              <a:rPr b="1" lang="en-US" sz="2800" spc="-1" strike="noStrike">
                <a:solidFill>
                  <a:srgbClr val="0070c0"/>
                </a:solidFill>
                <a:latin typeface="仿宋"/>
                <a:ea typeface="仿宋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仿宋"/>
                <a:ea typeface="仿宋"/>
              </a:rPr>
              <a:t>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457200" y="1285560"/>
            <a:ext cx="8329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中旬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练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翻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课视频题（第三遍）、汤家凤高数线代强化（第二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遍、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丁忠伟《化工原理学习指导》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57200" y="6426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考前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：何凯文作文背诵第四遍、恋练有词第三遍、真题一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：真题每天一套（上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风中劲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背诵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真题讲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选择题训练）、肖秀荣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练习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全篇背诵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业课：真题（模拟考试，归纳总结）、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《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指导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复习笔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后一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调整状态，注意休息，注意饮食，适当复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37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阳光总在风雨后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9" name="圆角矩形 15"/>
          <p:cNvSpPr/>
          <p:nvPr/>
        </p:nvSpPr>
        <p:spPr>
          <a:xfrm>
            <a:off x="4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右箭头 16"/>
          <p:cNvSpPr/>
          <p:nvPr/>
        </p:nvSpPr>
        <p:spPr>
          <a:xfrm>
            <a:off x="2085840" y="292248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圆角矩形 17"/>
          <p:cNvSpPr/>
          <p:nvPr/>
        </p:nvSpPr>
        <p:spPr>
          <a:xfrm>
            <a:off x="6945480" y="2708280"/>
            <a:ext cx="157608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圆角矩形 18"/>
          <p:cNvSpPr/>
          <p:nvPr/>
        </p:nvSpPr>
        <p:spPr>
          <a:xfrm>
            <a:off x="3541680" y="270828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右箭头 19"/>
          <p:cNvSpPr/>
          <p:nvPr/>
        </p:nvSpPr>
        <p:spPr>
          <a:xfrm>
            <a:off x="5672160" y="292428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右箭头 20"/>
          <p:cNvSpPr/>
          <p:nvPr/>
        </p:nvSpPr>
        <p:spPr>
          <a:xfrm>
            <a:off x="303120" y="4653000"/>
            <a:ext cx="979560" cy="485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圆角矩形 21"/>
          <p:cNvSpPr/>
          <p:nvPr/>
        </p:nvSpPr>
        <p:spPr>
          <a:xfrm>
            <a:off x="1787400" y="443880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右箭头 22"/>
          <p:cNvSpPr/>
          <p:nvPr/>
        </p:nvSpPr>
        <p:spPr>
          <a:xfrm>
            <a:off x="3840120" y="4654440"/>
            <a:ext cx="979560" cy="4860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圆角矩形 24"/>
          <p:cNvSpPr/>
          <p:nvPr/>
        </p:nvSpPr>
        <p:spPr>
          <a:xfrm>
            <a:off x="5118120" y="4440240"/>
            <a:ext cx="15764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拟录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25"/>
          <p:cNvSpPr/>
          <p:nvPr/>
        </p:nvSpPr>
        <p:spPr>
          <a:xfrm>
            <a:off x="3541680" y="4073400"/>
            <a:ext cx="11066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等待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26"/>
          <p:cNvSpPr/>
          <p:nvPr/>
        </p:nvSpPr>
        <p:spPr>
          <a:xfrm>
            <a:off x="117360" y="4073400"/>
            <a:ext cx="110664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准备复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27"/>
          <p:cNvSpPr/>
          <p:nvPr/>
        </p:nvSpPr>
        <p:spPr>
          <a:xfrm>
            <a:off x="5353200" y="2384280"/>
            <a:ext cx="1106280" cy="368280"/>
          </a:xfrm>
          <a:prstGeom prst="rect">
            <a:avLst/>
          </a:prstGeom>
          <a:solidFill>
            <a:srgbClr val="632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等待成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文本框 28"/>
          <p:cNvSpPr/>
          <p:nvPr/>
        </p:nvSpPr>
        <p:spPr>
          <a:xfrm>
            <a:off x="1787400" y="2384280"/>
            <a:ext cx="1106640" cy="3682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Calibri"/>
                <a:ea typeface="宋体"/>
              </a:rPr>
              <a:t>准备初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3" name="组合 3"/>
          <p:cNvGrpSpPr/>
          <p:nvPr/>
        </p:nvGrpSpPr>
        <p:grpSpPr>
          <a:xfrm>
            <a:off x="0" y="372960"/>
            <a:ext cx="9144000" cy="1467000"/>
            <a:chOff x="0" y="372960"/>
            <a:chExt cx="9144000" cy="1467000"/>
          </a:xfrm>
        </p:grpSpPr>
        <p:sp>
          <p:nvSpPr>
            <p:cNvPr id="554" name="圆角矩形 4"/>
            <p:cNvSpPr/>
            <p:nvPr/>
          </p:nvSpPr>
          <p:spPr>
            <a:xfrm>
              <a:off x="0" y="372960"/>
              <a:ext cx="9144000" cy="1467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4bd97"/>
                </a:gs>
                <a:gs pos="50000">
                  <a:srgbClr val="ffffff"/>
                </a:gs>
                <a:gs pos="100000">
                  <a:srgbClr val="c4bd9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201600" y="572400"/>
              <a:ext cx="8910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70c0"/>
                  </a:solidFill>
                  <a:latin typeface="华文行楷"/>
                  <a:ea typeface="华文行楷"/>
                </a:rPr>
                <a:t>春暖花开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56" name="图片 5" descr=""/>
          <p:cNvPicPr/>
          <p:nvPr/>
        </p:nvPicPr>
        <p:blipFill>
          <a:blip r:embed="rId1"/>
          <a:stretch/>
        </p:blipFill>
        <p:spPr>
          <a:xfrm>
            <a:off x="1720800" y="139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直接连接符 6"/>
          <p:cNvSpPr/>
          <p:nvPr/>
        </p:nvSpPr>
        <p:spPr>
          <a:xfrm flipV="1">
            <a:off x="-20520" y="112500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直接连接符 7"/>
          <p:cNvSpPr/>
          <p:nvPr/>
        </p:nvSpPr>
        <p:spPr>
          <a:xfrm flipV="1">
            <a:off x="-20520" y="630828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矩形 9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8358120" cy="3416400"/>
          </a:xfrm>
          <a:prstGeom prst="rect">
            <a:avLst/>
          </a:prstGeom>
          <a:ln w="0">
            <a:noFill/>
          </a:ln>
        </p:spPr>
      </p:pic>
      <p:pic>
        <p:nvPicPr>
          <p:cNvPr id="560" name="图片 5" descr=""/>
          <p:cNvPicPr/>
          <p:nvPr/>
        </p:nvPicPr>
        <p:blipFill>
          <a:blip r:embed="rId2"/>
          <a:stretch/>
        </p:blipFill>
        <p:spPr>
          <a:xfrm>
            <a:off x="4286160" y="2500200"/>
            <a:ext cx="48578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5 E">
                                      <p:cBhvr>
                                        <p:cTn id="41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25 E">
                                      <p:cBhvr>
                                        <p:cTn id="43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、考研情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2"/>
          <p:cNvSpPr/>
          <p:nvPr/>
        </p:nvSpPr>
        <p:spPr>
          <a:xfrm>
            <a:off x="1143000" y="1714680"/>
            <a:ext cx="7000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试总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政治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3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英语（一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学（二）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8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化工原理：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院校：北京化工大学化学化工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录取专业：化学工程与技术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36" descr=""/>
          <p:cNvPicPr/>
          <p:nvPr/>
        </p:nvPicPr>
        <p:blipFill>
          <a:blip r:embed="rId1"/>
          <a:stretch/>
        </p:blipFill>
        <p:spPr>
          <a:xfrm>
            <a:off x="4884840" y="331920"/>
            <a:ext cx="4240080" cy="6029280"/>
          </a:xfrm>
          <a:prstGeom prst="rect">
            <a:avLst/>
          </a:prstGeom>
          <a:ln w="0">
            <a:noFill/>
          </a:ln>
        </p:spPr>
      </p:pic>
      <p:sp>
        <p:nvSpPr>
          <p:cNvPr id="491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标题 1"/>
          <p:cNvSpPr/>
          <p:nvPr/>
        </p:nvSpPr>
        <p:spPr>
          <a:xfrm>
            <a:off x="120600" y="233280"/>
            <a:ext cx="866628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、未来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Group 33"/>
          <p:cNvGrpSpPr/>
          <p:nvPr/>
        </p:nvGrpSpPr>
        <p:grpSpPr>
          <a:xfrm>
            <a:off x="185760" y="1452600"/>
            <a:ext cx="4724280" cy="685800"/>
            <a:chOff x="185760" y="1452600"/>
            <a:chExt cx="4724280" cy="685800"/>
          </a:xfrm>
        </p:grpSpPr>
        <p:sp>
          <p:nvSpPr>
            <p:cNvPr id="495" name="AutoShape 47"/>
            <p:cNvSpPr/>
            <p:nvPr/>
          </p:nvSpPr>
          <p:spPr>
            <a:xfrm>
              <a:off x="566640" y="15717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AutoShape 48"/>
            <p:cNvSpPr/>
            <p:nvPr/>
          </p:nvSpPr>
          <p:spPr>
            <a:xfrm>
              <a:off x="185760" y="145260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Text Box 49"/>
            <p:cNvSpPr/>
            <p:nvPr/>
          </p:nvSpPr>
          <p:spPr>
            <a:xfrm>
              <a:off x="1025640" y="157176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Calibri"/>
                  <a:ea typeface="宋体"/>
                  <a:hlinkClick r:id="rId2"/>
                </a:rPr>
                <a:t>考研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Text Box 50"/>
            <p:cNvSpPr/>
            <p:nvPr/>
          </p:nvSpPr>
          <p:spPr>
            <a:xfrm>
              <a:off x="342000" y="155088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9" name="Group 33"/>
          <p:cNvGrpSpPr/>
          <p:nvPr/>
        </p:nvGrpSpPr>
        <p:grpSpPr>
          <a:xfrm>
            <a:off x="214200" y="2643120"/>
            <a:ext cx="5114880" cy="685800"/>
            <a:chOff x="214200" y="2643120"/>
            <a:chExt cx="5114880" cy="685800"/>
          </a:xfrm>
        </p:grpSpPr>
        <p:sp>
          <p:nvSpPr>
            <p:cNvPr id="500" name="AutoShape 47"/>
            <p:cNvSpPr/>
            <p:nvPr/>
          </p:nvSpPr>
          <p:spPr>
            <a:xfrm>
              <a:off x="595080" y="2762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AutoShape 48"/>
            <p:cNvSpPr/>
            <p:nvPr/>
          </p:nvSpPr>
          <p:spPr>
            <a:xfrm>
              <a:off x="214200" y="264312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Text Box 49"/>
            <p:cNvSpPr/>
            <p:nvPr/>
          </p:nvSpPr>
          <p:spPr>
            <a:xfrm>
              <a:off x="1900080" y="2801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工作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Text Box 50"/>
            <p:cNvSpPr/>
            <p:nvPr/>
          </p:nvSpPr>
          <p:spPr>
            <a:xfrm>
              <a:off x="370440" y="27414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4" name="Group 33"/>
          <p:cNvGrpSpPr/>
          <p:nvPr/>
        </p:nvGrpSpPr>
        <p:grpSpPr>
          <a:xfrm>
            <a:off x="214200" y="3929040"/>
            <a:ext cx="4714560" cy="685800"/>
            <a:chOff x="214200" y="3929040"/>
            <a:chExt cx="4714560" cy="685800"/>
          </a:xfrm>
        </p:grpSpPr>
        <p:sp>
          <p:nvSpPr>
            <p:cNvPr id="505" name="AutoShape 47"/>
            <p:cNvSpPr/>
            <p:nvPr/>
          </p:nvSpPr>
          <p:spPr>
            <a:xfrm>
              <a:off x="375480" y="4057560"/>
              <a:ext cx="455328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AutoShape 48"/>
            <p:cNvSpPr/>
            <p:nvPr/>
          </p:nvSpPr>
          <p:spPr>
            <a:xfrm>
              <a:off x="214200" y="3929040"/>
              <a:ext cx="71892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Text Box 49"/>
            <p:cNvSpPr/>
            <p:nvPr/>
          </p:nvSpPr>
          <p:spPr>
            <a:xfrm>
              <a:off x="725040" y="4103640"/>
              <a:ext cx="359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出国留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Text Box 50"/>
            <p:cNvSpPr/>
            <p:nvPr/>
          </p:nvSpPr>
          <p:spPr>
            <a:xfrm>
              <a:off x="385920" y="40273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9" name="Group 33"/>
          <p:cNvGrpSpPr/>
          <p:nvPr/>
        </p:nvGrpSpPr>
        <p:grpSpPr>
          <a:xfrm>
            <a:off x="214200" y="5286240"/>
            <a:ext cx="4724280" cy="685800"/>
            <a:chOff x="214200" y="5286240"/>
            <a:chExt cx="4724280" cy="685800"/>
          </a:xfrm>
        </p:grpSpPr>
        <p:sp>
          <p:nvSpPr>
            <p:cNvPr id="510" name="AutoShape 47"/>
            <p:cNvSpPr/>
            <p:nvPr/>
          </p:nvSpPr>
          <p:spPr>
            <a:xfrm>
              <a:off x="595080" y="5405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AutoShape 48"/>
            <p:cNvSpPr/>
            <p:nvPr/>
          </p:nvSpPr>
          <p:spPr>
            <a:xfrm>
              <a:off x="214200" y="5286240"/>
              <a:ext cx="685800" cy="68580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 Box 49"/>
            <p:cNvSpPr/>
            <p:nvPr/>
          </p:nvSpPr>
          <p:spPr>
            <a:xfrm>
              <a:off x="2228760" y="544968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其他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Text Box 50"/>
            <p:cNvSpPr/>
            <p:nvPr/>
          </p:nvSpPr>
          <p:spPr>
            <a:xfrm>
              <a:off x="370440" y="538452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如何获取各大院校的招生信息（专业、人数、报录比、专业课科目等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网上查询：主要有学校官网、考研帮、研招网、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小木虫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等几大网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咨询学长学姐（最直接最有效的方式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Group 33"/>
          <p:cNvGrpSpPr/>
          <p:nvPr/>
        </p:nvGrpSpPr>
        <p:grpSpPr>
          <a:xfrm>
            <a:off x="457200" y="274680"/>
            <a:ext cx="8228880" cy="1142640"/>
            <a:chOff x="457200" y="274680"/>
            <a:chExt cx="8228880" cy="1142640"/>
          </a:xfrm>
        </p:grpSpPr>
        <p:sp>
          <p:nvSpPr>
            <p:cNvPr id="516" name="AutoShape 47"/>
            <p:cNvSpPr/>
            <p:nvPr/>
          </p:nvSpPr>
          <p:spPr>
            <a:xfrm>
              <a:off x="1120320" y="473040"/>
              <a:ext cx="756576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b050"/>
                </a:gs>
                <a:gs pos="50000">
                  <a:srgbClr val="f2dad9"/>
                </a:gs>
                <a:gs pos="100000">
                  <a:srgbClr val="00b05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考研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AutoShape 48"/>
            <p:cNvSpPr/>
            <p:nvPr/>
          </p:nvSpPr>
          <p:spPr>
            <a:xfrm>
              <a:off x="457200" y="274680"/>
              <a:ext cx="1194480" cy="1142640"/>
            </a:xfrm>
            <a:prstGeom prst="diamond">
              <a:avLst/>
            </a:prstGeom>
            <a:solidFill>
              <a:srgbClr val="00b05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 Box 50"/>
            <p:cNvSpPr/>
            <p:nvPr/>
          </p:nvSpPr>
          <p:spPr>
            <a:xfrm>
              <a:off x="830880" y="438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三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购买什么样的资料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单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PP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知米背单词、朱伟恋练有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作文：何凯文作文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阅读：何凯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长难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黄皮书（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真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完型：星火英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         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0070c0"/>
                </a:solidFill>
                <a:latin typeface="华文仿宋"/>
                <a:ea typeface="华文仿宋"/>
              </a:rPr>
              <a:t>说三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重要的事情</a:t>
            </a:r>
            <a:r>
              <a:rPr b="1" lang="zh-CN" sz="2800" spc="-1" strike="noStrike">
                <a:solidFill>
                  <a:srgbClr val="7030a0"/>
                </a:solidFill>
                <a:latin typeface="华文仿宋"/>
                <a:ea typeface="华文仿宋"/>
              </a:rPr>
              <a:t>靠自己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92880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数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复习：同济六版高数课本、线性代数同济五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学习效率更高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基础巩固与提高：汤家凤强化视频、汤家凤数学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8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李永乐线性辅导书、汤家凤高数复习全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冲刺阶段：汤家凤冲刺视频、汤家凤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真题解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政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基础提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政治大纲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结合视频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题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刷三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风中劲草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仿宋"/>
                <a:ea typeface="华文仿宋"/>
              </a:rPr>
              <a:t>冲刺复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真题解析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肖秀荣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套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背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重点：关注微信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肖秀荣教授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老蒋政治蒋中挺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专业课（以北京化工大学大学版为例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57200" y="1600200"/>
            <a:ext cx="436248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人考试用书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本科教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天大第二版《化工原理》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陈敏恒《化工原理》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习题练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丁忠伟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《化工原理学习指导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北京化工大学化工原理考研真题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内容占位符 2" descr="微信图片_20170426225512"/>
          <p:cNvPicPr/>
          <p:nvPr/>
        </p:nvPicPr>
        <p:blipFill>
          <a:blip r:embed="rId1"/>
          <a:stretch/>
        </p:blipFill>
        <p:spPr>
          <a:xfrm>
            <a:off x="49849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直接连接符 3"/>
          <p:cNvSpPr/>
          <p:nvPr/>
        </p:nvSpPr>
        <p:spPr>
          <a:xfrm flipV="1">
            <a:off x="-20520" y="1049040"/>
            <a:ext cx="9144000" cy="7308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接连接符 4"/>
          <p:cNvSpPr/>
          <p:nvPr/>
        </p:nvSpPr>
        <p:spPr>
          <a:xfrm flipV="1">
            <a:off x="0" y="6324120"/>
            <a:ext cx="9144000" cy="71640"/>
          </a:xfrm>
          <a:prstGeom prst="line">
            <a:avLst/>
          </a:prstGeom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标题 1"/>
          <p:cNvSpPr/>
          <p:nvPr/>
        </p:nvSpPr>
        <p:spPr>
          <a:xfrm>
            <a:off x="1500120" y="233280"/>
            <a:ext cx="6072120" cy="789120"/>
          </a:xfrm>
          <a:prstGeom prst="rect">
            <a:avLst/>
          </a:prstGeom>
          <a:gradFill rotWithShape="0">
            <a:gsLst>
              <a:gs pos="0">
                <a:srgbClr val="9bbb59"/>
              </a:gs>
              <a:gs pos="100000">
                <a:srgbClr val="fffa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复习规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2"/>
          <p:cNvSpPr/>
          <p:nvPr/>
        </p:nvSpPr>
        <p:spPr>
          <a:xfrm>
            <a:off x="1143000" y="1714680"/>
            <a:ext cx="7000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现阶段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英语：单词、长难句（结合视频）、四六级真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数学：高数课本上下册、线代课本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复习全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份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上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英语：单词、阅读（每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篇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数学：基础课视频题（第二遍）、汤家凤高数线代强化（第一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专业课：课本复习一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12:10:31Z</dcterms:created>
  <dc:creator>Administrator</dc:creator>
  <dc:description/>
  <dc:language>en-US</dc:language>
  <cp:lastModifiedBy>Administrator</cp:lastModifiedBy>
  <dcterms:modified xsi:type="dcterms:W3CDTF">2017-04-27T10:07:41Z</dcterms:modified>
  <cp:revision>12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35</vt:lpwstr>
  </property>
</Properties>
</file>