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CC8A-D451-41A9-AAFB-82A1B13C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815D-9EFA-4813-A673-35373746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CF8-E76B-4600-A6DE-92862545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D4B-46B4-4D7F-A89D-7AB29932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7224-34C6-49F3-B00E-167DBF82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926D-2159-44D3-9557-C26AA5F0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2AF9-BCF9-4DCD-97B7-B342AA8A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153D-4C7E-4447-B7E5-8CD00A31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E961-9212-4A9D-85D8-E1731C02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A6E0-CF73-41F0-8BF4-CDA79C6F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CD70-E035-45BA-8A59-DB9FA87F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CDA-FCE6-4224-9B67-2E3A3A4C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862F-995C-4E92-A503-96067BE1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79FB-E0B1-451F-9E0A-AAE9D975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DC7A-B39C-46E4-9ABC-4780B071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BD2C-5787-47D3-8A38-4985F6A0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6DF9-B493-4DCE-9C02-79E6E7EC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4C1C6-269C-4ED4-B58B-9A8477AF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2663D-2EBE-4FA0-930D-FC2665E0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A7368-DEBC-4A8B-A103-ECB5C3EF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1576-6F5F-441F-A915-E1875DCF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BB55-1992-4CB7-A876-BA1C32C4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BD2-BB79-45D5-A9F4-9D09080A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1CD2-F624-4DC8-8D53-571FD365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D9D2-BD20-487C-8015-4CB4B8A9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A7995-8214-4038-9D08-40E29631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9DB7-4FB1-4E20-BB1F-8BEF75C5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F494-7087-4DFD-BB51-E4957D8F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940A4-B46E-4FA7-B4D9-A00C63D1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35F7-2B22-4ABC-9617-20D7723B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EDF0-B070-4569-A4D1-F60D3339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816E9-3AA5-404F-83CC-2B322D79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771AC-C0CD-4377-8F02-BED59F29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85A-431B-400D-BB62-2A345550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CA927-49E0-41D3-BD75-350C7BC3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75F88-1835-400A-ADB2-F27B715B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1A9A-6DAD-4DB3-9469-8DF1186A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E2217-9BB7-46CF-BFF8-D49679C0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145A4-8E26-4032-9C9F-3EDD71D3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D665-6429-4721-8200-A90EE931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8C2CD-5846-47FE-BCB6-7EDAB87F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919B6-B8D1-404F-B340-A88150A0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8A207-188D-4B63-A2DD-2073D7E3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C77-2B38-4C1E-958F-ED7303BD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BA3-0742-4F42-B488-01775952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C21-142E-456D-81C4-3D92B131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C2F6-C6D0-427A-B826-CE53490C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94E-16F8-409C-8A79-C1F14B9A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69B5-07AC-40C4-8EA0-0152939A603B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D8BA-9989-4BC7-BD97-DA1E6E605ADE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8555-3761-4F8C-8FD5-C0228AEC2721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DB73-8A04-4D1A-83E6-C78DB4DCF158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标题 1" descr=""/>
          <p:cNvPicPr/>
          <p:nvPr/>
        </p:nvPicPr>
        <p:blipFill>
          <a:blip r:embed="rId1"/>
          <a:stretch/>
        </p:blipFill>
        <p:spPr>
          <a:xfrm>
            <a:off x="536400" y="1206360"/>
            <a:ext cx="7345440" cy="1871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7926120" cy="2648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</a:rPr>
              <a:t>姓名：曹洪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</a:rPr>
              <a:t>专业：应用化学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5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nstantia"/>
              </a:rPr>
              <a:t>报考学校：南京工业大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4.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保持心态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心态很重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在备战考研的过程中，会遇到各种各样的问题，但一定要保证心态的平稳。每年考研都会有很多人这样那样的原因，坚持不下去，中途放弃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遇到烦心事，可以适当放松一下，或者觉着今天复习的很好，可以适当奖励吃顿好的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3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360" y="2781360"/>
            <a:ext cx="8424720" cy="35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nstantia"/>
              </a:rPr>
              <a:t>祝大家考研成功上岸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选择学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主要是向学长学姐，还有同学打听想报考院校信息，，最后理了理，综合考虑学校名气，城市地理位置，以后发展前景，地域有没有压分，歧视外省等因素，排了个一二三，最终选择三个理想院校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可以向老师请教，你有意向的学校，专业怎么样，或者让老师向你推荐，毕竟他们经验丰富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可以着重考虑我们学校每年师兄，师姐考上的学校。因为一是有熟悉的人，二是这些学校不太会存在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压分，歧视的情况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如何复习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时间安排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6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基础阶段，着重基础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-8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8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强化阶段，做题，用实践检验一阶段的复习成果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左右。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最重要的阶段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真题阶段，英语，数学，专业课刷真题，多刷几遍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-14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从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冲刺阶段，模拟练习，每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2-14h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临近考前可以适当调整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000" y="691920"/>
            <a:ext cx="821844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英语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词汇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每天都要背单词，时间不用长，单词不能停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阅读是考研英语中分最重的，多练，多练，多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英语真题最重要，总结出现过的高频词汇，尤其是阅读中的，熟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对于英语来说，后期不要做除作文外的模拟题，多做几遍真题。模拟题的水平永远考研真题的水平。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12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背英语作文，并且一定要动手写，动手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用书：恋练有词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华研外语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5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阅读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真题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何凯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写作高分攻略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11280" y="907920"/>
            <a:ext cx="813744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数学（练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打好基础，无论你选择的是张宇，汤家凤还是李永乐（差别不大）在一轮复习时都要打好基础，重视基本定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在暑假的冲刺阶段，是数学的最重要的阶段，多刷题，多见见题型，可以做汤家凤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0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和李永乐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6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（全是选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填空）这时候也是错的最多阶段，不要灰心，多总结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数学的真题最好在规定的时间内练习，注意观察每年所考的知识点，总结高频考点（无穷小替换，微分方程等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68000" y="980640"/>
            <a:ext cx="82184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模拟阶段，用模拟题来做限时训练，考察自己应试能力。张宇的很灵活也是最难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套卷还可以做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套卷太难了（有兴趣的可以挑战）。汤家凤的还可以，难度中等，但每一张的题型感觉有些类似。合工大超越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共创比较简单，但这只有电子版的，有时间的可以练练。最后李林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+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难度中等偏上，有一些灵活性，我比较喜欢的（个人感觉，仅供参考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用书：李永乐复习全书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汤家凤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800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李永乐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660+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真题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押题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4920" y="620280"/>
            <a:ext cx="83026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背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不用开始太早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，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月都可以。可以跟着肖秀荣老师的复习全书，跟着视频看，尤其是他着重强调的内容，同时配套做他的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00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题，每天看一章并做配套的练习题，大概两个半月可以看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是唯一不用做真题的科目，上一年的考过的内容，今年基本不会考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政治的背诵内容较多，模拟题推荐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，尤其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4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考研用书：肖秀荣三件套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徐涛核心考点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8+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肖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691920"/>
            <a:ext cx="829152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专业课（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找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+</a:t>
            </a: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学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当你定好考研目标院校后，一定要及时的去查询这个学校的招生专业目录（在研招网上都可以查到）了解专业课考试科目，招生人数，以及专业课书的版本（很重要）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能找到历年真题最好，专业课每年的重点变化不会太大，通过历年真题，可以了解题型和重点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最好能找到的学长，学姐，他们的复习资料都是很全的，能节省时间，精力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专业课比较重要，复试时，比较看重，一定要认真学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制定适合自己的计划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） 不要人云亦云，制定适合自己的计划，会事半功倍。可以借鉴，但不要照搬别人的复习计划。适合自己的才是最好的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比如：我上午状态好，    下午不好。那就早上早起，晚上早点回来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）制定计划后，一定要坚持执行。不要经常和别人比较，按自己的计划来，适合自己的才是最好的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根据自己的复习进度，及时的调整自己觉得计划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nstantia"/>
              </a:rPr>
              <a:t>比如：最后一个月根据考研日程安排，调整为上午复习政治，数学，下午复习英语，专业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7T12:39:57Z</dcterms:created>
  <dc:creator>Administrator</dc:creator>
  <dc:description/>
  <dc:language>en-US</dc:language>
  <cp:lastModifiedBy>Administrator</cp:lastModifiedBy>
  <dcterms:modified xsi:type="dcterms:W3CDTF">2019-04-10T03:11:27Z</dcterms:modified>
  <cp:revision>14</cp:revision>
  <dc:subject/>
  <dc:title>考研</dc:title>
</cp:coreProperties>
</file>