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6D4-8A05-40EE-9B58-0F67CEA4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FDB-89E5-44B8-8CB7-00F6E8AC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B82E-9B54-4779-B69E-7143BC83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F77-FE40-4628-979A-CA34BEFC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9349-E9F7-48E7-9FD1-20B1149A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C685-F194-48D2-A0A2-99384941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288A-C8F5-4C16-B912-1E9FABA4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5056-E296-47C5-AF69-06CC6ACA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CBB3-9067-486B-BE3A-48483E3A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587E-8D2D-4223-BB8F-7F5C277A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270A-7600-4B0B-87AF-F9801FE5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AEB-39C5-47D7-BDBF-2559E72F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49B7-AB28-44C7-9429-AF30D3C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D376-7685-4160-859D-452B83D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7042-12D7-4541-A465-798B188E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5497-4AAD-4A79-8A3E-862552D9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473F-9AFD-477F-88DD-AE1EC221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AB86-9DC7-4715-B183-BD9BAC59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B79FF-0675-4624-949C-9C95975C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D84FE-218F-46D1-BCF8-EAF4B3FA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BBB1-BC7C-4D36-9D10-D58A4501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9E0E-0E68-46A7-BBD1-C2DAC8DD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D0A-1F79-4688-B46C-70CE141B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CA9A-5A61-4BBA-8FDB-73A4CD08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FE31C-D86A-4591-A39C-E6784E10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FAB09-33D9-4F5D-916C-CD922366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6069C-C635-4D1B-8FDE-0E3852FE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7173E-DDA0-4471-AA4B-7585221E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5BE5B-38B9-414E-A5F5-D1F844EA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6FD9-7311-4F53-8117-0D1DE815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9C73B-CD58-463C-A02F-D48B600A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7C914-FE93-4EBF-ABD8-0B104455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5158-8AF0-4BDF-9F5F-42594BE4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B37-C10D-4B76-8A5C-FED91DB4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F5D21-B81A-4B8C-9F59-6541D389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769C8-D585-44CD-AE85-6AF2BBA1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59014-A75F-43D8-90C9-5361296A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0B1BA-B4A9-4B20-825C-CCF04F66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97062-72BA-4FFD-8ADA-A46DF1C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59223-2E1D-4CB7-B7BD-57E0232C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416D8-DA1D-429A-9A21-C09C6BCC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F6503-4F99-44C7-BFDF-E8019128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4055-9BDA-4866-8CC7-77201247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6F4D-3086-47CB-A274-37DEDEB8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1C7-7367-41A2-A833-5A854794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047-17E8-4080-9E92-0D2AA4E5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6C7-6A66-46CA-88DF-3B1D8D86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1E3-0457-4002-AEA1-A20E4F1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7313-8F3F-4E76-B0DA-258866CBB67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93CC-941A-464E-9161-B9C0509AFA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CB81-3CD6-45AD-87D3-AC52AE2E86A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64EA-A3EB-4BA0-A4A1-E64D8212CC3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477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4470-EAF0-452B-B7BE-8B495F157B9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3038-9B03-43FC-BBE2-D8A5192D7E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e6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77dea"/>
          </a:solidFill>
          <a:ln w="12600">
            <a:solidFill>
              <a:srgbClr val="325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477d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80D7-49A0-4A30-9048-DD0DA120D02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BCE1-92DD-4522-B1F1-2CB90857699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4761000" y="2521080"/>
            <a:ext cx="3940200" cy="4851360"/>
          </a:xfrm>
          <a:prstGeom prst="rect">
            <a:avLst/>
          </a:prstGeom>
          <a:ln w="0">
            <a:noFill/>
          </a:ln>
        </p:spPr>
      </p:pic>
      <p:sp>
        <p:nvSpPr>
          <p:cNvPr id="171" name="椭圆 5"/>
          <p:cNvSpPr/>
          <p:nvPr/>
        </p:nvSpPr>
        <p:spPr>
          <a:xfrm>
            <a:off x="3903840" y="914400"/>
            <a:ext cx="4383000" cy="421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60880" y="1158480"/>
            <a:ext cx="1403280" cy="317340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62626"/>
                </a:solidFill>
                <a:latin typeface="逐浪马列大楷体"/>
                <a:ea typeface="逐浪马列大楷体"/>
              </a:rPr>
              <a:t>经验交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椭圆 5"/>
          <p:cNvSpPr/>
          <p:nvPr/>
        </p:nvSpPr>
        <p:spPr>
          <a:xfrm>
            <a:off x="3903840" y="1557360"/>
            <a:ext cx="3963960" cy="380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38400" y="2971440"/>
            <a:ext cx="3894120" cy="118116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A_MH_Others_11"/>
          <p:cNvSpPr/>
          <p:nvPr/>
        </p:nvSpPr>
        <p:spPr>
          <a:xfrm>
            <a:off x="8420040" y="1092240"/>
            <a:ext cx="1087560" cy="1092240"/>
          </a:xfrm>
          <a:prstGeom prst="ellipse">
            <a:avLst/>
          </a:prstGeom>
          <a:solidFill>
            <a:srgbClr val="d0cccc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57"/>
          <p:cNvSpPr/>
          <p:nvPr/>
        </p:nvSpPr>
        <p:spPr>
          <a:xfrm>
            <a:off x="9317160" y="1300320"/>
            <a:ext cx="2087280" cy="200628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A_MH_Others_12"/>
          <p:cNvSpPr/>
          <p:nvPr/>
        </p:nvSpPr>
        <p:spPr>
          <a:xfrm>
            <a:off x="9169560" y="2479680"/>
            <a:ext cx="72072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f7f7f"/>
                </a:solidFill>
                <a:latin typeface="Arial"/>
              </a:rPr>
              <a:t>CONT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3"/>
          <p:cNvGrpSpPr/>
          <p:nvPr/>
        </p:nvGrpSpPr>
        <p:grpSpPr>
          <a:xfrm>
            <a:off x="2336760" y="2027160"/>
            <a:ext cx="5753160" cy="2493720"/>
            <a:chOff x="2336760" y="2027160"/>
            <a:chExt cx="5753160" cy="2493720"/>
          </a:xfrm>
        </p:grpSpPr>
        <p:grpSp>
          <p:nvGrpSpPr>
            <p:cNvPr id="177" name="组合 36"/>
            <p:cNvGrpSpPr/>
            <p:nvPr/>
          </p:nvGrpSpPr>
          <p:grpSpPr>
            <a:xfrm>
              <a:off x="2336760" y="2027160"/>
              <a:ext cx="5753160" cy="684000"/>
              <a:chOff x="2336760" y="2027160"/>
              <a:chExt cx="5753160" cy="684000"/>
            </a:xfrm>
          </p:grpSpPr>
          <p:sp>
            <p:nvSpPr>
              <p:cNvPr id="178" name="文本框 37"/>
              <p:cNvSpPr/>
              <p:nvPr/>
            </p:nvSpPr>
            <p:spPr>
              <a:xfrm>
                <a:off x="2336760" y="2027160"/>
                <a:ext cx="73944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300" spc="-1" strike="noStrike">
                    <a:solidFill>
                      <a:srgbClr val="595959"/>
                    </a:solidFill>
                    <a:latin typeface="逐浪温莎雅楷体"/>
                    <a:ea typeface="逐浪温莎雅楷体"/>
                  </a:rPr>
                  <a:t>01</a:t>
                </a: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文本框 38"/>
              <p:cNvSpPr/>
              <p:nvPr/>
            </p:nvSpPr>
            <p:spPr>
              <a:xfrm>
                <a:off x="3076560" y="2183760"/>
                <a:ext cx="501336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b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595959"/>
                    </a:solidFill>
                    <a:latin typeface="逐浪温莎雅楷体"/>
                    <a:ea typeface="逐浪温莎雅楷体"/>
                  </a:rPr>
                  <a:t>简单自我介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40"/>
            <p:cNvGrpSpPr/>
            <p:nvPr/>
          </p:nvGrpSpPr>
          <p:grpSpPr>
            <a:xfrm>
              <a:off x="2336760" y="2931480"/>
              <a:ext cx="5717160" cy="684000"/>
              <a:chOff x="2336760" y="2931480"/>
              <a:chExt cx="5717160" cy="684000"/>
            </a:xfrm>
          </p:grpSpPr>
          <p:sp>
            <p:nvSpPr>
              <p:cNvPr id="181" name="文本框 41"/>
              <p:cNvSpPr/>
              <p:nvPr/>
            </p:nvSpPr>
            <p:spPr>
              <a:xfrm>
                <a:off x="2336760" y="2931480"/>
                <a:ext cx="73980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404040"/>
                    </a:solidFill>
                    <a:latin typeface="逐浪温莎雅楷体"/>
                    <a:ea typeface="逐浪温莎雅楷体"/>
                  </a:rPr>
                  <a:t>02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文本框 42"/>
              <p:cNvSpPr/>
              <p:nvPr/>
            </p:nvSpPr>
            <p:spPr>
              <a:xfrm>
                <a:off x="3112560" y="3064320"/>
                <a:ext cx="494136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b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04040"/>
                    </a:solidFill>
                    <a:latin typeface="逐浪温莎雅楷体"/>
                    <a:ea typeface="逐浪温莎雅楷体"/>
                  </a:rPr>
                  <a:t>学校介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44"/>
            <p:cNvGrpSpPr/>
            <p:nvPr/>
          </p:nvGrpSpPr>
          <p:grpSpPr>
            <a:xfrm>
              <a:off x="2336760" y="3836880"/>
              <a:ext cx="5753160" cy="684000"/>
              <a:chOff x="2336760" y="3836880"/>
              <a:chExt cx="5753160" cy="684000"/>
            </a:xfrm>
          </p:grpSpPr>
          <p:sp>
            <p:nvSpPr>
              <p:cNvPr id="184" name="文本框 45"/>
              <p:cNvSpPr/>
              <p:nvPr/>
            </p:nvSpPr>
            <p:spPr>
              <a:xfrm>
                <a:off x="2336760" y="3836880"/>
                <a:ext cx="73944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262626"/>
                    </a:solidFill>
                    <a:latin typeface="逐浪温莎雅楷体"/>
                    <a:ea typeface="逐浪温莎雅楷体"/>
                  </a:rPr>
                  <a:t>03</a:t>
                </a:r>
                <a:endParaRPr b="0" lang="en-US" sz="3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文本框 46"/>
              <p:cNvSpPr/>
              <p:nvPr/>
            </p:nvSpPr>
            <p:spPr>
              <a:xfrm>
                <a:off x="3148920" y="3970440"/>
                <a:ext cx="4941000" cy="41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b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262626"/>
                    </a:solidFill>
                    <a:latin typeface="逐浪温莎雅楷体"/>
                    <a:ea typeface="逐浪温莎雅楷体"/>
                  </a:rPr>
                  <a:t>考研准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01160" y="1761840"/>
            <a:ext cx="1403280" cy="17002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262626"/>
                </a:solidFill>
                <a:latin typeface="逐浪温莎雅楷体"/>
                <a:ea typeface="逐浪温莎雅楷体"/>
              </a:rPr>
              <a:t>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标题 60"/>
          <p:cNvSpPr/>
          <p:nvPr/>
        </p:nvSpPr>
        <p:spPr>
          <a:xfrm>
            <a:off x="8089920" y="1173240"/>
            <a:ext cx="1403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62626"/>
                </a:solidFill>
                <a:latin typeface="逐浪温莎雅楷体"/>
                <a:ea typeface="逐浪温莎雅楷体"/>
              </a:rPr>
              <a:t>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9690120" y="2860560"/>
            <a:ext cx="1847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椭圆 5"/>
          <p:cNvSpPr/>
          <p:nvPr/>
        </p:nvSpPr>
        <p:spPr>
          <a:xfrm>
            <a:off x="3332160" y="2514600"/>
            <a:ext cx="1382760" cy="1328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8"/>
          <p:cNvGrpSpPr/>
          <p:nvPr/>
        </p:nvGrpSpPr>
        <p:grpSpPr>
          <a:xfrm>
            <a:off x="-173160" y="3138480"/>
            <a:ext cx="3346200" cy="108000"/>
            <a:chOff x="-173160" y="3138480"/>
            <a:chExt cx="3346200" cy="108000"/>
          </a:xfrm>
        </p:grpSpPr>
        <p:sp>
          <p:nvSpPr>
            <p:cNvPr id="191" name="直接连接符 4"/>
            <p:cNvSpPr/>
            <p:nvPr/>
          </p:nvSpPr>
          <p:spPr>
            <a:xfrm>
              <a:off x="-173160" y="3165840"/>
              <a:ext cx="333252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6"/>
            <p:cNvSpPr/>
            <p:nvPr/>
          </p:nvSpPr>
          <p:spPr>
            <a:xfrm>
              <a:off x="3065400" y="313848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3494160" y="2513160"/>
            <a:ext cx="1203120" cy="1482480"/>
          </a:xfrm>
          <a:prstGeom prst="rect">
            <a:avLst/>
          </a:prstGeom>
          <a:ln w="0">
            <a:noFill/>
          </a:ln>
        </p:spPr>
      </p:pic>
      <p:grpSp>
        <p:nvGrpSpPr>
          <p:cNvPr id="194" name="组合 9"/>
          <p:cNvGrpSpPr/>
          <p:nvPr/>
        </p:nvGrpSpPr>
        <p:grpSpPr>
          <a:xfrm>
            <a:off x="4821120" y="3149640"/>
            <a:ext cx="1154160" cy="108000"/>
            <a:chOff x="4821120" y="3149640"/>
            <a:chExt cx="1154160" cy="108000"/>
          </a:xfrm>
        </p:grpSpPr>
        <p:sp>
          <p:nvSpPr>
            <p:cNvPr id="195" name="直接连接符 10"/>
            <p:cNvSpPr/>
            <p:nvPr/>
          </p:nvSpPr>
          <p:spPr>
            <a:xfrm flipH="1">
              <a:off x="4821120" y="3203640"/>
              <a:ext cx="1154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11"/>
            <p:cNvSpPr/>
            <p:nvPr/>
          </p:nvSpPr>
          <p:spPr>
            <a:xfrm flipH="1">
              <a:off x="4821120" y="31496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文本框 13"/>
          <p:cNvSpPr/>
          <p:nvPr/>
        </p:nvSpPr>
        <p:spPr>
          <a:xfrm>
            <a:off x="5975280" y="29019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逐浪粗宋简体"/>
                <a:ea typeface="逐浪粗宋简体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5"/>
          <p:cNvSpPr/>
          <p:nvPr/>
        </p:nvSpPr>
        <p:spPr>
          <a:xfrm>
            <a:off x="3538440" y="2763720"/>
            <a:ext cx="10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7"/>
          <p:cNvSpPr/>
          <p:nvPr/>
        </p:nvSpPr>
        <p:spPr>
          <a:xfrm>
            <a:off x="8856720" y="3232080"/>
            <a:ext cx="333216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8"/>
          <p:cNvSpPr/>
          <p:nvPr/>
        </p:nvSpPr>
        <p:spPr>
          <a:xfrm>
            <a:off x="4559400" y="814320"/>
            <a:ext cx="2689200" cy="64260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angal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1438200" y="-73080"/>
            <a:ext cx="1847880" cy="227664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1"/>
          <p:cNvSpPr/>
          <p:nvPr/>
        </p:nvSpPr>
        <p:spPr>
          <a:xfrm>
            <a:off x="1982880" y="1890720"/>
            <a:ext cx="90248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姓名：彭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本科专业：生物制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报考院校：中国药科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报考专业：微生物与生化药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初试分数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2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复试分数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07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录取分数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634.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7968255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椭圆 5"/>
          <p:cNvSpPr/>
          <p:nvPr/>
        </p:nvSpPr>
        <p:spPr>
          <a:xfrm>
            <a:off x="3332160" y="2514600"/>
            <a:ext cx="1382760" cy="1328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8"/>
          <p:cNvGrpSpPr/>
          <p:nvPr/>
        </p:nvGrpSpPr>
        <p:grpSpPr>
          <a:xfrm>
            <a:off x="-173160" y="3138480"/>
            <a:ext cx="3346200" cy="108000"/>
            <a:chOff x="-173160" y="3138480"/>
            <a:chExt cx="3346200" cy="108000"/>
          </a:xfrm>
        </p:grpSpPr>
        <p:sp>
          <p:nvSpPr>
            <p:cNvPr id="205" name="直接连接符 4"/>
            <p:cNvSpPr/>
            <p:nvPr/>
          </p:nvSpPr>
          <p:spPr>
            <a:xfrm>
              <a:off x="-173160" y="3165840"/>
              <a:ext cx="333252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6"/>
            <p:cNvSpPr/>
            <p:nvPr/>
          </p:nvSpPr>
          <p:spPr>
            <a:xfrm>
              <a:off x="3065400" y="313848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3494160" y="2513160"/>
            <a:ext cx="1203120" cy="1482480"/>
          </a:xfrm>
          <a:prstGeom prst="rect">
            <a:avLst/>
          </a:prstGeom>
          <a:ln w="0">
            <a:noFill/>
          </a:ln>
        </p:spPr>
      </p:pic>
      <p:grpSp>
        <p:nvGrpSpPr>
          <p:cNvPr id="208" name="组合 9"/>
          <p:cNvGrpSpPr/>
          <p:nvPr/>
        </p:nvGrpSpPr>
        <p:grpSpPr>
          <a:xfrm>
            <a:off x="4821120" y="3149640"/>
            <a:ext cx="1154160" cy="108000"/>
            <a:chOff x="4821120" y="3149640"/>
            <a:chExt cx="1154160" cy="108000"/>
          </a:xfrm>
        </p:grpSpPr>
        <p:sp>
          <p:nvSpPr>
            <p:cNvPr id="209" name="直接连接符 10"/>
            <p:cNvSpPr/>
            <p:nvPr/>
          </p:nvSpPr>
          <p:spPr>
            <a:xfrm flipH="1">
              <a:off x="4821120" y="3203640"/>
              <a:ext cx="1154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11"/>
            <p:cNvSpPr/>
            <p:nvPr/>
          </p:nvSpPr>
          <p:spPr>
            <a:xfrm flipH="1">
              <a:off x="4821120" y="31496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13"/>
          <p:cNvSpPr/>
          <p:nvPr/>
        </p:nvSpPr>
        <p:spPr>
          <a:xfrm>
            <a:off x="5975280" y="29019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逐浪粗宋简体"/>
                <a:ea typeface="逐浪粗宋简体"/>
              </a:rPr>
              <a:t>学校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5"/>
          <p:cNvSpPr/>
          <p:nvPr/>
        </p:nvSpPr>
        <p:spPr>
          <a:xfrm>
            <a:off x="3538440" y="2763720"/>
            <a:ext cx="10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7"/>
          <p:cNvSpPr/>
          <p:nvPr/>
        </p:nvSpPr>
        <p:spPr>
          <a:xfrm>
            <a:off x="8856720" y="3232080"/>
            <a:ext cx="333216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28"/>
          <p:cNvSpPr/>
          <p:nvPr/>
        </p:nvSpPr>
        <p:spPr>
          <a:xfrm>
            <a:off x="4751280" y="1079640"/>
            <a:ext cx="2687760" cy="64260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Mangal"/>
              </a:rPr>
              <a:t>学校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1438200" y="-73080"/>
            <a:ext cx="1847880" cy="227664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"/>
          <p:cNvSpPr/>
          <p:nvPr/>
        </p:nvSpPr>
        <p:spPr>
          <a:xfrm>
            <a:off x="1805040" y="2347920"/>
            <a:ext cx="92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药科大学坐落于古都南京。是一所历史悠久、特色鲜明、学风优良、在药学界享有盛誉的教育部直属、国家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21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工程”和国家“双一流”建设高校（一流学科），是我国首批具有博士、硕士学位授予权的高等学校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椭圆 5"/>
          <p:cNvSpPr/>
          <p:nvPr/>
        </p:nvSpPr>
        <p:spPr>
          <a:xfrm>
            <a:off x="3332160" y="2514600"/>
            <a:ext cx="1382760" cy="1328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组合 8"/>
          <p:cNvGrpSpPr/>
          <p:nvPr/>
        </p:nvGrpSpPr>
        <p:grpSpPr>
          <a:xfrm>
            <a:off x="-173160" y="3138480"/>
            <a:ext cx="3346200" cy="108000"/>
            <a:chOff x="-173160" y="3138480"/>
            <a:chExt cx="3346200" cy="108000"/>
          </a:xfrm>
        </p:grpSpPr>
        <p:sp>
          <p:nvSpPr>
            <p:cNvPr id="219" name="直接连接符 4"/>
            <p:cNvSpPr/>
            <p:nvPr/>
          </p:nvSpPr>
          <p:spPr>
            <a:xfrm>
              <a:off x="-173160" y="3165840"/>
              <a:ext cx="333252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6"/>
            <p:cNvSpPr/>
            <p:nvPr/>
          </p:nvSpPr>
          <p:spPr>
            <a:xfrm>
              <a:off x="3065400" y="313848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3494160" y="2513160"/>
            <a:ext cx="1203120" cy="1482480"/>
          </a:xfrm>
          <a:prstGeom prst="rect">
            <a:avLst/>
          </a:prstGeom>
          <a:ln w="0">
            <a:noFill/>
          </a:ln>
        </p:spPr>
      </p:pic>
      <p:grpSp>
        <p:nvGrpSpPr>
          <p:cNvPr id="222" name="组合 9"/>
          <p:cNvGrpSpPr/>
          <p:nvPr/>
        </p:nvGrpSpPr>
        <p:grpSpPr>
          <a:xfrm>
            <a:off x="4821120" y="3149640"/>
            <a:ext cx="1154160" cy="108000"/>
            <a:chOff x="4821120" y="3149640"/>
            <a:chExt cx="1154160" cy="108000"/>
          </a:xfrm>
        </p:grpSpPr>
        <p:sp>
          <p:nvSpPr>
            <p:cNvPr id="223" name="直接连接符 10"/>
            <p:cNvSpPr/>
            <p:nvPr/>
          </p:nvSpPr>
          <p:spPr>
            <a:xfrm flipH="1">
              <a:off x="4821120" y="3203640"/>
              <a:ext cx="1154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1"/>
            <p:cNvSpPr/>
            <p:nvPr/>
          </p:nvSpPr>
          <p:spPr>
            <a:xfrm flipH="1">
              <a:off x="4821120" y="3149640"/>
              <a:ext cx="107640" cy="1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13"/>
          <p:cNvSpPr/>
          <p:nvPr/>
        </p:nvSpPr>
        <p:spPr>
          <a:xfrm>
            <a:off x="5975280" y="290196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逐浪粗宋简体"/>
                <a:ea typeface="逐浪粗宋简体"/>
              </a:rPr>
              <a:t>考研准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5"/>
          <p:cNvSpPr/>
          <p:nvPr/>
        </p:nvSpPr>
        <p:spPr>
          <a:xfrm>
            <a:off x="3538440" y="2763720"/>
            <a:ext cx="10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17"/>
          <p:cNvSpPr/>
          <p:nvPr/>
        </p:nvSpPr>
        <p:spPr>
          <a:xfrm>
            <a:off x="8856720" y="3232080"/>
            <a:ext cx="3332160" cy="2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组合 11"/>
          <p:cNvGrpSpPr/>
          <p:nvPr/>
        </p:nvGrpSpPr>
        <p:grpSpPr>
          <a:xfrm>
            <a:off x="520560" y="730080"/>
            <a:ext cx="5759640" cy="3229920"/>
            <a:chOff x="520560" y="730080"/>
            <a:chExt cx="5759640" cy="3229920"/>
          </a:xfrm>
        </p:grpSpPr>
        <p:sp>
          <p:nvSpPr>
            <p:cNvPr id="229" name="TextBox 28"/>
            <p:cNvSpPr/>
            <p:nvPr/>
          </p:nvSpPr>
          <p:spPr>
            <a:xfrm>
              <a:off x="1461600" y="730080"/>
              <a:ext cx="3642480" cy="642600"/>
            </a:xfrm>
            <a:prstGeom prst="rect">
              <a:avLst/>
            </a:prstGeom>
            <a:solidFill>
              <a:srgbClr val="556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Mangal"/>
                </a:rPr>
                <a:t>考研准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24"/>
            <p:cNvSpPr/>
            <p:nvPr/>
          </p:nvSpPr>
          <p:spPr>
            <a:xfrm>
              <a:off x="520560" y="1916280"/>
              <a:ext cx="575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初试准备（资料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英语：英语真题、何凯文的阅读、何凯文绝密考场</a:t>
              </a:r>
              <a:r>
                <a:rPr b="0" lang="en-US" sz="3200" spc="-1" strike="noStrike">
                  <a:solidFill>
                    <a:srgbClr val="404040"/>
                  </a:solidFill>
                  <a:latin typeface="Arial"/>
                </a:rPr>
                <a:t>8</a:t>
              </a: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套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政治：全程跟的蒋中挺，全部用的他的资料，个人感觉还不错，强推客观题应试宝典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040"/>
                  </a:solidFill>
                  <a:latin typeface="Arial"/>
                </a:rPr>
                <a:t>专业课：我的专业课是生化、有机、分析和生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7432560" y="1469880"/>
            <a:ext cx="3632400" cy="4476960"/>
          </a:xfrm>
          <a:prstGeom prst="rect">
            <a:avLst/>
          </a:prstGeom>
          <a:ln w="0">
            <a:noFill/>
          </a:ln>
        </p:spPr>
      </p:pic>
      <p:sp>
        <p:nvSpPr>
          <p:cNvPr id="232" name="椭圆 5"/>
          <p:cNvSpPr/>
          <p:nvPr/>
        </p:nvSpPr>
        <p:spPr>
          <a:xfrm>
            <a:off x="6811920" y="1206360"/>
            <a:ext cx="4383000" cy="421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8"/>
          <p:cNvSpPr/>
          <p:nvPr/>
        </p:nvSpPr>
        <p:spPr>
          <a:xfrm>
            <a:off x="4284720" y="709560"/>
            <a:ext cx="4494240" cy="489960"/>
          </a:xfrm>
          <a:prstGeom prst="rect">
            <a:avLst/>
          </a:prstGeom>
          <a:solidFill>
            <a:srgbClr val="5567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Mangal"/>
              </a:rPr>
              <a:t>准备过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2" descr="0172d0dc26b25d2e622eceade12082b0b4877cadcac02-NCB2wE_fw658"/>
          <p:cNvPicPr/>
          <p:nvPr/>
        </p:nvPicPr>
        <p:blipFill>
          <a:blip r:embed="rId1"/>
          <a:stretch/>
        </p:blipFill>
        <p:spPr>
          <a:xfrm>
            <a:off x="1438200" y="-73080"/>
            <a:ext cx="1847880" cy="227664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1"/>
          <p:cNvSpPr/>
          <p:nvPr/>
        </p:nvSpPr>
        <p:spPr>
          <a:xfrm>
            <a:off x="1019160" y="2203560"/>
            <a:ext cx="1086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4cd"/>
                </a:solidFill>
                <a:latin typeface="Arial"/>
              </a:rPr>
              <a:t>英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每天背单词，然后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份开始刷阅读真题（每天两篇或者是四篇）第一遍精刷，大概刷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遍的样子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份开始刷完型和新题型（大概做了两边），大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份开始做英语翻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4cd"/>
                </a:solidFill>
                <a:latin typeface="Arial"/>
              </a:rPr>
              <a:t>政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一直跟着文都的班，真正的系统的复习应该是文都暑假的集训，这个阶段就把政治的所有科目通拉了两遍，开始刷蒋中挺的八百题，有些人也开始刷肖秀荣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题。（第一遍精刷，用铅笔）同时配合记蒋中挺的客观题应试宝典，大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中旬刷第二检查自己的复习结果，找出自己的薄弱点，精准攻克。刷完后就开始背蒋中挺冲刺考点必背、刷蒋中挺的真题预测百分百，后期等蒋五或者肖四、肖八出来，把选择题做了，理解清楚，直接背大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54cd"/>
                </a:solidFill>
                <a:latin typeface="Arial"/>
              </a:rPr>
              <a:t>专业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这个根据个人情况安排吧，实话说我的专业课看分数就很糟糕，所以这个我也没有什么好给你们交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3T09:01:00Z</dcterms:created>
  <dc:creator>kingsoft</dc:creator>
  <dc:description/>
  <dc:language>en-US</dc:language>
  <cp:lastModifiedBy>fool</cp:lastModifiedBy>
  <dcterms:modified xsi:type="dcterms:W3CDTF">2019-04-07T02:43:25Z</dcterms:modified>
  <cp:revision>3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</Properties>
</file>