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BA93D-D693-470E-9E48-808D3E10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444A7-CE1D-488C-8C4F-B697EDF2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CA03-117E-4E51-86A9-BCBB862C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9862E-170E-49C0-9681-2E3000EB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12C61-FDBA-4F8A-8E64-9813FE8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9CCE4-942F-4A28-B244-87492993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1CCA9-493F-4771-B155-0AE2867D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F7D9E-9BCA-4957-81BC-8693C544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9581-A792-496D-873D-BB001775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2D02F-2719-4CFF-8F31-F493DA94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623EB-A904-4BB6-BCA0-A6B6955D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BB152-A929-4008-960D-96685EC9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27C31-12E6-4DC9-9330-ED1F66CD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B866A-5EA4-489E-BD61-3FDCD602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30333-AACA-49FA-A7C4-4FD1F717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1213B-886B-4075-A300-F0AA847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92F72-3235-4138-AB8A-5C729839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11355-EBF9-41A4-894D-A28C4A4D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35FE3-A093-48E2-9C6F-2338B67F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569C2-0A1F-46BC-81B1-38F0E561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8222-AAC1-4C2D-8A5B-41B0372D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748A5-4330-421A-ADFC-CD2C703A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00412-997B-441F-A5B3-1B8D1AFC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5D61D-BEF1-4DBD-BE74-166962E6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6A62A-F402-4486-8970-67611352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3E9F0-0804-40A6-AFE4-8CB1C4F2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BB399-18C9-4296-A7A4-F1C96E95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984DF-A2F9-4B9E-8D2C-4003166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505B0-AB9E-4331-802B-B990E9E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CAE65-1640-44EF-A472-EA4265B6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E4D-9906-4168-B44A-4435CFB7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61200-5123-4010-8024-5EFEA121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9DA13-6D7F-4B23-ABF1-E84EBE66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01A3A-1A14-4016-A66F-6D939C3B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1A393-F3EB-4909-9992-A5C05844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0B41B-4BFD-4FE2-9284-E8AD1195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985E0-60EA-4362-8350-66EB8C5D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64749-3504-4E0E-920D-EEF6E51D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2CC26-A900-42AA-A421-9CFEDD4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969D6-36B6-4EF4-B54B-E110C6D0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01CB0-B48B-4954-8047-D766EF97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D09-A2C6-4449-82AD-F320A309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4B604-3DFC-49C5-B066-3D3396B8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90F24-3D5C-4886-BAA5-0BDF2EC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33A45-78B0-4430-B608-B1FE5BCC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B306-9C6E-4C57-8E02-375AB919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88B39-96DE-4C3D-BF5A-10023BE9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FCC-EFA0-4CDA-8526-A239CC15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469-07F7-4B96-ABDE-C4CC1C81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C71-92E7-443F-9D12-9970CED0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04C-EFF0-46CF-89E8-56E35EF7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747-83D0-49F0-93EC-8EAA2D0B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4F8-DFA5-41BD-BD41-ED058A5B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698-E577-4A27-AAF7-C52833E6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3A0-3DD2-440F-8B38-A8267134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8D6-CF5C-45F6-835F-9217A934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A8E-3D9D-4A86-A6A4-17B4B05B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ECC0-9D57-4629-A3F1-2CB35C47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6F46-A1B9-437D-AB36-2F728DC5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BBB1-C7A7-4F66-9623-073590D6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E0F8-85D9-4D7E-B4CC-32FD064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1CBA-6694-48F7-B3B2-437C627D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6A13-09E2-4A1F-B43A-2D3DE773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0D39-8325-442B-9199-A63E1E5B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FDB5-4E0A-4F0E-8570-F4061A1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D7E5-551E-47CC-88EB-BB4A7A96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FD22-5762-4A0A-A8CA-8B0C80DA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D650-FC6C-4E4B-8659-AD9A904B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8500-C2DE-488D-81EC-E095F1C5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E5F8-E62F-46D3-8A65-F01197D5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BCE3F-6EF3-4790-8637-2113947F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B48A-DCFE-40A6-98A7-595D301F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7994-7963-4057-A1EE-14E4553F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9784-C83F-4AAE-8880-5281313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63AC-00AC-4C9E-8D66-4DB0A464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2CD1-36B8-40FB-8CF5-52F4BC4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48AD-68DA-4D87-A3FF-9234DEB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9861-A274-4D1F-8BF8-FD3C86B3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AFE5-2871-445F-9C39-F1D7229E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AEB6-7A39-4DCB-B8ED-6349F3DC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C678F-518E-464F-B71E-514BA110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65D6-0C89-447D-B075-046B4ECF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516B-6858-4CB4-9BD3-122B5988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EBD0-E992-4FE9-83C4-64B44D2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C57BF-9CDB-4DC2-A177-5CC758E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4D86-1053-4F5F-A9E4-3620C6ED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2BCC-6129-48D6-AC3D-4E8C4524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053C-C6C8-41D8-AD71-AC3C4550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A319-0C41-4B43-B9E3-52510DB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D429-28EE-4FA5-A639-B55C29F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449D3-F6B4-4E13-8870-F67804A9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D876-B737-46EA-8B47-556F44D7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075CC-5E89-4440-88B6-5E0D6869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F9144-BF65-4E38-AE1A-EADDC710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E835A-26B5-42A2-BE3C-8B7DB07B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F9B60-2CC9-4598-BD76-EC7B8D12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3E606-A1FD-47F9-8F3D-A66DD830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9FAC-8A91-45A7-ACA8-18C6B5D2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1ECF6-95BC-4E09-BB84-2202BAC4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447B-423A-4C7D-853F-21568D44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CCA9B-26B3-49EC-A649-DF95AEA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8357E-7840-4CAF-810F-EF35846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140CB-E11A-4FE4-97A9-A4679250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B5B1C-C072-4F40-8728-C0DBE070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2834-1F6F-4B0D-B28E-D165E290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1B515-0C68-42EF-ACCD-2116467C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49AE8-77AD-4D8F-87C5-D2D2514A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3ECF-56D5-440D-BD94-CC7B9FA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B2C09-ABF4-43B8-AC64-A0E26594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48B95-B35D-467B-A977-DF91474B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4C83A-DB09-43ED-A842-7FAF3482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6591E-59F4-4B0D-82BD-1D07A4C1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D8A0-918B-476D-AECF-B4664F80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9AC67-94B9-4CCC-B07F-F1FFC999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BCAF-0B2F-4C09-BE93-B2ED4D21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2E767-90D2-416E-A210-60CC487B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ACA1B-52F7-4117-B257-280AB3D2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9B15-5231-487D-9510-3B46A2E2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8BC11-4DC0-4B75-B42B-B0410E6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3F03-FF86-4C19-9CE1-AF9A1F8F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0B091-9BF2-45F6-ADC9-595B5633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24F07-2377-44DE-9248-35CB9B9F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9E31-EE59-4AC0-A7F5-04DBE260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B0D6-22AC-4D76-805A-347024D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88427-8A07-4013-A7C1-5772B5E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F22E1-A89D-4C87-AD5B-04ECD8D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BB637-0A31-4E37-B618-993AA37A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2F9E-1CE2-44C9-96DE-8B072120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E892-4239-4DE5-8835-E5F33CCF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72E2F-52D6-421A-98DA-2AF9F5C6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12A89-190A-42F8-803D-D882E725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DC2BD-D083-4329-A2FE-2B210D5E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D7FF-CCE7-4D27-A15D-2E8B60EC7B2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ED63-46EE-4117-8638-5B12FC0481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F08F-FB6D-47C9-B07A-2E5A22461F9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D3EF-9974-407E-A67A-B824A6738A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5AA1-9B67-44E0-898F-552FB4DAB91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B9CD-A2DE-450C-9743-0B0EB008AB0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9BB0-7B19-4889-8E88-B2F5A0F4A35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798-1D9D-4673-A3C5-45F4468E4AE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CC32-3718-4A76-B387-F53746F732A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4E49-2D7B-45C9-9955-F843D834CF3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04E5-413C-44BD-8724-6FDBA921701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321,4,&#24187;&#28783;&#29255; 4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组合 1"/>
          <p:cNvGrpSpPr/>
          <p:nvPr/>
        </p:nvGrpSpPr>
        <p:grpSpPr>
          <a:xfrm>
            <a:off x="-22320" y="981000"/>
            <a:ext cx="9144000" cy="1467000"/>
            <a:chOff x="-22320" y="981000"/>
            <a:chExt cx="9144000" cy="1467000"/>
          </a:xfrm>
        </p:grpSpPr>
        <p:sp>
          <p:nvSpPr>
            <p:cNvPr id="480" name="圆角矩形 2"/>
            <p:cNvSpPr/>
            <p:nvPr/>
          </p:nvSpPr>
          <p:spPr>
            <a:xfrm>
              <a:off x="-22320" y="98100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4"/>
            <p:cNvSpPr/>
            <p:nvPr/>
          </p:nvSpPr>
          <p:spPr>
            <a:xfrm>
              <a:off x="179280" y="118044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考研经验交流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直接连接符 4"/>
          <p:cNvSpPr/>
          <p:nvPr/>
        </p:nvSpPr>
        <p:spPr>
          <a:xfrm flipV="1">
            <a:off x="-19080" y="620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接连接符 5"/>
          <p:cNvSpPr/>
          <p:nvPr/>
        </p:nvSpPr>
        <p:spPr>
          <a:xfrm flipV="1">
            <a:off x="-54000" y="2838600"/>
            <a:ext cx="9144000" cy="712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图片 7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5184720" cy="40449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8"/>
          <p:cNvSpPr/>
          <p:nvPr/>
        </p:nvSpPr>
        <p:spPr>
          <a:xfrm>
            <a:off x="4714920" y="4500720"/>
            <a:ext cx="30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介绍人： 刘 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  级：工艺</a:t>
            </a:r>
            <a:r>
              <a:rPr b="1" lang="en-US" sz="2800" spc="-1" strike="noStrike">
                <a:solidFill>
                  <a:srgbClr val="0070c0"/>
                </a:solidFill>
                <a:latin typeface="仿宋"/>
                <a:ea typeface="仿宋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12855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中旬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练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翻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课视频题（第三遍）、汤家凤高数线代强化（第二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遍、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丁忠伟《化工原理学习指导》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前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：何凯文作文背诵第四遍、恋练有词第三遍、真题一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：真题每天一套（上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中劲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背诵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真题讲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选择题训练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练习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篇背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业课：真题（模拟考试，归纳总结）、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指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复习笔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后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整状态，注意休息，注意饮食，适当复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37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阳光总在风雨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圆角矩形 15"/>
          <p:cNvSpPr/>
          <p:nvPr/>
        </p:nvSpPr>
        <p:spPr>
          <a:xfrm>
            <a:off x="4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右箭头 16"/>
          <p:cNvSpPr/>
          <p:nvPr/>
        </p:nvSpPr>
        <p:spPr>
          <a:xfrm>
            <a:off x="2085840" y="292248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圆角矩形 17"/>
          <p:cNvSpPr/>
          <p:nvPr/>
        </p:nvSpPr>
        <p:spPr>
          <a:xfrm>
            <a:off x="6945480" y="2708280"/>
            <a:ext cx="15760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圆角矩形 18"/>
          <p:cNvSpPr/>
          <p:nvPr/>
        </p:nvSpPr>
        <p:spPr>
          <a:xfrm>
            <a:off x="3541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右箭头 19"/>
          <p:cNvSpPr/>
          <p:nvPr/>
        </p:nvSpPr>
        <p:spPr>
          <a:xfrm>
            <a:off x="5672160" y="292428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右箭头 20"/>
          <p:cNvSpPr/>
          <p:nvPr/>
        </p:nvSpPr>
        <p:spPr>
          <a:xfrm>
            <a:off x="303120" y="465300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圆角矩形 21"/>
          <p:cNvSpPr/>
          <p:nvPr/>
        </p:nvSpPr>
        <p:spPr>
          <a:xfrm>
            <a:off x="1787400" y="443880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右箭头 22"/>
          <p:cNvSpPr/>
          <p:nvPr/>
        </p:nvSpPr>
        <p:spPr>
          <a:xfrm>
            <a:off x="3840120" y="465444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圆角矩形 24"/>
          <p:cNvSpPr/>
          <p:nvPr/>
        </p:nvSpPr>
        <p:spPr>
          <a:xfrm>
            <a:off x="5118120" y="444024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拟录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25"/>
          <p:cNvSpPr/>
          <p:nvPr/>
        </p:nvSpPr>
        <p:spPr>
          <a:xfrm>
            <a:off x="3541680" y="4073400"/>
            <a:ext cx="1106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等待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26"/>
          <p:cNvSpPr/>
          <p:nvPr/>
        </p:nvSpPr>
        <p:spPr>
          <a:xfrm>
            <a:off x="117360" y="4073400"/>
            <a:ext cx="11066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准备复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7"/>
          <p:cNvSpPr/>
          <p:nvPr/>
        </p:nvSpPr>
        <p:spPr>
          <a:xfrm>
            <a:off x="5353200" y="2384280"/>
            <a:ext cx="1106280" cy="36828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等待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8"/>
          <p:cNvSpPr/>
          <p:nvPr/>
        </p:nvSpPr>
        <p:spPr>
          <a:xfrm>
            <a:off x="1787400" y="2384280"/>
            <a:ext cx="110664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准备初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54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春暖花开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6" name="图片 5" descr=""/>
          <p:cNvPicPr/>
          <p:nvPr/>
        </p:nvPicPr>
        <p:blipFill>
          <a:blip r:embed="rId1"/>
          <a:stretch/>
        </p:blipFill>
        <p:spPr>
          <a:xfrm>
            <a:off x="1720800" y="139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直接连接符 6"/>
          <p:cNvSpPr/>
          <p:nvPr/>
        </p:nvSpPr>
        <p:spPr>
          <a:xfrm flipV="1">
            <a:off x="-20520" y="112500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直接连接符 7"/>
          <p:cNvSpPr/>
          <p:nvPr/>
        </p:nvSpPr>
        <p:spPr>
          <a:xfrm flipV="1">
            <a:off x="-20520" y="6308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矩形 9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34164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5" descr=""/>
          <p:cNvPicPr/>
          <p:nvPr/>
        </p:nvPicPr>
        <p:blipFill>
          <a:blip r:embed="rId2"/>
          <a:stretch/>
        </p:blipFill>
        <p:spPr>
          <a:xfrm>
            <a:off x="4286160" y="2500200"/>
            <a:ext cx="4857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1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考研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2"/>
          <p:cNvSpPr/>
          <p:nvPr/>
        </p:nvSpPr>
        <p:spPr>
          <a:xfrm>
            <a:off x="1143000" y="171468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试总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3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（一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（二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8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院校：北京化工大学化学化工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专业：化学工程与技术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36" descr=""/>
          <p:cNvPicPr/>
          <p:nvPr/>
        </p:nvPicPr>
        <p:blipFill>
          <a:blip r:embed="rId1"/>
          <a:stretch/>
        </p:blipFill>
        <p:spPr>
          <a:xfrm>
            <a:off x="4884840" y="331920"/>
            <a:ext cx="4240080" cy="6029280"/>
          </a:xfrm>
          <a:prstGeom prst="rect">
            <a:avLst/>
          </a:prstGeom>
          <a:ln w="0">
            <a:noFill/>
          </a:ln>
        </p:spPr>
      </p:pic>
      <p:sp>
        <p:nvSpPr>
          <p:cNvPr id="491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标题 1"/>
          <p:cNvSpPr/>
          <p:nvPr/>
        </p:nvSpPr>
        <p:spPr>
          <a:xfrm>
            <a:off x="120600" y="233280"/>
            <a:ext cx="866628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、未来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Group 33"/>
          <p:cNvGrpSpPr/>
          <p:nvPr/>
        </p:nvGrpSpPr>
        <p:grpSpPr>
          <a:xfrm>
            <a:off x="185760" y="1452600"/>
            <a:ext cx="4724280" cy="685800"/>
            <a:chOff x="185760" y="1452600"/>
            <a:chExt cx="4724280" cy="685800"/>
          </a:xfrm>
        </p:grpSpPr>
        <p:sp>
          <p:nvSpPr>
            <p:cNvPr id="495" name="AutoShape 47"/>
            <p:cNvSpPr/>
            <p:nvPr/>
          </p:nvSpPr>
          <p:spPr>
            <a:xfrm>
              <a:off x="566640" y="1571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AutoShape 48"/>
            <p:cNvSpPr/>
            <p:nvPr/>
          </p:nvSpPr>
          <p:spPr>
            <a:xfrm>
              <a:off x="185760" y="145260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 Box 49"/>
            <p:cNvSpPr/>
            <p:nvPr/>
          </p:nvSpPr>
          <p:spPr>
            <a:xfrm>
              <a:off x="1025640" y="1571760"/>
              <a:ext cx="3429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Calibri"/>
                  <a:ea typeface="宋体"/>
                  <a:hlinkClick r:id="rId2"/>
                </a:rPr>
                <a:t>考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Text Box 50"/>
            <p:cNvSpPr/>
            <p:nvPr/>
          </p:nvSpPr>
          <p:spPr>
            <a:xfrm>
              <a:off x="342000" y="1550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Group 33"/>
          <p:cNvGrpSpPr/>
          <p:nvPr/>
        </p:nvGrpSpPr>
        <p:grpSpPr>
          <a:xfrm>
            <a:off x="214200" y="2643120"/>
            <a:ext cx="5114880" cy="685800"/>
            <a:chOff x="214200" y="2643120"/>
            <a:chExt cx="5114880" cy="685800"/>
          </a:xfrm>
        </p:grpSpPr>
        <p:sp>
          <p:nvSpPr>
            <p:cNvPr id="500" name="AutoShape 47"/>
            <p:cNvSpPr/>
            <p:nvPr/>
          </p:nvSpPr>
          <p:spPr>
            <a:xfrm>
              <a:off x="595080" y="2762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AutoShape 48"/>
            <p:cNvSpPr/>
            <p:nvPr/>
          </p:nvSpPr>
          <p:spPr>
            <a:xfrm>
              <a:off x="214200" y="264312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Text Box 49"/>
            <p:cNvSpPr/>
            <p:nvPr/>
          </p:nvSpPr>
          <p:spPr>
            <a:xfrm>
              <a:off x="1900080" y="2801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工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 Box 50"/>
            <p:cNvSpPr/>
            <p:nvPr/>
          </p:nvSpPr>
          <p:spPr>
            <a:xfrm>
              <a:off x="370440" y="27414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Group 33"/>
          <p:cNvGrpSpPr/>
          <p:nvPr/>
        </p:nvGrpSpPr>
        <p:grpSpPr>
          <a:xfrm>
            <a:off x="214200" y="3929040"/>
            <a:ext cx="4714560" cy="685800"/>
            <a:chOff x="214200" y="3929040"/>
            <a:chExt cx="4714560" cy="685800"/>
          </a:xfrm>
        </p:grpSpPr>
        <p:sp>
          <p:nvSpPr>
            <p:cNvPr id="505" name="AutoShape 47"/>
            <p:cNvSpPr/>
            <p:nvPr/>
          </p:nvSpPr>
          <p:spPr>
            <a:xfrm>
              <a:off x="375480" y="4057560"/>
              <a:ext cx="45532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AutoShape 48"/>
            <p:cNvSpPr/>
            <p:nvPr/>
          </p:nvSpPr>
          <p:spPr>
            <a:xfrm>
              <a:off x="214200" y="3929040"/>
              <a:ext cx="71892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 Box 49"/>
            <p:cNvSpPr/>
            <p:nvPr/>
          </p:nvSpPr>
          <p:spPr>
            <a:xfrm>
              <a:off x="725040" y="4103640"/>
              <a:ext cx="35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国留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Text Box 50"/>
            <p:cNvSpPr/>
            <p:nvPr/>
          </p:nvSpPr>
          <p:spPr>
            <a:xfrm>
              <a:off x="385920" y="4027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Group 33"/>
          <p:cNvGrpSpPr/>
          <p:nvPr/>
        </p:nvGrpSpPr>
        <p:grpSpPr>
          <a:xfrm>
            <a:off x="214200" y="5286240"/>
            <a:ext cx="4724280" cy="685800"/>
            <a:chOff x="214200" y="5286240"/>
            <a:chExt cx="4724280" cy="685800"/>
          </a:xfrm>
        </p:grpSpPr>
        <p:sp>
          <p:nvSpPr>
            <p:cNvPr id="510" name="AutoShape 47"/>
            <p:cNvSpPr/>
            <p:nvPr/>
          </p:nvSpPr>
          <p:spPr>
            <a:xfrm>
              <a:off x="595080" y="5405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AutoShape 48"/>
            <p:cNvSpPr/>
            <p:nvPr/>
          </p:nvSpPr>
          <p:spPr>
            <a:xfrm>
              <a:off x="214200" y="528624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 Box 49"/>
            <p:cNvSpPr/>
            <p:nvPr/>
          </p:nvSpPr>
          <p:spPr>
            <a:xfrm>
              <a:off x="2228760" y="544968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 Box 50"/>
            <p:cNvSpPr/>
            <p:nvPr/>
          </p:nvSpPr>
          <p:spPr>
            <a:xfrm>
              <a:off x="370440" y="5384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如何获取各大院校的招生信息（专业、人数、报录比、专业课科目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上查询：主要有学校官网、考研帮、研招网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木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几大网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咨询学长学姐（最直接最有效的方式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33"/>
          <p:cNvGrpSpPr/>
          <p:nvPr/>
        </p:nvGrpSpPr>
        <p:grpSpPr>
          <a:xfrm>
            <a:off x="457200" y="274680"/>
            <a:ext cx="8228880" cy="1142640"/>
            <a:chOff x="457200" y="274680"/>
            <a:chExt cx="8228880" cy="1142640"/>
          </a:xfrm>
        </p:grpSpPr>
        <p:sp>
          <p:nvSpPr>
            <p:cNvPr id="516" name="AutoShape 47"/>
            <p:cNvSpPr/>
            <p:nvPr/>
          </p:nvSpPr>
          <p:spPr>
            <a:xfrm>
              <a:off x="1120320" y="473040"/>
              <a:ext cx="75657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考研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AutoShape 48"/>
            <p:cNvSpPr/>
            <p:nvPr/>
          </p:nvSpPr>
          <p:spPr>
            <a:xfrm>
              <a:off x="457200" y="274680"/>
              <a:ext cx="1194480" cy="114264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 Box 50"/>
            <p:cNvSpPr/>
            <p:nvPr/>
          </p:nvSpPr>
          <p:spPr>
            <a:xfrm>
              <a:off x="830880" y="438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购买什么样的资料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P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知米背单词、朱伟恋练有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文：何凯文作文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阅读：何凯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难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黄皮书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真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完型：星火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         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0070c0"/>
                </a:solidFill>
                <a:latin typeface="华文仿宋"/>
                <a:ea typeface="华文仿宋"/>
              </a:rPr>
              <a:t>说三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7030a0"/>
                </a:solidFill>
                <a:latin typeface="华文仿宋"/>
                <a:ea typeface="华文仿宋"/>
              </a:rPr>
              <a:t>靠自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复习：同济六版高数课本、线性代数同济五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学习效率更高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巩固与提高：汤家凤强化视频、汤家凤数学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李永乐线性辅导书、汤家凤高数复习全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冲刺阶段：汤家凤冲刺视频、汤家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真题解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政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基础提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刷三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风中劲草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冲刺复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真题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重点：关注微信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肖秀荣教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老蒋政治蒋中挺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专业课（以北京化工大学大学版为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43624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人考试用书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科教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天大第二版《化工原理》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陈敏恒《化工原理》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习题练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丁忠伟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《化工原理学习指导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北京化工大学化工原理考研真题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内容占位符 2" descr="微信图片_20170426225512"/>
          <p:cNvPicPr/>
          <p:nvPr/>
        </p:nvPicPr>
        <p:blipFill>
          <a:blip r:embed="rId1"/>
          <a:stretch/>
        </p:blipFill>
        <p:spPr>
          <a:xfrm>
            <a:off x="49849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习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2"/>
          <p:cNvSpPr/>
          <p:nvPr/>
        </p:nvSpPr>
        <p:spPr>
          <a:xfrm>
            <a:off x="1143000" y="1714680"/>
            <a:ext cx="7000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阶段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：单词、长难句（结合视频）、四六级真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数学：高数课本上下册、线代课本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复习全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上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每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基础课视频题（第二遍）、汤家凤高数线代强化（第一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课本复习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2:10:31Z</dcterms:created>
  <dc:creator>Administrator</dc:creator>
  <dc:description/>
  <dc:language>en-US</dc:language>
  <cp:lastModifiedBy>Administrator</cp:lastModifiedBy>
  <dcterms:modified xsi:type="dcterms:W3CDTF">2017-04-27T10:07:41Z</dcterms:modified>
  <cp:revision>1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