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86DC02-1730-4709-AD6F-137634CC0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3438C1-3864-410F-8006-A0B18374C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363545-9EE9-4287-80F4-2ECE9A8F3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4F9C58-DBED-4763-8181-F8946724D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DD2812-20E4-4B26-9644-EFE8A23BD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3E1B6D-03AE-4F75-84B6-D19349462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4911E5-4316-433D-B857-FDC4001BB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3DB711-FF76-40BC-9734-BFDF589CB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D33D33-4BAF-4174-AF31-007708D95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0160A3-4077-4E80-882F-CE153A0BD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C3C6A8-9409-4719-9B13-6C80B1239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57EF41-287C-4AEF-8B34-FB1B4CA61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39F706-DEAE-44EB-A85C-58056D46E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309833-803A-4908-A714-1B9E3B46B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4826AB-3D69-4A99-B42B-ED4AE08D0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2C6C4E-6CA2-46E4-B1EE-B4A666491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BD0248-EEF5-47B8-94F9-97A13ABF6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7E1D69-A842-4F77-926F-E7A171249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4FC29E-F22D-4478-B161-61BD2B89E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703D68-4F0D-4159-92D6-C200CF5DC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CF9588-DD18-4D17-8F2F-834267CAC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45B5F6-885B-47D3-BE9F-14C7EF7AD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754C37-A9AF-4988-B80E-C1E583268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59D45E-5BB8-4DBB-B395-015D1BC38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0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1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7978C7-6B4D-4CF1-898C-3350FCB09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393D01-1B40-42A1-962B-B1E5301DD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539567-A9D8-427D-82F9-79A73C58A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6D3B6C-90F6-49FE-B136-084EA4AC1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C04F5C-6017-4FDD-9C7D-95AC68E6D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7974DB-797E-4263-B7D5-2C232AE0E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92800F-509E-4E0A-B6EA-3ED275E43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C384F5-0049-4613-9C4E-804FAC7FE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83D74B-0A09-4D0D-A87A-F72A417DF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B7AEF6-182C-4A0E-B2E9-0D8E2D8F4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8EC34-B314-434C-85CF-0009F5A6C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44407B-4D17-44AE-AE8A-03DD85C52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D46247-CEB7-4AC9-8979-F79680BE9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F9D025-7591-47F3-9E0C-4E8CD1ABB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4E98A0-BA46-462E-9C77-651A4A578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C249AF-E36D-4A0E-8829-3C0D0EFB0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106F4F-1146-448E-875F-A9C1B9C71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7AB47D-C2AC-4DCE-95FF-89E88E89A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518EA6-B1A4-47CD-A0B9-3F0EED90A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AAC4AD-916D-4175-A4CF-054E519BA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F608C9-5261-40BB-B04C-B5ECBEAE0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50A93-D66C-437F-99D7-443AF4EB0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99AEC9-13BD-4A71-9508-A5A7F07CD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99694F-36D3-4134-96A8-9FDA92B81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FBF4D3-E76A-4D42-ADCF-084008AC0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5E2730-00B9-463A-9FCC-E9B0F79D1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8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8F940E-F0C4-474E-B72B-A8DCC076E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33E41F-A6D8-4780-9398-EF173A175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E07DC1-BC6A-440E-8E04-CE0F91708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E8B87A-93CF-4ACF-B264-0A62C4F09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7F26C8-0007-4024-B393-B3A3F37E1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792C81-91DC-49CD-A5FC-81575A780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DCEB5-B0EA-4607-8EBA-3DBA70711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83582C-7036-4691-858E-4F1017877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809527-B3B9-45A5-9703-B3ACE7A42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50EDA6-042A-4076-8627-A8761C201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4B7868-EC52-452B-AA03-F5B3299A1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6FA15F-3B31-4F27-B9A2-F793CFBBF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90FAF5-57E5-4BA1-89D7-08FC125D5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42D77C-C052-4CA0-8037-7097F8110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DF995A-2A05-4BB4-96C8-D0265FC33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6BD4353-2C78-4D21-AA0B-54EB2F279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866ABB-B1D3-4A56-A6A6-35EBE8132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86F53-AD8F-4238-BC78-703FE5322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86FF45-F310-4697-9F2E-DF5DE5DC2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713937-BD57-4604-8377-51AC78036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7C5F93-BB28-414B-A51B-14F5069A3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924A99-F3A6-4415-B9F5-99B96C7EF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B60B3F-9B72-4571-9345-4D8610CA0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CB2AD94-7936-48B0-9CFC-2CDB13329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2765BF-086D-4F3F-A91B-44EEA83BF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85DF11-B79D-4220-8540-A7F2476A9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8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9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49C782-5B7E-418D-829F-9DDE4BC00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D1B6D47-B855-4EE0-86EB-D0CDAEAD8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B5817-8A10-4BB9-9293-CE3F37C5B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9A5D68D-714D-4E60-9037-45F504C0C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9D1D803-8777-43A6-A08F-3EF5B4401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A3B5030-EB74-4539-9E19-DC324A464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11C0764-75D2-4510-872D-5D717E55B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CED35E1-BAFA-46E6-B1B2-68A3DE996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6E0AFCF-1C06-4583-B41A-D27815FB8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2D6CE30-3AAD-46A8-9523-71AE64764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E30BC3E-6438-47F1-9869-45759DFB8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77BD174-6B29-4FE3-AD73-830556A06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3076878-80D6-4DB9-83BF-62EE76885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4B22B-8DA1-4CBD-BD6C-52FC5A2F2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33EFBF2-073C-4E53-9961-2402D0E7F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DCFA1DC-4836-4284-8D96-A8169893E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C8905B0-3AD3-42DA-AD0F-2FBBF5D91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087EEBE-0C31-4DD0-AECB-45AF5C947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45ED273-8FF0-4DE3-94EA-15425C9A5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2785DD5-138A-4528-B0B3-78D1B7B3C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DD0B2FB-EFCD-47DC-9EBA-C9108DCF7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21282D5-8074-4498-A012-781D65380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0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9DDA772-AED5-4E06-8C10-B9BCF001F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F290C4C-3148-48D0-AA86-9DA65056A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038A6-3A49-4A76-8962-81B8C0158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9E7913F-BFB3-499B-95E2-0164A6FC9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2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B61E5F6-2532-4BE0-A14B-EACB594A2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7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8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9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09EDC09-7CFA-43DA-B91A-FEBDCC4B2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BA6C7F0-B4A7-4EC7-9875-DAB28895B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F62F1BA-ACFA-4424-BA07-78D215646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1CB6B89-EE07-4D76-A306-D4D9EF15C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088306B-4F0B-40D2-9972-87FF6099E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0A4FE46-3F45-404F-BE32-742179A2A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28F0F98-8F89-4BCC-8F92-F71A0D06A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C050C24-A2FA-4759-8E0D-8D35A12ED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C9B1E8-3286-4A93-9610-80192B48C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16213-6431-49DA-B956-31928C07D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3E65AA2-E7AC-4118-8E97-DAFF8FD8F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9590620-D075-45CC-898C-850E046AC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C40C45A-9BA1-46B3-84EF-CD1D46978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D90E586-60A4-409B-B9A1-C2E6B4107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6CF9F17-DBAD-47C4-BC0B-EACC8080F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4276711-9A53-4AEF-8D96-46DC198B3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3E348C8-6CD0-4114-92F8-D1401DDC2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55E8BB4-BE5C-49DB-B219-A2E119BA1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9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1672165-3386-4344-909F-0015FECF9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C198EF0-89B1-4528-8CE3-878FC04C0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013AA-7966-43C0-9775-9554B995B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6FC8FA7-99BB-468B-AC16-177427533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2D42E74-C1FD-44A4-BF64-415B63242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ED144CC-594A-4620-B305-04257F32B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C231C0E-2204-4399-9CF1-CA251C8D0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86D5AB7-F97D-4BCE-808F-153D91664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1737B92-0E4D-4AB1-AAEB-F9D60C7A2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49DA2A9-C52C-4403-852A-A22BAF360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155F4-7013-4460-825B-9ABC05E2C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4070D-66BC-4692-8AAC-02F6A5F10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31209-FA00-4A0B-84B9-73F35C991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55F5C4-B340-46BD-A3BD-09B8E8EF1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4212FA-46BF-4131-B1D6-1B0B64854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22F1C1-658B-4209-9BFF-1562DE40D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550319-2CB5-44D4-BAA9-9BF3A7A94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079CD1-54C6-4F68-B4AD-5FDF0D337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28327A-E76B-4EB9-8117-F5671EA28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0BA127-60E6-4E18-A9F0-D67ABB1A2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8DB769-2E78-42C7-BD7F-E5299F288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12E6DC-AFDA-4F87-B842-2FF39D686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D6D30F-8F4D-4FBD-814A-A21729440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10F32B-77F6-41DF-A047-0003A73F1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130015-F571-4509-90B1-236F73BD0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FA729E-79E5-4493-9C0E-B8EDBB465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1D7059-EB62-4AAC-8AD8-19307414C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038F02-45BA-455D-9493-E19A941AC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EE5A80-4AAE-4A60-9761-D075DE26B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3FFB94-8963-4F12-905B-E0BE1327B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334DAF-210F-4E47-B841-E4B987AD8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5EFC8F-AC1C-4918-B319-E96A495BD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1CEB55-8447-418B-AA5E-1101BD222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1BDE1B-8CD3-4306-B32E-7492AC6A3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FFB5D2-5794-4AD4-AFAC-C6D3EA0B4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9E22F9-7A5D-470E-8C5C-052A78062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06F392-5AF9-4331-AA62-8099535A0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C8E11B-5ADB-44CF-881D-63C0CCF4D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9DDC92-D404-467D-91A1-5EDAED199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EBE674-B112-45A1-9504-988177709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BBC47D-40EB-4DCB-B9C8-E69361F6B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566484-BF3D-4735-8BFF-619871CDD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99E7C1-74C3-421C-BB40-011F7F457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769603-4E47-4BC7-B010-A996D1B9D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B59E76-D15D-4F12-9C77-98E7A8177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EE59B4-87E6-4AF2-AD3E-D3C606C28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52262B-C636-4E9F-8A73-1929FFA30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4CFC57-EE62-4303-975A-A97F72DA7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6A5E07-42EA-4197-973D-3D0AD6BA3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17AE0B-8D14-4966-8062-F91581818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BA796C-CCE2-4F5F-B331-307EC424F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8B47B7-C0D8-43D7-B5BB-4BED66199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AB9F86-5B53-4310-A31C-0CF06C85F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47D43C-183E-4757-9556-87F37807D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342169-E74B-4DA7-96A5-170EA211D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11F626-B82E-4032-BDC0-BD9A5C3A4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785C4E-D54C-45A0-A5B8-C3B913F1C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629772-CF56-4B3A-8108-2C9148918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DD039D-C2A9-4B20-85F5-39C209260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D36194-5FB4-4B89-9E51-EFAB58B58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2F46E8-91C7-49D5-8EB9-95CC60546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DAE0E2-6D79-4459-B81F-3B2E103E4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3A5B6-B38E-4BD8-A245-4AB4983E8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4818A3-84C8-484F-A3E9-00744F8EF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F117C9-487F-410F-A0AF-41BCA6636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329067-E2DD-4CA6-9CBB-AF3C0BA41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5D3971-69AF-4C69-879D-2D61E65F4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8D397E-75D9-4F17-8B1C-985032EFD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29ECCF-31D9-4BE0-BA63-6B03350DF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06C723-D458-4EC3-9D55-330304911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43FFFA-D354-4051-8845-6A8AA24E9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F4B723-6DF6-43F4-B02A-72A28681D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425A4A-AF2F-48D6-800C-6D9CA3530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A93D9A-E7B0-43ED-AECA-3FBCA9E9A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490B55-DCCE-415C-B8D7-FFE65C1C5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746275-A878-4FD9-9732-2D562DA88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6E7EFE-D28D-4294-9CC1-95B501B48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ACF05D-087F-4CD2-B7D1-4E7430945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390AE2-6A82-4EF5-93D9-337906FA1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253125-73E2-4185-B918-F8B1912EA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16B894-579A-47EC-8FF0-6A3E1648A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2BBEFF-344F-4FD8-BDD3-79ADF352C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205D26-2563-47AF-B29D-545D87E82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82E687-59B4-478D-860C-42D0979E6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5888A0-823C-4773-9899-74D9111A9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893B91-F0D7-428D-AF67-4B4C854A6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5429BB-06B2-4D7F-B5B2-4D1DBC0C3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52B1F2-7832-4EB6-A7F6-A7FF66DF9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34C61C-190B-45B1-BE72-6E5C709DB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8D4EB6-21EC-4957-921F-99FD9EFA0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4666D1-B500-4700-9178-122103BFF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3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83969E-3372-49FF-99EB-3665424E8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9770FC-5B25-4648-BF6C-5EEAFEA85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6B727B-A1A6-42E5-90EC-61BE96452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9B3EC8-A4CF-482B-B826-3B59EB498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162000" y="5716440"/>
            <a:ext cx="985680" cy="98604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297080" y="5716440"/>
            <a:ext cx="985680" cy="9874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433600" y="5716440"/>
            <a:ext cx="986040" cy="98604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162000" y="4581360"/>
            <a:ext cx="985680" cy="98604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6"/>
          <p:cNvSpPr/>
          <p:nvPr/>
        </p:nvSpPr>
        <p:spPr>
          <a:xfrm flipH="1">
            <a:off x="2124000" y="677880"/>
            <a:ext cx="702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5408640" y="106200"/>
            <a:ext cx="3686040" cy="1881360"/>
            <a:chOff x="5408640" y="106200"/>
            <a:chExt cx="3686040" cy="1881360"/>
          </a:xfrm>
        </p:grpSpPr>
        <p:sp>
          <p:nvSpPr>
            <p:cNvPr id="6" name="Freeform 8"/>
            <p:cNvSpPr/>
            <p:nvPr/>
          </p:nvSpPr>
          <p:spPr>
            <a:xfrm>
              <a:off x="5408640" y="672840"/>
              <a:ext cx="1789200" cy="898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461280" y="671400"/>
              <a:ext cx="2633400" cy="1316160"/>
            </a:xfrm>
            <a:prstGeom prst="pie">
              <a:avLst/>
            </a:prstGeom>
            <a:solidFill>
              <a:srgbClr val="f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113520" y="280800"/>
              <a:ext cx="789120" cy="395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7356600" y="106200"/>
              <a:ext cx="1123920" cy="568440"/>
            </a:xfrm>
            <a:prstGeom prst="pie">
              <a:avLst/>
            </a:prstGeom>
            <a:solidFill>
              <a:srgbClr val="f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Rectangle 12"/>
          <p:cNvSpPr/>
          <p:nvPr/>
        </p:nvSpPr>
        <p:spPr>
          <a:xfrm>
            <a:off x="0" y="620640"/>
            <a:ext cx="5003640" cy="71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1080"/>
            <a:ext cx="82152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455760" y="1596960"/>
            <a:ext cx="82152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6560" indent="-46656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79480" indent="-412920">
              <a:spcBef>
                <a:spcPts val="799"/>
              </a:spcBef>
              <a:buClr>
                <a:srgbClr val="f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41280" indent="-37764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746360" indent="-378000">
              <a:spcBef>
                <a:spcPts val="799"/>
              </a:spcBef>
              <a:buClr>
                <a:srgbClr val="f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8920" indent="-35856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8920" indent="-35856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8920" indent="-35856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461880" y="6227280"/>
            <a:ext cx="2160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sldNum" idx="2"/>
          </p:nvPr>
        </p:nvSpPr>
        <p:spPr>
          <a:xfrm>
            <a:off x="6635880" y="6227280"/>
            <a:ext cx="20174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A5182-013D-422D-ABBF-F5105C723B1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ftr" idx="3"/>
          </p:nvPr>
        </p:nvSpPr>
        <p:spPr>
          <a:xfrm>
            <a:off x="3161880" y="6227280"/>
            <a:ext cx="29336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04" name="Freeform 11"/>
            <p:cNvSpPr/>
            <p:nvPr/>
          </p:nvSpPr>
          <p:spPr>
            <a:xfrm>
              <a:off x="0" y="2575080"/>
              <a:ext cx="69840" cy="6260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Freeform 12"/>
            <p:cNvSpPr/>
            <p:nvPr/>
          </p:nvSpPr>
          <p:spPr>
            <a:xfrm>
              <a:off x="89280" y="3156480"/>
              <a:ext cx="449280" cy="23223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Freeform 13"/>
            <p:cNvSpPr/>
            <p:nvPr/>
          </p:nvSpPr>
          <p:spPr>
            <a:xfrm>
              <a:off x="560520" y="5447160"/>
              <a:ext cx="423360" cy="1420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Freeform 14"/>
            <p:cNvSpPr/>
            <p:nvPr/>
          </p:nvSpPr>
          <p:spPr>
            <a:xfrm>
              <a:off x="666720" y="6504120"/>
              <a:ext cx="118800" cy="3632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Freeform 15"/>
            <p:cNvSpPr/>
            <p:nvPr/>
          </p:nvSpPr>
          <p:spPr>
            <a:xfrm>
              <a:off x="69840" y="3201120"/>
              <a:ext cx="570960" cy="33285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Freeform 16"/>
            <p:cNvSpPr/>
            <p:nvPr/>
          </p:nvSpPr>
          <p:spPr>
            <a:xfrm>
              <a:off x="15480" y="228600"/>
              <a:ext cx="73800" cy="29278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Freeform 17"/>
            <p:cNvSpPr/>
            <p:nvPr/>
          </p:nvSpPr>
          <p:spPr>
            <a:xfrm>
              <a:off x="54360" y="2944080"/>
              <a:ext cx="54360" cy="493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Freeform 18"/>
            <p:cNvSpPr/>
            <p:nvPr/>
          </p:nvSpPr>
          <p:spPr>
            <a:xfrm>
              <a:off x="534600" y="5478840"/>
              <a:ext cx="131760" cy="1024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Freeform 19"/>
            <p:cNvSpPr/>
            <p:nvPr/>
          </p:nvSpPr>
          <p:spPr>
            <a:xfrm>
              <a:off x="538560" y="1398960"/>
              <a:ext cx="1442520" cy="4048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Freeform 20"/>
            <p:cNvSpPr/>
            <p:nvPr/>
          </p:nvSpPr>
          <p:spPr>
            <a:xfrm>
              <a:off x="640800" y="6530040"/>
              <a:ext cx="112320" cy="3373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Freeform 21"/>
            <p:cNvSpPr/>
            <p:nvPr/>
          </p:nvSpPr>
          <p:spPr>
            <a:xfrm>
              <a:off x="534600" y="5359680"/>
              <a:ext cx="25560" cy="2217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Freeform 22"/>
            <p:cNvSpPr/>
            <p:nvPr/>
          </p:nvSpPr>
          <p:spPr>
            <a:xfrm>
              <a:off x="590400" y="6244920"/>
              <a:ext cx="165600" cy="6224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617" name="Freeform 27"/>
            <p:cNvSpPr/>
            <p:nvPr/>
          </p:nvSpPr>
          <p:spPr>
            <a:xfrm>
              <a:off x="20520" y="0"/>
              <a:ext cx="409320" cy="4401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28"/>
            <p:cNvSpPr/>
            <p:nvPr/>
          </p:nvSpPr>
          <p:spPr>
            <a:xfrm>
              <a:off x="453960" y="4316400"/>
              <a:ext cx="350640" cy="15807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reeform 29"/>
            <p:cNvSpPr/>
            <p:nvPr/>
          </p:nvSpPr>
          <p:spPr>
            <a:xfrm>
              <a:off x="831600" y="5862960"/>
              <a:ext cx="357120" cy="990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Freeform 30"/>
            <p:cNvSpPr/>
            <p:nvPr/>
          </p:nvSpPr>
          <p:spPr>
            <a:xfrm>
              <a:off x="429840" y="4364280"/>
              <a:ext cx="457200" cy="22359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Freeform 31"/>
            <p:cNvSpPr/>
            <p:nvPr/>
          </p:nvSpPr>
          <p:spPr>
            <a:xfrm>
              <a:off x="385560" y="1288800"/>
              <a:ext cx="144360" cy="30272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32"/>
            <p:cNvSpPr/>
            <p:nvPr/>
          </p:nvSpPr>
          <p:spPr>
            <a:xfrm>
              <a:off x="919080" y="6571800"/>
              <a:ext cx="110880" cy="2815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33"/>
            <p:cNvSpPr/>
            <p:nvPr/>
          </p:nvSpPr>
          <p:spPr>
            <a:xfrm>
              <a:off x="414000" y="4107600"/>
              <a:ext cx="68040" cy="5115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34"/>
            <p:cNvSpPr/>
            <p:nvPr/>
          </p:nvSpPr>
          <p:spPr>
            <a:xfrm>
              <a:off x="804600" y="3145680"/>
              <a:ext cx="1168560" cy="27169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35"/>
            <p:cNvSpPr/>
            <p:nvPr/>
          </p:nvSpPr>
          <p:spPr>
            <a:xfrm>
              <a:off x="887400" y="6600600"/>
              <a:ext cx="99720" cy="2527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36"/>
            <p:cNvSpPr/>
            <p:nvPr/>
          </p:nvSpPr>
          <p:spPr>
            <a:xfrm>
              <a:off x="804600" y="5897160"/>
              <a:ext cx="114120" cy="6742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37"/>
            <p:cNvSpPr/>
            <p:nvPr/>
          </p:nvSpPr>
          <p:spPr>
            <a:xfrm>
              <a:off x="804600" y="5772600"/>
              <a:ext cx="31680" cy="2278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38"/>
            <p:cNvSpPr/>
            <p:nvPr/>
          </p:nvSpPr>
          <p:spPr>
            <a:xfrm>
              <a:off x="831600" y="6322680"/>
              <a:ext cx="174600" cy="53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Freeform 11"/>
          <p:cNvSpPr/>
          <p:nvPr/>
        </p:nvSpPr>
        <p:spPr>
          <a:xfrm flipV="1">
            <a:off x="0" y="710280"/>
            <a:ext cx="1359000" cy="507960"/>
          </a:xfrm>
          <a:prstGeom prst="pie">
            <a:avLst/>
          </a:pr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 type="dt" idx="28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 type="ftr" idx="29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 type="sldNum" idx="30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74BDC-BE2D-4ABE-8E1C-1C583AABE611}" type="slidenum">
              <a:rPr b="0" lang="zh-CN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2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73" name="Freeform 11"/>
            <p:cNvSpPr/>
            <p:nvPr/>
          </p:nvSpPr>
          <p:spPr>
            <a:xfrm>
              <a:off x="0" y="2575080"/>
              <a:ext cx="69840" cy="6260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Freeform 12"/>
            <p:cNvSpPr/>
            <p:nvPr/>
          </p:nvSpPr>
          <p:spPr>
            <a:xfrm>
              <a:off x="89280" y="3156480"/>
              <a:ext cx="449280" cy="23223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Freeform 13"/>
            <p:cNvSpPr/>
            <p:nvPr/>
          </p:nvSpPr>
          <p:spPr>
            <a:xfrm>
              <a:off x="560520" y="5447160"/>
              <a:ext cx="423360" cy="1420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Freeform 14"/>
            <p:cNvSpPr/>
            <p:nvPr/>
          </p:nvSpPr>
          <p:spPr>
            <a:xfrm>
              <a:off x="666720" y="6504120"/>
              <a:ext cx="118800" cy="3632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Freeform 15"/>
            <p:cNvSpPr/>
            <p:nvPr/>
          </p:nvSpPr>
          <p:spPr>
            <a:xfrm>
              <a:off x="69840" y="3201120"/>
              <a:ext cx="570960" cy="33285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Freeform 16"/>
            <p:cNvSpPr/>
            <p:nvPr/>
          </p:nvSpPr>
          <p:spPr>
            <a:xfrm>
              <a:off x="15480" y="228600"/>
              <a:ext cx="73800" cy="29278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Freeform 17"/>
            <p:cNvSpPr/>
            <p:nvPr/>
          </p:nvSpPr>
          <p:spPr>
            <a:xfrm>
              <a:off x="54360" y="2944080"/>
              <a:ext cx="54360" cy="493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Freeform 18"/>
            <p:cNvSpPr/>
            <p:nvPr/>
          </p:nvSpPr>
          <p:spPr>
            <a:xfrm>
              <a:off x="534600" y="5478840"/>
              <a:ext cx="131760" cy="1024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Freeform 19"/>
            <p:cNvSpPr/>
            <p:nvPr/>
          </p:nvSpPr>
          <p:spPr>
            <a:xfrm>
              <a:off x="538560" y="1398960"/>
              <a:ext cx="1442520" cy="4048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Freeform 20"/>
            <p:cNvSpPr/>
            <p:nvPr/>
          </p:nvSpPr>
          <p:spPr>
            <a:xfrm>
              <a:off x="640800" y="6530040"/>
              <a:ext cx="112320" cy="3373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Freeform 21"/>
            <p:cNvSpPr/>
            <p:nvPr/>
          </p:nvSpPr>
          <p:spPr>
            <a:xfrm>
              <a:off x="534600" y="5359680"/>
              <a:ext cx="25560" cy="2217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Freeform 22"/>
            <p:cNvSpPr/>
            <p:nvPr/>
          </p:nvSpPr>
          <p:spPr>
            <a:xfrm>
              <a:off x="590400" y="6244920"/>
              <a:ext cx="165600" cy="6224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5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686" name="Freeform 27"/>
            <p:cNvSpPr/>
            <p:nvPr/>
          </p:nvSpPr>
          <p:spPr>
            <a:xfrm>
              <a:off x="20520" y="0"/>
              <a:ext cx="409320" cy="4401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Freeform 28"/>
            <p:cNvSpPr/>
            <p:nvPr/>
          </p:nvSpPr>
          <p:spPr>
            <a:xfrm>
              <a:off x="453960" y="4316400"/>
              <a:ext cx="350640" cy="15807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Freeform 29"/>
            <p:cNvSpPr/>
            <p:nvPr/>
          </p:nvSpPr>
          <p:spPr>
            <a:xfrm>
              <a:off x="831600" y="5862960"/>
              <a:ext cx="357120" cy="990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Freeform 30"/>
            <p:cNvSpPr/>
            <p:nvPr/>
          </p:nvSpPr>
          <p:spPr>
            <a:xfrm>
              <a:off x="429840" y="4364280"/>
              <a:ext cx="457200" cy="22359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Freeform 31"/>
            <p:cNvSpPr/>
            <p:nvPr/>
          </p:nvSpPr>
          <p:spPr>
            <a:xfrm>
              <a:off x="385560" y="1288800"/>
              <a:ext cx="144360" cy="30272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32"/>
            <p:cNvSpPr/>
            <p:nvPr/>
          </p:nvSpPr>
          <p:spPr>
            <a:xfrm>
              <a:off x="919080" y="6571800"/>
              <a:ext cx="110880" cy="2815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33"/>
            <p:cNvSpPr/>
            <p:nvPr/>
          </p:nvSpPr>
          <p:spPr>
            <a:xfrm>
              <a:off x="414000" y="4107600"/>
              <a:ext cx="68040" cy="5115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34"/>
            <p:cNvSpPr/>
            <p:nvPr/>
          </p:nvSpPr>
          <p:spPr>
            <a:xfrm>
              <a:off x="804600" y="3145680"/>
              <a:ext cx="1168560" cy="27169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35"/>
            <p:cNvSpPr/>
            <p:nvPr/>
          </p:nvSpPr>
          <p:spPr>
            <a:xfrm>
              <a:off x="887400" y="6600600"/>
              <a:ext cx="99720" cy="2527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36"/>
            <p:cNvSpPr/>
            <p:nvPr/>
          </p:nvSpPr>
          <p:spPr>
            <a:xfrm>
              <a:off x="804600" y="5897160"/>
              <a:ext cx="114120" cy="6742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37"/>
            <p:cNvSpPr/>
            <p:nvPr/>
          </p:nvSpPr>
          <p:spPr>
            <a:xfrm>
              <a:off x="804600" y="5772600"/>
              <a:ext cx="31680" cy="2278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38"/>
            <p:cNvSpPr/>
            <p:nvPr/>
          </p:nvSpPr>
          <p:spPr>
            <a:xfrm>
              <a:off x="831600" y="6322680"/>
              <a:ext cx="174600" cy="53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8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Freeform 11"/>
          <p:cNvSpPr/>
          <p:nvPr/>
        </p:nvSpPr>
        <p:spPr>
          <a:xfrm flipV="1">
            <a:off x="0" y="4909320"/>
            <a:ext cx="1359000" cy="507960"/>
          </a:xfrm>
          <a:prstGeom prst="pie">
            <a:avLst/>
          </a:pr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3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3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33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6AF4E-49A6-4DF9-B651-3AD251C0216B}" type="slidenum">
              <a:rPr b="0" lang="zh-CN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1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742" name="Freeform 11"/>
            <p:cNvSpPr/>
            <p:nvPr/>
          </p:nvSpPr>
          <p:spPr>
            <a:xfrm>
              <a:off x="0" y="2575080"/>
              <a:ext cx="69840" cy="6260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Freeform 12"/>
            <p:cNvSpPr/>
            <p:nvPr/>
          </p:nvSpPr>
          <p:spPr>
            <a:xfrm>
              <a:off x="89280" y="3156480"/>
              <a:ext cx="449280" cy="23223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Freeform 13"/>
            <p:cNvSpPr/>
            <p:nvPr/>
          </p:nvSpPr>
          <p:spPr>
            <a:xfrm>
              <a:off x="560520" y="5447160"/>
              <a:ext cx="423360" cy="1420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Freeform 14"/>
            <p:cNvSpPr/>
            <p:nvPr/>
          </p:nvSpPr>
          <p:spPr>
            <a:xfrm>
              <a:off x="666720" y="6504120"/>
              <a:ext cx="118800" cy="3632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Freeform 15"/>
            <p:cNvSpPr/>
            <p:nvPr/>
          </p:nvSpPr>
          <p:spPr>
            <a:xfrm>
              <a:off x="69840" y="3201120"/>
              <a:ext cx="570960" cy="33285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Freeform 16"/>
            <p:cNvSpPr/>
            <p:nvPr/>
          </p:nvSpPr>
          <p:spPr>
            <a:xfrm>
              <a:off x="15480" y="228600"/>
              <a:ext cx="73800" cy="29278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Freeform 17"/>
            <p:cNvSpPr/>
            <p:nvPr/>
          </p:nvSpPr>
          <p:spPr>
            <a:xfrm>
              <a:off x="54360" y="2944080"/>
              <a:ext cx="54360" cy="493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Freeform 18"/>
            <p:cNvSpPr/>
            <p:nvPr/>
          </p:nvSpPr>
          <p:spPr>
            <a:xfrm>
              <a:off x="534600" y="5478840"/>
              <a:ext cx="131760" cy="1024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Freeform 19"/>
            <p:cNvSpPr/>
            <p:nvPr/>
          </p:nvSpPr>
          <p:spPr>
            <a:xfrm>
              <a:off x="538560" y="1398960"/>
              <a:ext cx="1442520" cy="4048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Freeform 20"/>
            <p:cNvSpPr/>
            <p:nvPr/>
          </p:nvSpPr>
          <p:spPr>
            <a:xfrm>
              <a:off x="640800" y="6530040"/>
              <a:ext cx="112320" cy="3373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Freeform 21"/>
            <p:cNvSpPr/>
            <p:nvPr/>
          </p:nvSpPr>
          <p:spPr>
            <a:xfrm>
              <a:off x="534600" y="5359680"/>
              <a:ext cx="25560" cy="2217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Freeform 22"/>
            <p:cNvSpPr/>
            <p:nvPr/>
          </p:nvSpPr>
          <p:spPr>
            <a:xfrm>
              <a:off x="590400" y="6244920"/>
              <a:ext cx="165600" cy="6224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4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55" name="Freeform 27"/>
            <p:cNvSpPr/>
            <p:nvPr/>
          </p:nvSpPr>
          <p:spPr>
            <a:xfrm>
              <a:off x="20520" y="0"/>
              <a:ext cx="409320" cy="4401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Freeform 28"/>
            <p:cNvSpPr/>
            <p:nvPr/>
          </p:nvSpPr>
          <p:spPr>
            <a:xfrm>
              <a:off x="453960" y="4316400"/>
              <a:ext cx="350640" cy="15807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Freeform 29"/>
            <p:cNvSpPr/>
            <p:nvPr/>
          </p:nvSpPr>
          <p:spPr>
            <a:xfrm>
              <a:off x="831600" y="5862960"/>
              <a:ext cx="357120" cy="990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Freeform 30"/>
            <p:cNvSpPr/>
            <p:nvPr/>
          </p:nvSpPr>
          <p:spPr>
            <a:xfrm>
              <a:off x="429840" y="4364280"/>
              <a:ext cx="457200" cy="22359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Freeform 31"/>
            <p:cNvSpPr/>
            <p:nvPr/>
          </p:nvSpPr>
          <p:spPr>
            <a:xfrm>
              <a:off x="385560" y="1288800"/>
              <a:ext cx="144360" cy="30272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32"/>
            <p:cNvSpPr/>
            <p:nvPr/>
          </p:nvSpPr>
          <p:spPr>
            <a:xfrm>
              <a:off x="919080" y="6571800"/>
              <a:ext cx="110880" cy="2815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33"/>
            <p:cNvSpPr/>
            <p:nvPr/>
          </p:nvSpPr>
          <p:spPr>
            <a:xfrm>
              <a:off x="414000" y="4107600"/>
              <a:ext cx="68040" cy="5115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34"/>
            <p:cNvSpPr/>
            <p:nvPr/>
          </p:nvSpPr>
          <p:spPr>
            <a:xfrm>
              <a:off x="804600" y="3145680"/>
              <a:ext cx="1168560" cy="27169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35"/>
            <p:cNvSpPr/>
            <p:nvPr/>
          </p:nvSpPr>
          <p:spPr>
            <a:xfrm>
              <a:off x="887400" y="6600600"/>
              <a:ext cx="99720" cy="2527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36"/>
            <p:cNvSpPr/>
            <p:nvPr/>
          </p:nvSpPr>
          <p:spPr>
            <a:xfrm>
              <a:off x="804600" y="5897160"/>
              <a:ext cx="114120" cy="6742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37"/>
            <p:cNvSpPr/>
            <p:nvPr/>
          </p:nvSpPr>
          <p:spPr>
            <a:xfrm>
              <a:off x="804600" y="5772600"/>
              <a:ext cx="31680" cy="2278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38"/>
            <p:cNvSpPr/>
            <p:nvPr/>
          </p:nvSpPr>
          <p:spPr>
            <a:xfrm>
              <a:off x="831600" y="6322680"/>
              <a:ext cx="174600" cy="53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7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Freeform 11"/>
          <p:cNvSpPr/>
          <p:nvPr/>
        </p:nvSpPr>
        <p:spPr>
          <a:xfrm flipV="1">
            <a:off x="0" y="3166920"/>
            <a:ext cx="1359000" cy="508320"/>
          </a:xfrm>
          <a:prstGeom prst="pie">
            <a:avLst/>
          </a:pr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 type="dt" idx="3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 type="ftr" idx="3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 type="sldNum" idx="36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73B3B-8C16-4B45-8B4B-DE9796345A5D}" type="slidenum">
              <a:rPr b="0" lang="zh-CN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11" name="Freeform 11"/>
            <p:cNvSpPr/>
            <p:nvPr/>
          </p:nvSpPr>
          <p:spPr>
            <a:xfrm>
              <a:off x="0" y="2575080"/>
              <a:ext cx="69840" cy="6260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Freeform 12"/>
            <p:cNvSpPr/>
            <p:nvPr/>
          </p:nvSpPr>
          <p:spPr>
            <a:xfrm>
              <a:off x="89280" y="3156480"/>
              <a:ext cx="449280" cy="23223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Freeform 13"/>
            <p:cNvSpPr/>
            <p:nvPr/>
          </p:nvSpPr>
          <p:spPr>
            <a:xfrm>
              <a:off x="560520" y="5447160"/>
              <a:ext cx="423360" cy="1420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Freeform 14"/>
            <p:cNvSpPr/>
            <p:nvPr/>
          </p:nvSpPr>
          <p:spPr>
            <a:xfrm>
              <a:off x="666720" y="6504120"/>
              <a:ext cx="118800" cy="3632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Freeform 15"/>
            <p:cNvSpPr/>
            <p:nvPr/>
          </p:nvSpPr>
          <p:spPr>
            <a:xfrm>
              <a:off x="69840" y="3201120"/>
              <a:ext cx="570960" cy="33285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Freeform 16"/>
            <p:cNvSpPr/>
            <p:nvPr/>
          </p:nvSpPr>
          <p:spPr>
            <a:xfrm>
              <a:off x="15480" y="228600"/>
              <a:ext cx="73800" cy="29278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Freeform 17"/>
            <p:cNvSpPr/>
            <p:nvPr/>
          </p:nvSpPr>
          <p:spPr>
            <a:xfrm>
              <a:off x="54360" y="2944080"/>
              <a:ext cx="54360" cy="493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Freeform 18"/>
            <p:cNvSpPr/>
            <p:nvPr/>
          </p:nvSpPr>
          <p:spPr>
            <a:xfrm>
              <a:off x="534600" y="5478840"/>
              <a:ext cx="131760" cy="1024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Freeform 19"/>
            <p:cNvSpPr/>
            <p:nvPr/>
          </p:nvSpPr>
          <p:spPr>
            <a:xfrm>
              <a:off x="538560" y="1398960"/>
              <a:ext cx="1442520" cy="4048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Freeform 20"/>
            <p:cNvSpPr/>
            <p:nvPr/>
          </p:nvSpPr>
          <p:spPr>
            <a:xfrm>
              <a:off x="640800" y="6530040"/>
              <a:ext cx="112320" cy="3373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Freeform 21"/>
            <p:cNvSpPr/>
            <p:nvPr/>
          </p:nvSpPr>
          <p:spPr>
            <a:xfrm>
              <a:off x="534600" y="5359680"/>
              <a:ext cx="25560" cy="2217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Freeform 22"/>
            <p:cNvSpPr/>
            <p:nvPr/>
          </p:nvSpPr>
          <p:spPr>
            <a:xfrm>
              <a:off x="590400" y="6244920"/>
              <a:ext cx="165600" cy="6224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24" name="Freeform 27"/>
            <p:cNvSpPr/>
            <p:nvPr/>
          </p:nvSpPr>
          <p:spPr>
            <a:xfrm>
              <a:off x="20520" y="0"/>
              <a:ext cx="409320" cy="4401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Freeform 28"/>
            <p:cNvSpPr/>
            <p:nvPr/>
          </p:nvSpPr>
          <p:spPr>
            <a:xfrm>
              <a:off x="453960" y="4316400"/>
              <a:ext cx="350640" cy="15807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Freeform 29"/>
            <p:cNvSpPr/>
            <p:nvPr/>
          </p:nvSpPr>
          <p:spPr>
            <a:xfrm>
              <a:off x="831600" y="5862960"/>
              <a:ext cx="357120" cy="990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Freeform 30"/>
            <p:cNvSpPr/>
            <p:nvPr/>
          </p:nvSpPr>
          <p:spPr>
            <a:xfrm>
              <a:off x="429840" y="4364280"/>
              <a:ext cx="457200" cy="22359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Freeform 31"/>
            <p:cNvSpPr/>
            <p:nvPr/>
          </p:nvSpPr>
          <p:spPr>
            <a:xfrm>
              <a:off x="385560" y="1288800"/>
              <a:ext cx="144360" cy="30272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Freeform 32"/>
            <p:cNvSpPr/>
            <p:nvPr/>
          </p:nvSpPr>
          <p:spPr>
            <a:xfrm>
              <a:off x="919080" y="6571800"/>
              <a:ext cx="110880" cy="2815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Freeform 33"/>
            <p:cNvSpPr/>
            <p:nvPr/>
          </p:nvSpPr>
          <p:spPr>
            <a:xfrm>
              <a:off x="414000" y="4107600"/>
              <a:ext cx="68040" cy="5115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34"/>
            <p:cNvSpPr/>
            <p:nvPr/>
          </p:nvSpPr>
          <p:spPr>
            <a:xfrm>
              <a:off x="804600" y="3145680"/>
              <a:ext cx="1168560" cy="27169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35"/>
            <p:cNvSpPr/>
            <p:nvPr/>
          </p:nvSpPr>
          <p:spPr>
            <a:xfrm>
              <a:off x="887400" y="6600600"/>
              <a:ext cx="99720" cy="2527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36"/>
            <p:cNvSpPr/>
            <p:nvPr/>
          </p:nvSpPr>
          <p:spPr>
            <a:xfrm>
              <a:off x="804600" y="5897160"/>
              <a:ext cx="114120" cy="6742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37"/>
            <p:cNvSpPr/>
            <p:nvPr/>
          </p:nvSpPr>
          <p:spPr>
            <a:xfrm>
              <a:off x="804600" y="5772600"/>
              <a:ext cx="31680" cy="2278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38"/>
            <p:cNvSpPr/>
            <p:nvPr/>
          </p:nvSpPr>
          <p:spPr>
            <a:xfrm>
              <a:off x="831600" y="6322680"/>
              <a:ext cx="174600" cy="53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Freeform 11"/>
          <p:cNvSpPr/>
          <p:nvPr/>
        </p:nvSpPr>
        <p:spPr>
          <a:xfrm flipV="1">
            <a:off x="0" y="3166920"/>
            <a:ext cx="1359000" cy="508320"/>
          </a:xfrm>
          <a:prstGeom prst="pie">
            <a:avLst/>
          </a:pr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TextBox 13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TextBox 14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 type="dt" idx="3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 type="ftr" idx="3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 type="sldNum" idx="39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932FA-8EAC-421F-983B-FDECCE6F0026}" type="slidenum">
              <a:rPr b="0" lang="zh-CN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1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82" name="Freeform 11"/>
            <p:cNvSpPr/>
            <p:nvPr/>
          </p:nvSpPr>
          <p:spPr>
            <a:xfrm>
              <a:off x="0" y="2575080"/>
              <a:ext cx="69840" cy="6260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Freeform 12"/>
            <p:cNvSpPr/>
            <p:nvPr/>
          </p:nvSpPr>
          <p:spPr>
            <a:xfrm>
              <a:off x="89280" y="3156480"/>
              <a:ext cx="449280" cy="23223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Freeform 13"/>
            <p:cNvSpPr/>
            <p:nvPr/>
          </p:nvSpPr>
          <p:spPr>
            <a:xfrm>
              <a:off x="560520" y="5447160"/>
              <a:ext cx="423360" cy="1420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Freeform 14"/>
            <p:cNvSpPr/>
            <p:nvPr/>
          </p:nvSpPr>
          <p:spPr>
            <a:xfrm>
              <a:off x="666720" y="6504120"/>
              <a:ext cx="118800" cy="3632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Freeform 15"/>
            <p:cNvSpPr/>
            <p:nvPr/>
          </p:nvSpPr>
          <p:spPr>
            <a:xfrm>
              <a:off x="69840" y="3201120"/>
              <a:ext cx="570960" cy="33285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Freeform 16"/>
            <p:cNvSpPr/>
            <p:nvPr/>
          </p:nvSpPr>
          <p:spPr>
            <a:xfrm>
              <a:off x="15480" y="228600"/>
              <a:ext cx="73800" cy="29278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Freeform 17"/>
            <p:cNvSpPr/>
            <p:nvPr/>
          </p:nvSpPr>
          <p:spPr>
            <a:xfrm>
              <a:off x="54360" y="2944080"/>
              <a:ext cx="54360" cy="493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Freeform 18"/>
            <p:cNvSpPr/>
            <p:nvPr/>
          </p:nvSpPr>
          <p:spPr>
            <a:xfrm>
              <a:off x="534600" y="5478840"/>
              <a:ext cx="131760" cy="1024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Freeform 19"/>
            <p:cNvSpPr/>
            <p:nvPr/>
          </p:nvSpPr>
          <p:spPr>
            <a:xfrm>
              <a:off x="538560" y="1398960"/>
              <a:ext cx="1442520" cy="4048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Freeform 20"/>
            <p:cNvSpPr/>
            <p:nvPr/>
          </p:nvSpPr>
          <p:spPr>
            <a:xfrm>
              <a:off x="640800" y="6530040"/>
              <a:ext cx="112320" cy="3373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Freeform 21"/>
            <p:cNvSpPr/>
            <p:nvPr/>
          </p:nvSpPr>
          <p:spPr>
            <a:xfrm>
              <a:off x="534600" y="5359680"/>
              <a:ext cx="25560" cy="2217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Freeform 22"/>
            <p:cNvSpPr/>
            <p:nvPr/>
          </p:nvSpPr>
          <p:spPr>
            <a:xfrm>
              <a:off x="590400" y="6244920"/>
              <a:ext cx="165600" cy="6224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4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95" name="Freeform 27"/>
            <p:cNvSpPr/>
            <p:nvPr/>
          </p:nvSpPr>
          <p:spPr>
            <a:xfrm>
              <a:off x="20520" y="0"/>
              <a:ext cx="409320" cy="4401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Freeform 28"/>
            <p:cNvSpPr/>
            <p:nvPr/>
          </p:nvSpPr>
          <p:spPr>
            <a:xfrm>
              <a:off x="453960" y="4316400"/>
              <a:ext cx="350640" cy="15807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Freeform 29"/>
            <p:cNvSpPr/>
            <p:nvPr/>
          </p:nvSpPr>
          <p:spPr>
            <a:xfrm>
              <a:off x="831600" y="5862960"/>
              <a:ext cx="357120" cy="990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Freeform 30"/>
            <p:cNvSpPr/>
            <p:nvPr/>
          </p:nvSpPr>
          <p:spPr>
            <a:xfrm>
              <a:off x="429840" y="4364280"/>
              <a:ext cx="457200" cy="22359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Freeform 31"/>
            <p:cNvSpPr/>
            <p:nvPr/>
          </p:nvSpPr>
          <p:spPr>
            <a:xfrm>
              <a:off x="385560" y="1288800"/>
              <a:ext cx="144360" cy="30272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32"/>
            <p:cNvSpPr/>
            <p:nvPr/>
          </p:nvSpPr>
          <p:spPr>
            <a:xfrm>
              <a:off x="919080" y="6571800"/>
              <a:ext cx="110880" cy="2815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33"/>
            <p:cNvSpPr/>
            <p:nvPr/>
          </p:nvSpPr>
          <p:spPr>
            <a:xfrm>
              <a:off x="414000" y="4107600"/>
              <a:ext cx="68040" cy="5115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34"/>
            <p:cNvSpPr/>
            <p:nvPr/>
          </p:nvSpPr>
          <p:spPr>
            <a:xfrm>
              <a:off x="804600" y="3145680"/>
              <a:ext cx="1168560" cy="27169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35"/>
            <p:cNvSpPr/>
            <p:nvPr/>
          </p:nvSpPr>
          <p:spPr>
            <a:xfrm>
              <a:off x="887400" y="6600600"/>
              <a:ext cx="99720" cy="2527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36"/>
            <p:cNvSpPr/>
            <p:nvPr/>
          </p:nvSpPr>
          <p:spPr>
            <a:xfrm>
              <a:off x="804600" y="5897160"/>
              <a:ext cx="114120" cy="6742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37"/>
            <p:cNvSpPr/>
            <p:nvPr/>
          </p:nvSpPr>
          <p:spPr>
            <a:xfrm>
              <a:off x="804600" y="5772600"/>
              <a:ext cx="31680" cy="2278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38"/>
            <p:cNvSpPr/>
            <p:nvPr/>
          </p:nvSpPr>
          <p:spPr>
            <a:xfrm>
              <a:off x="831600" y="6322680"/>
              <a:ext cx="174600" cy="53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7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Freeform 11"/>
          <p:cNvSpPr/>
          <p:nvPr/>
        </p:nvSpPr>
        <p:spPr>
          <a:xfrm flipV="1">
            <a:off x="0" y="4909320"/>
            <a:ext cx="1359000" cy="507960"/>
          </a:xfrm>
          <a:prstGeom prst="pie">
            <a:avLst/>
          </a:pr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 type="dt" idx="4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 type="ftr" idx="4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 type="sldNum" idx="42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0D363-37B3-4849-B51D-A711AB4A9A63}" type="slidenum">
              <a:rPr b="0" lang="zh-CN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951" name="Freeform 11"/>
            <p:cNvSpPr/>
            <p:nvPr/>
          </p:nvSpPr>
          <p:spPr>
            <a:xfrm>
              <a:off x="0" y="2575080"/>
              <a:ext cx="69840" cy="6260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Freeform 12"/>
            <p:cNvSpPr/>
            <p:nvPr/>
          </p:nvSpPr>
          <p:spPr>
            <a:xfrm>
              <a:off x="89280" y="3156480"/>
              <a:ext cx="449280" cy="23223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Freeform 13"/>
            <p:cNvSpPr/>
            <p:nvPr/>
          </p:nvSpPr>
          <p:spPr>
            <a:xfrm>
              <a:off x="560520" y="5447160"/>
              <a:ext cx="423360" cy="1420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Freeform 14"/>
            <p:cNvSpPr/>
            <p:nvPr/>
          </p:nvSpPr>
          <p:spPr>
            <a:xfrm>
              <a:off x="666720" y="6504120"/>
              <a:ext cx="118800" cy="3632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Freeform 15"/>
            <p:cNvSpPr/>
            <p:nvPr/>
          </p:nvSpPr>
          <p:spPr>
            <a:xfrm>
              <a:off x="69840" y="3201120"/>
              <a:ext cx="570960" cy="33285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Freeform 16"/>
            <p:cNvSpPr/>
            <p:nvPr/>
          </p:nvSpPr>
          <p:spPr>
            <a:xfrm>
              <a:off x="15480" y="228600"/>
              <a:ext cx="73800" cy="29278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Freeform 17"/>
            <p:cNvSpPr/>
            <p:nvPr/>
          </p:nvSpPr>
          <p:spPr>
            <a:xfrm>
              <a:off x="54360" y="2944080"/>
              <a:ext cx="54360" cy="493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Freeform 18"/>
            <p:cNvSpPr/>
            <p:nvPr/>
          </p:nvSpPr>
          <p:spPr>
            <a:xfrm>
              <a:off x="534600" y="5478840"/>
              <a:ext cx="131760" cy="1024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Freeform 19"/>
            <p:cNvSpPr/>
            <p:nvPr/>
          </p:nvSpPr>
          <p:spPr>
            <a:xfrm>
              <a:off x="538560" y="1398960"/>
              <a:ext cx="1442520" cy="4048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Freeform 20"/>
            <p:cNvSpPr/>
            <p:nvPr/>
          </p:nvSpPr>
          <p:spPr>
            <a:xfrm>
              <a:off x="640800" y="6530040"/>
              <a:ext cx="112320" cy="3373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Freeform 21"/>
            <p:cNvSpPr/>
            <p:nvPr/>
          </p:nvSpPr>
          <p:spPr>
            <a:xfrm>
              <a:off x="534600" y="5359680"/>
              <a:ext cx="25560" cy="2217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Freeform 22"/>
            <p:cNvSpPr/>
            <p:nvPr/>
          </p:nvSpPr>
          <p:spPr>
            <a:xfrm>
              <a:off x="590400" y="6244920"/>
              <a:ext cx="165600" cy="6224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64" name="Freeform 27"/>
            <p:cNvSpPr/>
            <p:nvPr/>
          </p:nvSpPr>
          <p:spPr>
            <a:xfrm>
              <a:off x="20520" y="0"/>
              <a:ext cx="409320" cy="4401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Freeform 28"/>
            <p:cNvSpPr/>
            <p:nvPr/>
          </p:nvSpPr>
          <p:spPr>
            <a:xfrm>
              <a:off x="453960" y="4316400"/>
              <a:ext cx="350640" cy="15807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Freeform 29"/>
            <p:cNvSpPr/>
            <p:nvPr/>
          </p:nvSpPr>
          <p:spPr>
            <a:xfrm>
              <a:off x="831600" y="5862960"/>
              <a:ext cx="357120" cy="990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Freeform 30"/>
            <p:cNvSpPr/>
            <p:nvPr/>
          </p:nvSpPr>
          <p:spPr>
            <a:xfrm>
              <a:off x="429840" y="4364280"/>
              <a:ext cx="457200" cy="22359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Freeform 31"/>
            <p:cNvSpPr/>
            <p:nvPr/>
          </p:nvSpPr>
          <p:spPr>
            <a:xfrm>
              <a:off x="385560" y="1288800"/>
              <a:ext cx="144360" cy="30272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Freeform 32"/>
            <p:cNvSpPr/>
            <p:nvPr/>
          </p:nvSpPr>
          <p:spPr>
            <a:xfrm>
              <a:off x="919080" y="6571800"/>
              <a:ext cx="110880" cy="2815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Freeform 33"/>
            <p:cNvSpPr/>
            <p:nvPr/>
          </p:nvSpPr>
          <p:spPr>
            <a:xfrm>
              <a:off x="414000" y="4107600"/>
              <a:ext cx="68040" cy="5115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34"/>
            <p:cNvSpPr/>
            <p:nvPr/>
          </p:nvSpPr>
          <p:spPr>
            <a:xfrm>
              <a:off x="804600" y="3145680"/>
              <a:ext cx="1168560" cy="27169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35"/>
            <p:cNvSpPr/>
            <p:nvPr/>
          </p:nvSpPr>
          <p:spPr>
            <a:xfrm>
              <a:off x="887400" y="6600600"/>
              <a:ext cx="99720" cy="2527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36"/>
            <p:cNvSpPr/>
            <p:nvPr/>
          </p:nvSpPr>
          <p:spPr>
            <a:xfrm>
              <a:off x="804600" y="5897160"/>
              <a:ext cx="114120" cy="6742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37"/>
            <p:cNvSpPr/>
            <p:nvPr/>
          </p:nvSpPr>
          <p:spPr>
            <a:xfrm>
              <a:off x="804600" y="5772600"/>
              <a:ext cx="31680" cy="2278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38"/>
            <p:cNvSpPr/>
            <p:nvPr/>
          </p:nvSpPr>
          <p:spPr>
            <a:xfrm>
              <a:off x="831600" y="6322680"/>
              <a:ext cx="174600" cy="53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Freeform 11"/>
          <p:cNvSpPr/>
          <p:nvPr/>
        </p:nvSpPr>
        <p:spPr>
          <a:xfrm flipV="1">
            <a:off x="0" y="4909320"/>
            <a:ext cx="1359000" cy="507960"/>
          </a:xfrm>
          <a:prstGeom prst="pie">
            <a:avLst/>
          </a:pr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TextBox 10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TextBox 11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 type="dt" idx="4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 type="ftr" idx="4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5"/>
          <p:cNvSpPr>
            <a:spLocks noGrp="1"/>
          </p:cNvSpPr>
          <p:nvPr>
            <p:ph type="sldNum" idx="45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BDBC9-39F0-4F23-94E6-7EB93DA80987}" type="slidenum">
              <a:rPr b="0" lang="zh-CN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1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022" name="Freeform 11"/>
            <p:cNvSpPr/>
            <p:nvPr/>
          </p:nvSpPr>
          <p:spPr>
            <a:xfrm>
              <a:off x="0" y="2575080"/>
              <a:ext cx="69840" cy="6260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Freeform 12"/>
            <p:cNvSpPr/>
            <p:nvPr/>
          </p:nvSpPr>
          <p:spPr>
            <a:xfrm>
              <a:off x="89280" y="3156480"/>
              <a:ext cx="449280" cy="23223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Freeform 13"/>
            <p:cNvSpPr/>
            <p:nvPr/>
          </p:nvSpPr>
          <p:spPr>
            <a:xfrm>
              <a:off x="560520" y="5447160"/>
              <a:ext cx="423360" cy="1420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Freeform 14"/>
            <p:cNvSpPr/>
            <p:nvPr/>
          </p:nvSpPr>
          <p:spPr>
            <a:xfrm>
              <a:off x="666720" y="6504120"/>
              <a:ext cx="118800" cy="3632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Freeform 15"/>
            <p:cNvSpPr/>
            <p:nvPr/>
          </p:nvSpPr>
          <p:spPr>
            <a:xfrm>
              <a:off x="69840" y="3201120"/>
              <a:ext cx="570960" cy="33285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Freeform 16"/>
            <p:cNvSpPr/>
            <p:nvPr/>
          </p:nvSpPr>
          <p:spPr>
            <a:xfrm>
              <a:off x="15480" y="228600"/>
              <a:ext cx="73800" cy="29278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Freeform 17"/>
            <p:cNvSpPr/>
            <p:nvPr/>
          </p:nvSpPr>
          <p:spPr>
            <a:xfrm>
              <a:off x="54360" y="2944080"/>
              <a:ext cx="54360" cy="493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Freeform 18"/>
            <p:cNvSpPr/>
            <p:nvPr/>
          </p:nvSpPr>
          <p:spPr>
            <a:xfrm>
              <a:off x="534600" y="5478840"/>
              <a:ext cx="131760" cy="1024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Freeform 19"/>
            <p:cNvSpPr/>
            <p:nvPr/>
          </p:nvSpPr>
          <p:spPr>
            <a:xfrm>
              <a:off x="538560" y="1398960"/>
              <a:ext cx="1442520" cy="4048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Freeform 20"/>
            <p:cNvSpPr/>
            <p:nvPr/>
          </p:nvSpPr>
          <p:spPr>
            <a:xfrm>
              <a:off x="640800" y="6530040"/>
              <a:ext cx="112320" cy="3373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Freeform 21"/>
            <p:cNvSpPr/>
            <p:nvPr/>
          </p:nvSpPr>
          <p:spPr>
            <a:xfrm>
              <a:off x="534600" y="5359680"/>
              <a:ext cx="25560" cy="2217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Freeform 22"/>
            <p:cNvSpPr/>
            <p:nvPr/>
          </p:nvSpPr>
          <p:spPr>
            <a:xfrm>
              <a:off x="590400" y="6244920"/>
              <a:ext cx="165600" cy="6224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4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035" name="Freeform 27"/>
            <p:cNvSpPr/>
            <p:nvPr/>
          </p:nvSpPr>
          <p:spPr>
            <a:xfrm>
              <a:off x="20520" y="0"/>
              <a:ext cx="409320" cy="4401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Freeform 28"/>
            <p:cNvSpPr/>
            <p:nvPr/>
          </p:nvSpPr>
          <p:spPr>
            <a:xfrm>
              <a:off x="453960" y="4316400"/>
              <a:ext cx="350640" cy="15807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Freeform 29"/>
            <p:cNvSpPr/>
            <p:nvPr/>
          </p:nvSpPr>
          <p:spPr>
            <a:xfrm>
              <a:off x="831600" y="5862960"/>
              <a:ext cx="357120" cy="990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Freeform 30"/>
            <p:cNvSpPr/>
            <p:nvPr/>
          </p:nvSpPr>
          <p:spPr>
            <a:xfrm>
              <a:off x="429840" y="4364280"/>
              <a:ext cx="457200" cy="22359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Freeform 31"/>
            <p:cNvSpPr/>
            <p:nvPr/>
          </p:nvSpPr>
          <p:spPr>
            <a:xfrm>
              <a:off x="385560" y="1288800"/>
              <a:ext cx="144360" cy="30272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Freeform 32"/>
            <p:cNvSpPr/>
            <p:nvPr/>
          </p:nvSpPr>
          <p:spPr>
            <a:xfrm>
              <a:off x="919080" y="6571800"/>
              <a:ext cx="110880" cy="2815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Freeform 33"/>
            <p:cNvSpPr/>
            <p:nvPr/>
          </p:nvSpPr>
          <p:spPr>
            <a:xfrm>
              <a:off x="414000" y="4107600"/>
              <a:ext cx="68040" cy="5115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Freeform 34"/>
            <p:cNvSpPr/>
            <p:nvPr/>
          </p:nvSpPr>
          <p:spPr>
            <a:xfrm>
              <a:off x="804600" y="3145680"/>
              <a:ext cx="1168560" cy="27169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Freeform 35"/>
            <p:cNvSpPr/>
            <p:nvPr/>
          </p:nvSpPr>
          <p:spPr>
            <a:xfrm>
              <a:off x="887400" y="6600600"/>
              <a:ext cx="99720" cy="2527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36"/>
            <p:cNvSpPr/>
            <p:nvPr/>
          </p:nvSpPr>
          <p:spPr>
            <a:xfrm>
              <a:off x="804600" y="5897160"/>
              <a:ext cx="114120" cy="6742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37"/>
            <p:cNvSpPr/>
            <p:nvPr/>
          </p:nvSpPr>
          <p:spPr>
            <a:xfrm>
              <a:off x="804600" y="5772600"/>
              <a:ext cx="31680" cy="2278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reeform 38"/>
            <p:cNvSpPr/>
            <p:nvPr/>
          </p:nvSpPr>
          <p:spPr>
            <a:xfrm>
              <a:off x="831600" y="6322680"/>
              <a:ext cx="174600" cy="53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7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Freeform 11"/>
          <p:cNvSpPr/>
          <p:nvPr/>
        </p:nvSpPr>
        <p:spPr>
          <a:xfrm flipV="1">
            <a:off x="0" y="4909320"/>
            <a:ext cx="1359000" cy="507960"/>
          </a:xfrm>
          <a:prstGeom prst="pie">
            <a:avLst/>
          </a:pr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 type="dt" idx="4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PlaceHolder 4"/>
          <p:cNvSpPr>
            <a:spLocks noGrp="1"/>
          </p:cNvSpPr>
          <p:nvPr>
            <p:ph type="ftr" idx="4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5"/>
          <p:cNvSpPr>
            <a:spLocks noGrp="1"/>
          </p:cNvSpPr>
          <p:nvPr>
            <p:ph type="sldNum" idx="48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66598-7F78-40C9-BA24-F4035251CDF0}" type="slidenum">
              <a:rPr b="0" lang="zh-CN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091" name="Freeform 11"/>
            <p:cNvSpPr/>
            <p:nvPr/>
          </p:nvSpPr>
          <p:spPr>
            <a:xfrm>
              <a:off x="0" y="2575080"/>
              <a:ext cx="69840" cy="6260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Freeform 12"/>
            <p:cNvSpPr/>
            <p:nvPr/>
          </p:nvSpPr>
          <p:spPr>
            <a:xfrm>
              <a:off x="89280" y="3156480"/>
              <a:ext cx="449280" cy="23223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Freeform 13"/>
            <p:cNvSpPr/>
            <p:nvPr/>
          </p:nvSpPr>
          <p:spPr>
            <a:xfrm>
              <a:off x="560520" y="5447160"/>
              <a:ext cx="423360" cy="1420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Freeform 14"/>
            <p:cNvSpPr/>
            <p:nvPr/>
          </p:nvSpPr>
          <p:spPr>
            <a:xfrm>
              <a:off x="666720" y="6504120"/>
              <a:ext cx="118800" cy="3632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Freeform 15"/>
            <p:cNvSpPr/>
            <p:nvPr/>
          </p:nvSpPr>
          <p:spPr>
            <a:xfrm>
              <a:off x="69840" y="3201120"/>
              <a:ext cx="570960" cy="33285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Freeform 16"/>
            <p:cNvSpPr/>
            <p:nvPr/>
          </p:nvSpPr>
          <p:spPr>
            <a:xfrm>
              <a:off x="15480" y="228600"/>
              <a:ext cx="73800" cy="29278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Freeform 17"/>
            <p:cNvSpPr/>
            <p:nvPr/>
          </p:nvSpPr>
          <p:spPr>
            <a:xfrm>
              <a:off x="54360" y="2944080"/>
              <a:ext cx="54360" cy="493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Freeform 18"/>
            <p:cNvSpPr/>
            <p:nvPr/>
          </p:nvSpPr>
          <p:spPr>
            <a:xfrm>
              <a:off x="534600" y="5478840"/>
              <a:ext cx="131760" cy="1024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Freeform 19"/>
            <p:cNvSpPr/>
            <p:nvPr/>
          </p:nvSpPr>
          <p:spPr>
            <a:xfrm>
              <a:off x="538560" y="1398960"/>
              <a:ext cx="1442520" cy="4048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Freeform 20"/>
            <p:cNvSpPr/>
            <p:nvPr/>
          </p:nvSpPr>
          <p:spPr>
            <a:xfrm>
              <a:off x="640800" y="6530040"/>
              <a:ext cx="112320" cy="3373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Freeform 21"/>
            <p:cNvSpPr/>
            <p:nvPr/>
          </p:nvSpPr>
          <p:spPr>
            <a:xfrm>
              <a:off x="534600" y="5359680"/>
              <a:ext cx="25560" cy="2217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Freeform 22"/>
            <p:cNvSpPr/>
            <p:nvPr/>
          </p:nvSpPr>
          <p:spPr>
            <a:xfrm>
              <a:off x="590400" y="6244920"/>
              <a:ext cx="165600" cy="6224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04" name="Freeform 27"/>
            <p:cNvSpPr/>
            <p:nvPr/>
          </p:nvSpPr>
          <p:spPr>
            <a:xfrm>
              <a:off x="20520" y="0"/>
              <a:ext cx="409320" cy="4401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Freeform 28"/>
            <p:cNvSpPr/>
            <p:nvPr/>
          </p:nvSpPr>
          <p:spPr>
            <a:xfrm>
              <a:off x="453960" y="4316400"/>
              <a:ext cx="350640" cy="15807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Freeform 29"/>
            <p:cNvSpPr/>
            <p:nvPr/>
          </p:nvSpPr>
          <p:spPr>
            <a:xfrm>
              <a:off x="831600" y="5862960"/>
              <a:ext cx="357120" cy="990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Freeform 30"/>
            <p:cNvSpPr/>
            <p:nvPr/>
          </p:nvSpPr>
          <p:spPr>
            <a:xfrm>
              <a:off x="429840" y="4364280"/>
              <a:ext cx="457200" cy="22359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Freeform 31"/>
            <p:cNvSpPr/>
            <p:nvPr/>
          </p:nvSpPr>
          <p:spPr>
            <a:xfrm>
              <a:off x="385560" y="1288800"/>
              <a:ext cx="144360" cy="30272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Freeform 32"/>
            <p:cNvSpPr/>
            <p:nvPr/>
          </p:nvSpPr>
          <p:spPr>
            <a:xfrm>
              <a:off x="919080" y="6571800"/>
              <a:ext cx="110880" cy="2815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Freeform 33"/>
            <p:cNvSpPr/>
            <p:nvPr/>
          </p:nvSpPr>
          <p:spPr>
            <a:xfrm>
              <a:off x="414000" y="4107600"/>
              <a:ext cx="68040" cy="5115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Freeform 34"/>
            <p:cNvSpPr/>
            <p:nvPr/>
          </p:nvSpPr>
          <p:spPr>
            <a:xfrm>
              <a:off x="804600" y="3145680"/>
              <a:ext cx="1168560" cy="27169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Freeform 35"/>
            <p:cNvSpPr/>
            <p:nvPr/>
          </p:nvSpPr>
          <p:spPr>
            <a:xfrm>
              <a:off x="887400" y="6600600"/>
              <a:ext cx="99720" cy="2527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Freeform 36"/>
            <p:cNvSpPr/>
            <p:nvPr/>
          </p:nvSpPr>
          <p:spPr>
            <a:xfrm>
              <a:off x="804600" y="5897160"/>
              <a:ext cx="114120" cy="6742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Freeform 37"/>
            <p:cNvSpPr/>
            <p:nvPr/>
          </p:nvSpPr>
          <p:spPr>
            <a:xfrm>
              <a:off x="804600" y="5772600"/>
              <a:ext cx="31680" cy="2278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Freeform 38"/>
            <p:cNvSpPr/>
            <p:nvPr/>
          </p:nvSpPr>
          <p:spPr>
            <a:xfrm>
              <a:off x="831600" y="6322680"/>
              <a:ext cx="174600" cy="53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Freeform 11"/>
          <p:cNvSpPr/>
          <p:nvPr/>
        </p:nvSpPr>
        <p:spPr>
          <a:xfrm flipV="1">
            <a:off x="0" y="710280"/>
            <a:ext cx="1359000" cy="507960"/>
          </a:xfrm>
          <a:prstGeom prst="pie">
            <a:avLst/>
          </a:pr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 type="dt" idx="4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 type="ftr" idx="5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5"/>
          <p:cNvSpPr>
            <a:spLocks noGrp="1"/>
          </p:cNvSpPr>
          <p:nvPr>
            <p:ph type="sldNum" idx="5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27580-1AAE-4CC2-8D52-F01279E2B911}" type="slidenum">
              <a:rPr b="0" lang="zh-CN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60" name="Freeform 11"/>
            <p:cNvSpPr/>
            <p:nvPr/>
          </p:nvSpPr>
          <p:spPr>
            <a:xfrm>
              <a:off x="0" y="2575080"/>
              <a:ext cx="69840" cy="6260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Freeform 12"/>
            <p:cNvSpPr/>
            <p:nvPr/>
          </p:nvSpPr>
          <p:spPr>
            <a:xfrm>
              <a:off x="89280" y="3156480"/>
              <a:ext cx="449280" cy="23223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Freeform 13"/>
            <p:cNvSpPr/>
            <p:nvPr/>
          </p:nvSpPr>
          <p:spPr>
            <a:xfrm>
              <a:off x="560520" y="5447160"/>
              <a:ext cx="423360" cy="1420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Freeform 14"/>
            <p:cNvSpPr/>
            <p:nvPr/>
          </p:nvSpPr>
          <p:spPr>
            <a:xfrm>
              <a:off x="666720" y="6504120"/>
              <a:ext cx="118800" cy="3632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Freeform 15"/>
            <p:cNvSpPr/>
            <p:nvPr/>
          </p:nvSpPr>
          <p:spPr>
            <a:xfrm>
              <a:off x="69840" y="3201120"/>
              <a:ext cx="570960" cy="33285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Freeform 16"/>
            <p:cNvSpPr/>
            <p:nvPr/>
          </p:nvSpPr>
          <p:spPr>
            <a:xfrm>
              <a:off x="15480" y="228600"/>
              <a:ext cx="73800" cy="29278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Freeform 17"/>
            <p:cNvSpPr/>
            <p:nvPr/>
          </p:nvSpPr>
          <p:spPr>
            <a:xfrm>
              <a:off x="54360" y="2944080"/>
              <a:ext cx="54360" cy="493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Freeform 18"/>
            <p:cNvSpPr/>
            <p:nvPr/>
          </p:nvSpPr>
          <p:spPr>
            <a:xfrm>
              <a:off x="534600" y="5478840"/>
              <a:ext cx="131760" cy="1024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Freeform 19"/>
            <p:cNvSpPr/>
            <p:nvPr/>
          </p:nvSpPr>
          <p:spPr>
            <a:xfrm>
              <a:off x="538560" y="1398960"/>
              <a:ext cx="1442520" cy="4048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Freeform 20"/>
            <p:cNvSpPr/>
            <p:nvPr/>
          </p:nvSpPr>
          <p:spPr>
            <a:xfrm>
              <a:off x="640800" y="6530040"/>
              <a:ext cx="112320" cy="3373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Freeform 21"/>
            <p:cNvSpPr/>
            <p:nvPr/>
          </p:nvSpPr>
          <p:spPr>
            <a:xfrm>
              <a:off x="534600" y="5359680"/>
              <a:ext cx="25560" cy="2217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Freeform 22"/>
            <p:cNvSpPr/>
            <p:nvPr/>
          </p:nvSpPr>
          <p:spPr>
            <a:xfrm>
              <a:off x="590400" y="6244920"/>
              <a:ext cx="165600" cy="6224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73" name="Freeform 27"/>
            <p:cNvSpPr/>
            <p:nvPr/>
          </p:nvSpPr>
          <p:spPr>
            <a:xfrm>
              <a:off x="20520" y="0"/>
              <a:ext cx="409320" cy="4401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Freeform 28"/>
            <p:cNvSpPr/>
            <p:nvPr/>
          </p:nvSpPr>
          <p:spPr>
            <a:xfrm>
              <a:off x="453960" y="4316400"/>
              <a:ext cx="350640" cy="15807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Freeform 29"/>
            <p:cNvSpPr/>
            <p:nvPr/>
          </p:nvSpPr>
          <p:spPr>
            <a:xfrm>
              <a:off x="831600" y="5862960"/>
              <a:ext cx="357120" cy="990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Freeform 30"/>
            <p:cNvSpPr/>
            <p:nvPr/>
          </p:nvSpPr>
          <p:spPr>
            <a:xfrm>
              <a:off x="429840" y="4364280"/>
              <a:ext cx="457200" cy="22359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Freeform 31"/>
            <p:cNvSpPr/>
            <p:nvPr/>
          </p:nvSpPr>
          <p:spPr>
            <a:xfrm>
              <a:off x="385560" y="1288800"/>
              <a:ext cx="144360" cy="30272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Freeform 32"/>
            <p:cNvSpPr/>
            <p:nvPr/>
          </p:nvSpPr>
          <p:spPr>
            <a:xfrm>
              <a:off x="919080" y="6571800"/>
              <a:ext cx="110880" cy="2815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Freeform 33"/>
            <p:cNvSpPr/>
            <p:nvPr/>
          </p:nvSpPr>
          <p:spPr>
            <a:xfrm>
              <a:off x="414000" y="4107600"/>
              <a:ext cx="68040" cy="5115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Freeform 34"/>
            <p:cNvSpPr/>
            <p:nvPr/>
          </p:nvSpPr>
          <p:spPr>
            <a:xfrm>
              <a:off x="804600" y="3145680"/>
              <a:ext cx="1168560" cy="27169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Freeform 35"/>
            <p:cNvSpPr/>
            <p:nvPr/>
          </p:nvSpPr>
          <p:spPr>
            <a:xfrm>
              <a:off x="887400" y="6600600"/>
              <a:ext cx="99720" cy="2527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Freeform 36"/>
            <p:cNvSpPr/>
            <p:nvPr/>
          </p:nvSpPr>
          <p:spPr>
            <a:xfrm>
              <a:off x="804600" y="5897160"/>
              <a:ext cx="114120" cy="6742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Freeform 37"/>
            <p:cNvSpPr/>
            <p:nvPr/>
          </p:nvSpPr>
          <p:spPr>
            <a:xfrm>
              <a:off x="804600" y="5772600"/>
              <a:ext cx="31680" cy="2278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Freeform 38"/>
            <p:cNvSpPr/>
            <p:nvPr/>
          </p:nvSpPr>
          <p:spPr>
            <a:xfrm>
              <a:off x="831600" y="6322680"/>
              <a:ext cx="174600" cy="53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Freeform 11"/>
          <p:cNvSpPr/>
          <p:nvPr/>
        </p:nvSpPr>
        <p:spPr>
          <a:xfrm flipV="1">
            <a:off x="0" y="710280"/>
            <a:ext cx="1359000" cy="507960"/>
          </a:xfrm>
          <a:prstGeom prst="pie">
            <a:avLst/>
          </a:pr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89" name="PlaceHolder 3"/>
          <p:cNvSpPr>
            <a:spLocks noGrp="1"/>
          </p:cNvSpPr>
          <p:nvPr>
            <p:ph type="dt" idx="52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PlaceHolder 4"/>
          <p:cNvSpPr>
            <a:spLocks noGrp="1"/>
          </p:cNvSpPr>
          <p:nvPr>
            <p:ph type="ftr" idx="53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PlaceHolder 5"/>
          <p:cNvSpPr>
            <a:spLocks noGrp="1"/>
          </p:cNvSpPr>
          <p:nvPr>
            <p:ph type="sldNum" idx="54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DAEC7-2229-46C5-9F18-5EB8D101CB17}" type="slidenum">
              <a:rPr b="0" lang="zh-CN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53" name="Freeform 11"/>
            <p:cNvSpPr/>
            <p:nvPr/>
          </p:nvSpPr>
          <p:spPr>
            <a:xfrm>
              <a:off x="0" y="2575080"/>
              <a:ext cx="69840" cy="6260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2"/>
            <p:cNvSpPr/>
            <p:nvPr/>
          </p:nvSpPr>
          <p:spPr>
            <a:xfrm>
              <a:off x="89280" y="3156480"/>
              <a:ext cx="449280" cy="23223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3"/>
            <p:cNvSpPr/>
            <p:nvPr/>
          </p:nvSpPr>
          <p:spPr>
            <a:xfrm>
              <a:off x="560520" y="5447160"/>
              <a:ext cx="423360" cy="1420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4"/>
            <p:cNvSpPr/>
            <p:nvPr/>
          </p:nvSpPr>
          <p:spPr>
            <a:xfrm>
              <a:off x="666720" y="6504120"/>
              <a:ext cx="118800" cy="3632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5"/>
            <p:cNvSpPr/>
            <p:nvPr/>
          </p:nvSpPr>
          <p:spPr>
            <a:xfrm>
              <a:off x="69840" y="3201120"/>
              <a:ext cx="570960" cy="33285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6"/>
            <p:cNvSpPr/>
            <p:nvPr/>
          </p:nvSpPr>
          <p:spPr>
            <a:xfrm>
              <a:off x="15480" y="228600"/>
              <a:ext cx="73800" cy="29278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54360" y="2944080"/>
              <a:ext cx="54360" cy="493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534600" y="5478840"/>
              <a:ext cx="131760" cy="1024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538560" y="1398960"/>
              <a:ext cx="1442520" cy="4048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640800" y="6530040"/>
              <a:ext cx="112320" cy="3373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534600" y="5359680"/>
              <a:ext cx="25560" cy="2217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22"/>
            <p:cNvSpPr/>
            <p:nvPr/>
          </p:nvSpPr>
          <p:spPr>
            <a:xfrm>
              <a:off x="590400" y="6244920"/>
              <a:ext cx="165600" cy="6224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66" name="Freeform 27"/>
            <p:cNvSpPr/>
            <p:nvPr/>
          </p:nvSpPr>
          <p:spPr>
            <a:xfrm>
              <a:off x="20520" y="0"/>
              <a:ext cx="409320" cy="4401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28"/>
            <p:cNvSpPr/>
            <p:nvPr/>
          </p:nvSpPr>
          <p:spPr>
            <a:xfrm>
              <a:off x="453960" y="4316400"/>
              <a:ext cx="350640" cy="15807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29"/>
            <p:cNvSpPr/>
            <p:nvPr/>
          </p:nvSpPr>
          <p:spPr>
            <a:xfrm>
              <a:off x="831600" y="5862960"/>
              <a:ext cx="357120" cy="990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30"/>
            <p:cNvSpPr/>
            <p:nvPr/>
          </p:nvSpPr>
          <p:spPr>
            <a:xfrm>
              <a:off x="429840" y="4364280"/>
              <a:ext cx="457200" cy="22359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31"/>
            <p:cNvSpPr/>
            <p:nvPr/>
          </p:nvSpPr>
          <p:spPr>
            <a:xfrm>
              <a:off x="385560" y="1288800"/>
              <a:ext cx="144360" cy="30272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32"/>
            <p:cNvSpPr/>
            <p:nvPr/>
          </p:nvSpPr>
          <p:spPr>
            <a:xfrm>
              <a:off x="919080" y="6571800"/>
              <a:ext cx="110880" cy="2815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33"/>
            <p:cNvSpPr/>
            <p:nvPr/>
          </p:nvSpPr>
          <p:spPr>
            <a:xfrm>
              <a:off x="414000" y="4107600"/>
              <a:ext cx="68040" cy="5115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34"/>
            <p:cNvSpPr/>
            <p:nvPr/>
          </p:nvSpPr>
          <p:spPr>
            <a:xfrm>
              <a:off x="804600" y="3145680"/>
              <a:ext cx="1168560" cy="27169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35"/>
            <p:cNvSpPr/>
            <p:nvPr/>
          </p:nvSpPr>
          <p:spPr>
            <a:xfrm>
              <a:off x="887400" y="6600600"/>
              <a:ext cx="99720" cy="2527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36"/>
            <p:cNvSpPr/>
            <p:nvPr/>
          </p:nvSpPr>
          <p:spPr>
            <a:xfrm>
              <a:off x="804600" y="5897160"/>
              <a:ext cx="114120" cy="6742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37"/>
            <p:cNvSpPr/>
            <p:nvPr/>
          </p:nvSpPr>
          <p:spPr>
            <a:xfrm>
              <a:off x="804600" y="5772600"/>
              <a:ext cx="31680" cy="2278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38"/>
            <p:cNvSpPr/>
            <p:nvPr/>
          </p:nvSpPr>
          <p:spPr>
            <a:xfrm>
              <a:off x="831600" y="6322680"/>
              <a:ext cx="174600" cy="53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DC6F1-47F4-4E34-B799-2A9B254893D6}" type="slidenum">
              <a:rPr b="0" lang="zh-CN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21" name="Freeform 11"/>
            <p:cNvSpPr/>
            <p:nvPr/>
          </p:nvSpPr>
          <p:spPr>
            <a:xfrm>
              <a:off x="0" y="2575080"/>
              <a:ext cx="69840" cy="6260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12"/>
            <p:cNvSpPr/>
            <p:nvPr/>
          </p:nvSpPr>
          <p:spPr>
            <a:xfrm>
              <a:off x="89280" y="3156480"/>
              <a:ext cx="449280" cy="23223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13"/>
            <p:cNvSpPr/>
            <p:nvPr/>
          </p:nvSpPr>
          <p:spPr>
            <a:xfrm>
              <a:off x="560520" y="5447160"/>
              <a:ext cx="423360" cy="1420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4"/>
            <p:cNvSpPr/>
            <p:nvPr/>
          </p:nvSpPr>
          <p:spPr>
            <a:xfrm>
              <a:off x="666720" y="6504120"/>
              <a:ext cx="118800" cy="3632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5"/>
            <p:cNvSpPr/>
            <p:nvPr/>
          </p:nvSpPr>
          <p:spPr>
            <a:xfrm>
              <a:off x="69840" y="3201120"/>
              <a:ext cx="570960" cy="33285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16"/>
            <p:cNvSpPr/>
            <p:nvPr/>
          </p:nvSpPr>
          <p:spPr>
            <a:xfrm>
              <a:off x="15480" y="228600"/>
              <a:ext cx="73800" cy="29278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7"/>
            <p:cNvSpPr/>
            <p:nvPr/>
          </p:nvSpPr>
          <p:spPr>
            <a:xfrm>
              <a:off x="54360" y="2944080"/>
              <a:ext cx="54360" cy="493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8"/>
            <p:cNvSpPr/>
            <p:nvPr/>
          </p:nvSpPr>
          <p:spPr>
            <a:xfrm>
              <a:off x="534600" y="5478840"/>
              <a:ext cx="131760" cy="1024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19"/>
            <p:cNvSpPr/>
            <p:nvPr/>
          </p:nvSpPr>
          <p:spPr>
            <a:xfrm>
              <a:off x="538560" y="1398960"/>
              <a:ext cx="1442520" cy="4048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20"/>
            <p:cNvSpPr/>
            <p:nvPr/>
          </p:nvSpPr>
          <p:spPr>
            <a:xfrm>
              <a:off x="640800" y="6530040"/>
              <a:ext cx="112320" cy="3373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21"/>
            <p:cNvSpPr/>
            <p:nvPr/>
          </p:nvSpPr>
          <p:spPr>
            <a:xfrm>
              <a:off x="534600" y="5359680"/>
              <a:ext cx="25560" cy="2217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22"/>
            <p:cNvSpPr/>
            <p:nvPr/>
          </p:nvSpPr>
          <p:spPr>
            <a:xfrm>
              <a:off x="590400" y="6244920"/>
              <a:ext cx="165600" cy="6224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34" name="Freeform 27"/>
            <p:cNvSpPr/>
            <p:nvPr/>
          </p:nvSpPr>
          <p:spPr>
            <a:xfrm>
              <a:off x="20520" y="0"/>
              <a:ext cx="409320" cy="4401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28"/>
            <p:cNvSpPr/>
            <p:nvPr/>
          </p:nvSpPr>
          <p:spPr>
            <a:xfrm>
              <a:off x="453960" y="4316400"/>
              <a:ext cx="350640" cy="15807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29"/>
            <p:cNvSpPr/>
            <p:nvPr/>
          </p:nvSpPr>
          <p:spPr>
            <a:xfrm>
              <a:off x="831600" y="5862960"/>
              <a:ext cx="357120" cy="990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30"/>
            <p:cNvSpPr/>
            <p:nvPr/>
          </p:nvSpPr>
          <p:spPr>
            <a:xfrm>
              <a:off x="429840" y="4364280"/>
              <a:ext cx="457200" cy="22359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31"/>
            <p:cNvSpPr/>
            <p:nvPr/>
          </p:nvSpPr>
          <p:spPr>
            <a:xfrm>
              <a:off x="385560" y="1288800"/>
              <a:ext cx="144360" cy="30272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32"/>
            <p:cNvSpPr/>
            <p:nvPr/>
          </p:nvSpPr>
          <p:spPr>
            <a:xfrm>
              <a:off x="919080" y="6571800"/>
              <a:ext cx="110880" cy="2815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33"/>
            <p:cNvSpPr/>
            <p:nvPr/>
          </p:nvSpPr>
          <p:spPr>
            <a:xfrm>
              <a:off x="414000" y="4107600"/>
              <a:ext cx="68040" cy="5115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34"/>
            <p:cNvSpPr/>
            <p:nvPr/>
          </p:nvSpPr>
          <p:spPr>
            <a:xfrm>
              <a:off x="804600" y="3145680"/>
              <a:ext cx="1168560" cy="27169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35"/>
            <p:cNvSpPr/>
            <p:nvPr/>
          </p:nvSpPr>
          <p:spPr>
            <a:xfrm>
              <a:off x="887400" y="6600600"/>
              <a:ext cx="99720" cy="2527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36"/>
            <p:cNvSpPr/>
            <p:nvPr/>
          </p:nvSpPr>
          <p:spPr>
            <a:xfrm>
              <a:off x="804600" y="5897160"/>
              <a:ext cx="114120" cy="6742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37"/>
            <p:cNvSpPr/>
            <p:nvPr/>
          </p:nvSpPr>
          <p:spPr>
            <a:xfrm>
              <a:off x="804600" y="5772600"/>
              <a:ext cx="31680" cy="2278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38"/>
            <p:cNvSpPr/>
            <p:nvPr/>
          </p:nvSpPr>
          <p:spPr>
            <a:xfrm>
              <a:off x="831600" y="6322680"/>
              <a:ext cx="174600" cy="53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reeform 8"/>
          <p:cNvSpPr/>
          <p:nvPr/>
        </p:nvSpPr>
        <p:spPr>
          <a:xfrm>
            <a:off x="-31680" y="4321080"/>
            <a:ext cx="1395360" cy="781200"/>
          </a:xfrm>
          <a:prstGeom prst="pie">
            <a:avLst/>
          </a:pr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dt" idx="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ftr" idx="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sldNum" idx="9"/>
          </p:nvPr>
        </p:nvSpPr>
        <p:spPr>
          <a:xfrm>
            <a:off x="423360" y="4529160"/>
            <a:ext cx="58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CB5BA-7856-4083-A229-6FD3248C850F}" type="slidenum">
              <a:rPr b="0" lang="zh-CN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90" name="Freeform 11"/>
            <p:cNvSpPr/>
            <p:nvPr/>
          </p:nvSpPr>
          <p:spPr>
            <a:xfrm>
              <a:off x="0" y="2575080"/>
              <a:ext cx="69840" cy="6260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12"/>
            <p:cNvSpPr/>
            <p:nvPr/>
          </p:nvSpPr>
          <p:spPr>
            <a:xfrm>
              <a:off x="89280" y="3156480"/>
              <a:ext cx="449280" cy="23223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13"/>
            <p:cNvSpPr/>
            <p:nvPr/>
          </p:nvSpPr>
          <p:spPr>
            <a:xfrm>
              <a:off x="560520" y="5447160"/>
              <a:ext cx="423360" cy="1420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14"/>
            <p:cNvSpPr/>
            <p:nvPr/>
          </p:nvSpPr>
          <p:spPr>
            <a:xfrm>
              <a:off x="666720" y="6504120"/>
              <a:ext cx="118800" cy="3632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5"/>
            <p:cNvSpPr/>
            <p:nvPr/>
          </p:nvSpPr>
          <p:spPr>
            <a:xfrm>
              <a:off x="69840" y="3201120"/>
              <a:ext cx="570960" cy="33285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16"/>
            <p:cNvSpPr/>
            <p:nvPr/>
          </p:nvSpPr>
          <p:spPr>
            <a:xfrm>
              <a:off x="15480" y="228600"/>
              <a:ext cx="73800" cy="29278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17"/>
            <p:cNvSpPr/>
            <p:nvPr/>
          </p:nvSpPr>
          <p:spPr>
            <a:xfrm>
              <a:off x="54360" y="2944080"/>
              <a:ext cx="54360" cy="493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18"/>
            <p:cNvSpPr/>
            <p:nvPr/>
          </p:nvSpPr>
          <p:spPr>
            <a:xfrm>
              <a:off x="534600" y="5478840"/>
              <a:ext cx="131760" cy="1024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19"/>
            <p:cNvSpPr/>
            <p:nvPr/>
          </p:nvSpPr>
          <p:spPr>
            <a:xfrm>
              <a:off x="538560" y="1398960"/>
              <a:ext cx="1442520" cy="4048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20"/>
            <p:cNvSpPr/>
            <p:nvPr/>
          </p:nvSpPr>
          <p:spPr>
            <a:xfrm>
              <a:off x="640800" y="6530040"/>
              <a:ext cx="112320" cy="3373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21"/>
            <p:cNvSpPr/>
            <p:nvPr/>
          </p:nvSpPr>
          <p:spPr>
            <a:xfrm>
              <a:off x="534600" y="5359680"/>
              <a:ext cx="25560" cy="2217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22"/>
            <p:cNvSpPr/>
            <p:nvPr/>
          </p:nvSpPr>
          <p:spPr>
            <a:xfrm>
              <a:off x="590400" y="6244920"/>
              <a:ext cx="165600" cy="6224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03" name="Freeform 27"/>
            <p:cNvSpPr/>
            <p:nvPr/>
          </p:nvSpPr>
          <p:spPr>
            <a:xfrm>
              <a:off x="20520" y="0"/>
              <a:ext cx="409320" cy="4401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28"/>
            <p:cNvSpPr/>
            <p:nvPr/>
          </p:nvSpPr>
          <p:spPr>
            <a:xfrm>
              <a:off x="453960" y="4316400"/>
              <a:ext cx="350640" cy="15807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29"/>
            <p:cNvSpPr/>
            <p:nvPr/>
          </p:nvSpPr>
          <p:spPr>
            <a:xfrm>
              <a:off x="831600" y="5862960"/>
              <a:ext cx="357120" cy="990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30"/>
            <p:cNvSpPr/>
            <p:nvPr/>
          </p:nvSpPr>
          <p:spPr>
            <a:xfrm>
              <a:off x="429840" y="4364280"/>
              <a:ext cx="457200" cy="22359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31"/>
            <p:cNvSpPr/>
            <p:nvPr/>
          </p:nvSpPr>
          <p:spPr>
            <a:xfrm>
              <a:off x="385560" y="1288800"/>
              <a:ext cx="144360" cy="30272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32"/>
            <p:cNvSpPr/>
            <p:nvPr/>
          </p:nvSpPr>
          <p:spPr>
            <a:xfrm>
              <a:off x="919080" y="6571800"/>
              <a:ext cx="110880" cy="2815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33"/>
            <p:cNvSpPr/>
            <p:nvPr/>
          </p:nvSpPr>
          <p:spPr>
            <a:xfrm>
              <a:off x="414000" y="4107600"/>
              <a:ext cx="68040" cy="5115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34"/>
            <p:cNvSpPr/>
            <p:nvPr/>
          </p:nvSpPr>
          <p:spPr>
            <a:xfrm>
              <a:off x="804600" y="3145680"/>
              <a:ext cx="1168560" cy="27169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35"/>
            <p:cNvSpPr/>
            <p:nvPr/>
          </p:nvSpPr>
          <p:spPr>
            <a:xfrm>
              <a:off x="887400" y="6600600"/>
              <a:ext cx="99720" cy="2527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36"/>
            <p:cNvSpPr/>
            <p:nvPr/>
          </p:nvSpPr>
          <p:spPr>
            <a:xfrm>
              <a:off x="804600" y="5897160"/>
              <a:ext cx="114120" cy="6742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37"/>
            <p:cNvSpPr/>
            <p:nvPr/>
          </p:nvSpPr>
          <p:spPr>
            <a:xfrm>
              <a:off x="804600" y="5772600"/>
              <a:ext cx="31680" cy="2278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38"/>
            <p:cNvSpPr/>
            <p:nvPr/>
          </p:nvSpPr>
          <p:spPr>
            <a:xfrm>
              <a:off x="831600" y="6322680"/>
              <a:ext cx="174600" cy="53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reeform 11"/>
          <p:cNvSpPr/>
          <p:nvPr/>
        </p:nvSpPr>
        <p:spPr>
          <a:xfrm flipV="1">
            <a:off x="0" y="710280"/>
            <a:ext cx="1359000" cy="507960"/>
          </a:xfrm>
          <a:prstGeom prst="pie">
            <a:avLst/>
          </a:pr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2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0DFD0-5AA7-40B4-825C-3E15966642F5}" type="slidenum">
              <a:rPr b="0" lang="zh-CN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59" name="Freeform 11"/>
            <p:cNvSpPr/>
            <p:nvPr/>
          </p:nvSpPr>
          <p:spPr>
            <a:xfrm>
              <a:off x="0" y="2575080"/>
              <a:ext cx="69840" cy="6260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12"/>
            <p:cNvSpPr/>
            <p:nvPr/>
          </p:nvSpPr>
          <p:spPr>
            <a:xfrm>
              <a:off x="89280" y="3156480"/>
              <a:ext cx="449280" cy="23223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13"/>
            <p:cNvSpPr/>
            <p:nvPr/>
          </p:nvSpPr>
          <p:spPr>
            <a:xfrm>
              <a:off x="560520" y="5447160"/>
              <a:ext cx="423360" cy="1420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14"/>
            <p:cNvSpPr/>
            <p:nvPr/>
          </p:nvSpPr>
          <p:spPr>
            <a:xfrm>
              <a:off x="666720" y="6504120"/>
              <a:ext cx="118800" cy="3632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15"/>
            <p:cNvSpPr/>
            <p:nvPr/>
          </p:nvSpPr>
          <p:spPr>
            <a:xfrm>
              <a:off x="69840" y="3201120"/>
              <a:ext cx="570960" cy="33285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16"/>
            <p:cNvSpPr/>
            <p:nvPr/>
          </p:nvSpPr>
          <p:spPr>
            <a:xfrm>
              <a:off x="15480" y="228600"/>
              <a:ext cx="73800" cy="29278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17"/>
            <p:cNvSpPr/>
            <p:nvPr/>
          </p:nvSpPr>
          <p:spPr>
            <a:xfrm>
              <a:off x="54360" y="2944080"/>
              <a:ext cx="54360" cy="493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18"/>
            <p:cNvSpPr/>
            <p:nvPr/>
          </p:nvSpPr>
          <p:spPr>
            <a:xfrm>
              <a:off x="534600" y="5478840"/>
              <a:ext cx="131760" cy="1024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19"/>
            <p:cNvSpPr/>
            <p:nvPr/>
          </p:nvSpPr>
          <p:spPr>
            <a:xfrm>
              <a:off x="538560" y="1398960"/>
              <a:ext cx="1442520" cy="4048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20"/>
            <p:cNvSpPr/>
            <p:nvPr/>
          </p:nvSpPr>
          <p:spPr>
            <a:xfrm>
              <a:off x="640800" y="6530040"/>
              <a:ext cx="112320" cy="3373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21"/>
            <p:cNvSpPr/>
            <p:nvPr/>
          </p:nvSpPr>
          <p:spPr>
            <a:xfrm>
              <a:off x="534600" y="5359680"/>
              <a:ext cx="25560" cy="2217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22"/>
            <p:cNvSpPr/>
            <p:nvPr/>
          </p:nvSpPr>
          <p:spPr>
            <a:xfrm>
              <a:off x="590400" y="6244920"/>
              <a:ext cx="165600" cy="6224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72" name="Freeform 27"/>
            <p:cNvSpPr/>
            <p:nvPr/>
          </p:nvSpPr>
          <p:spPr>
            <a:xfrm>
              <a:off x="20520" y="0"/>
              <a:ext cx="409320" cy="4401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28"/>
            <p:cNvSpPr/>
            <p:nvPr/>
          </p:nvSpPr>
          <p:spPr>
            <a:xfrm>
              <a:off x="453960" y="4316400"/>
              <a:ext cx="350640" cy="15807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29"/>
            <p:cNvSpPr/>
            <p:nvPr/>
          </p:nvSpPr>
          <p:spPr>
            <a:xfrm>
              <a:off x="831600" y="5862960"/>
              <a:ext cx="357120" cy="990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30"/>
            <p:cNvSpPr/>
            <p:nvPr/>
          </p:nvSpPr>
          <p:spPr>
            <a:xfrm>
              <a:off x="429840" y="4364280"/>
              <a:ext cx="457200" cy="22359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31"/>
            <p:cNvSpPr/>
            <p:nvPr/>
          </p:nvSpPr>
          <p:spPr>
            <a:xfrm>
              <a:off x="385560" y="1288800"/>
              <a:ext cx="144360" cy="30272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32"/>
            <p:cNvSpPr/>
            <p:nvPr/>
          </p:nvSpPr>
          <p:spPr>
            <a:xfrm>
              <a:off x="919080" y="6571800"/>
              <a:ext cx="110880" cy="2815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33"/>
            <p:cNvSpPr/>
            <p:nvPr/>
          </p:nvSpPr>
          <p:spPr>
            <a:xfrm>
              <a:off x="414000" y="4107600"/>
              <a:ext cx="68040" cy="5115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34"/>
            <p:cNvSpPr/>
            <p:nvPr/>
          </p:nvSpPr>
          <p:spPr>
            <a:xfrm>
              <a:off x="804600" y="3145680"/>
              <a:ext cx="1168560" cy="27169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35"/>
            <p:cNvSpPr/>
            <p:nvPr/>
          </p:nvSpPr>
          <p:spPr>
            <a:xfrm>
              <a:off x="887400" y="6600600"/>
              <a:ext cx="99720" cy="2527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36"/>
            <p:cNvSpPr/>
            <p:nvPr/>
          </p:nvSpPr>
          <p:spPr>
            <a:xfrm>
              <a:off x="804600" y="5897160"/>
              <a:ext cx="114120" cy="6742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37"/>
            <p:cNvSpPr/>
            <p:nvPr/>
          </p:nvSpPr>
          <p:spPr>
            <a:xfrm>
              <a:off x="804600" y="5772600"/>
              <a:ext cx="31680" cy="2278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38"/>
            <p:cNvSpPr/>
            <p:nvPr/>
          </p:nvSpPr>
          <p:spPr>
            <a:xfrm>
              <a:off x="831600" y="6322680"/>
              <a:ext cx="174600" cy="53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Freeform 11"/>
          <p:cNvSpPr/>
          <p:nvPr/>
        </p:nvSpPr>
        <p:spPr>
          <a:xfrm flipV="1">
            <a:off x="0" y="3166920"/>
            <a:ext cx="1359000" cy="508320"/>
          </a:xfrm>
          <a:prstGeom prst="pie">
            <a:avLst/>
          </a:pr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dt" idx="1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ftr" idx="1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sldNum" idx="15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6B2C9-6187-44E3-B723-F11D43732C59}" type="slidenum">
              <a:rPr b="0" lang="zh-CN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328" name="Freeform 11"/>
            <p:cNvSpPr/>
            <p:nvPr/>
          </p:nvSpPr>
          <p:spPr>
            <a:xfrm>
              <a:off x="0" y="2575080"/>
              <a:ext cx="69840" cy="6260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12"/>
            <p:cNvSpPr/>
            <p:nvPr/>
          </p:nvSpPr>
          <p:spPr>
            <a:xfrm>
              <a:off x="89280" y="3156480"/>
              <a:ext cx="449280" cy="23223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13"/>
            <p:cNvSpPr/>
            <p:nvPr/>
          </p:nvSpPr>
          <p:spPr>
            <a:xfrm>
              <a:off x="560520" y="5447160"/>
              <a:ext cx="423360" cy="1420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14"/>
            <p:cNvSpPr/>
            <p:nvPr/>
          </p:nvSpPr>
          <p:spPr>
            <a:xfrm>
              <a:off x="666720" y="6504120"/>
              <a:ext cx="118800" cy="3632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15"/>
            <p:cNvSpPr/>
            <p:nvPr/>
          </p:nvSpPr>
          <p:spPr>
            <a:xfrm>
              <a:off x="69840" y="3201120"/>
              <a:ext cx="570960" cy="33285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16"/>
            <p:cNvSpPr/>
            <p:nvPr/>
          </p:nvSpPr>
          <p:spPr>
            <a:xfrm>
              <a:off x="15480" y="228600"/>
              <a:ext cx="73800" cy="29278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17"/>
            <p:cNvSpPr/>
            <p:nvPr/>
          </p:nvSpPr>
          <p:spPr>
            <a:xfrm>
              <a:off x="54360" y="2944080"/>
              <a:ext cx="54360" cy="493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18"/>
            <p:cNvSpPr/>
            <p:nvPr/>
          </p:nvSpPr>
          <p:spPr>
            <a:xfrm>
              <a:off x="534600" y="5478840"/>
              <a:ext cx="131760" cy="1024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19"/>
            <p:cNvSpPr/>
            <p:nvPr/>
          </p:nvSpPr>
          <p:spPr>
            <a:xfrm>
              <a:off x="538560" y="1398960"/>
              <a:ext cx="1442520" cy="4048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20"/>
            <p:cNvSpPr/>
            <p:nvPr/>
          </p:nvSpPr>
          <p:spPr>
            <a:xfrm>
              <a:off x="640800" y="6530040"/>
              <a:ext cx="112320" cy="3373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21"/>
            <p:cNvSpPr/>
            <p:nvPr/>
          </p:nvSpPr>
          <p:spPr>
            <a:xfrm>
              <a:off x="534600" y="5359680"/>
              <a:ext cx="25560" cy="2217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22"/>
            <p:cNvSpPr/>
            <p:nvPr/>
          </p:nvSpPr>
          <p:spPr>
            <a:xfrm>
              <a:off x="590400" y="6244920"/>
              <a:ext cx="165600" cy="6224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341" name="Freeform 27"/>
            <p:cNvSpPr/>
            <p:nvPr/>
          </p:nvSpPr>
          <p:spPr>
            <a:xfrm>
              <a:off x="20520" y="0"/>
              <a:ext cx="409320" cy="4401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28"/>
            <p:cNvSpPr/>
            <p:nvPr/>
          </p:nvSpPr>
          <p:spPr>
            <a:xfrm>
              <a:off x="453960" y="4316400"/>
              <a:ext cx="350640" cy="15807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29"/>
            <p:cNvSpPr/>
            <p:nvPr/>
          </p:nvSpPr>
          <p:spPr>
            <a:xfrm>
              <a:off x="831600" y="5862960"/>
              <a:ext cx="357120" cy="990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30"/>
            <p:cNvSpPr/>
            <p:nvPr/>
          </p:nvSpPr>
          <p:spPr>
            <a:xfrm>
              <a:off x="429840" y="4364280"/>
              <a:ext cx="457200" cy="22359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31"/>
            <p:cNvSpPr/>
            <p:nvPr/>
          </p:nvSpPr>
          <p:spPr>
            <a:xfrm>
              <a:off x="385560" y="1288800"/>
              <a:ext cx="144360" cy="30272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32"/>
            <p:cNvSpPr/>
            <p:nvPr/>
          </p:nvSpPr>
          <p:spPr>
            <a:xfrm>
              <a:off x="919080" y="6571800"/>
              <a:ext cx="110880" cy="2815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33"/>
            <p:cNvSpPr/>
            <p:nvPr/>
          </p:nvSpPr>
          <p:spPr>
            <a:xfrm>
              <a:off x="414000" y="4107600"/>
              <a:ext cx="68040" cy="5115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34"/>
            <p:cNvSpPr/>
            <p:nvPr/>
          </p:nvSpPr>
          <p:spPr>
            <a:xfrm>
              <a:off x="804600" y="3145680"/>
              <a:ext cx="1168560" cy="27169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35"/>
            <p:cNvSpPr/>
            <p:nvPr/>
          </p:nvSpPr>
          <p:spPr>
            <a:xfrm>
              <a:off x="887400" y="6600600"/>
              <a:ext cx="99720" cy="2527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36"/>
            <p:cNvSpPr/>
            <p:nvPr/>
          </p:nvSpPr>
          <p:spPr>
            <a:xfrm>
              <a:off x="804600" y="5897160"/>
              <a:ext cx="114120" cy="6742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37"/>
            <p:cNvSpPr/>
            <p:nvPr/>
          </p:nvSpPr>
          <p:spPr>
            <a:xfrm>
              <a:off x="804600" y="5772600"/>
              <a:ext cx="31680" cy="2278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38"/>
            <p:cNvSpPr/>
            <p:nvPr/>
          </p:nvSpPr>
          <p:spPr>
            <a:xfrm>
              <a:off x="831600" y="6322680"/>
              <a:ext cx="174600" cy="53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Freeform 11"/>
          <p:cNvSpPr/>
          <p:nvPr/>
        </p:nvSpPr>
        <p:spPr>
          <a:xfrm flipV="1">
            <a:off x="0" y="710280"/>
            <a:ext cx="1359000" cy="507960"/>
          </a:xfrm>
          <a:prstGeom prst="pie">
            <a:avLst/>
          </a:pr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1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1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1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9C35D-0BD6-4960-980E-742D38A255FF}" type="slidenum">
              <a:rPr b="0" lang="zh-CN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397" name="Freeform 11"/>
            <p:cNvSpPr/>
            <p:nvPr/>
          </p:nvSpPr>
          <p:spPr>
            <a:xfrm>
              <a:off x="0" y="2575080"/>
              <a:ext cx="69840" cy="6260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12"/>
            <p:cNvSpPr/>
            <p:nvPr/>
          </p:nvSpPr>
          <p:spPr>
            <a:xfrm>
              <a:off x="89280" y="3156480"/>
              <a:ext cx="449280" cy="23223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13"/>
            <p:cNvSpPr/>
            <p:nvPr/>
          </p:nvSpPr>
          <p:spPr>
            <a:xfrm>
              <a:off x="560520" y="5447160"/>
              <a:ext cx="423360" cy="1420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14"/>
            <p:cNvSpPr/>
            <p:nvPr/>
          </p:nvSpPr>
          <p:spPr>
            <a:xfrm>
              <a:off x="666720" y="6504120"/>
              <a:ext cx="118800" cy="3632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15"/>
            <p:cNvSpPr/>
            <p:nvPr/>
          </p:nvSpPr>
          <p:spPr>
            <a:xfrm>
              <a:off x="69840" y="3201120"/>
              <a:ext cx="570960" cy="33285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16"/>
            <p:cNvSpPr/>
            <p:nvPr/>
          </p:nvSpPr>
          <p:spPr>
            <a:xfrm>
              <a:off x="15480" y="228600"/>
              <a:ext cx="73800" cy="29278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7"/>
            <p:cNvSpPr/>
            <p:nvPr/>
          </p:nvSpPr>
          <p:spPr>
            <a:xfrm>
              <a:off x="54360" y="2944080"/>
              <a:ext cx="54360" cy="493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8"/>
            <p:cNvSpPr/>
            <p:nvPr/>
          </p:nvSpPr>
          <p:spPr>
            <a:xfrm>
              <a:off x="534600" y="5478840"/>
              <a:ext cx="131760" cy="1024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9"/>
            <p:cNvSpPr/>
            <p:nvPr/>
          </p:nvSpPr>
          <p:spPr>
            <a:xfrm>
              <a:off x="538560" y="1398960"/>
              <a:ext cx="1442520" cy="4048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20"/>
            <p:cNvSpPr/>
            <p:nvPr/>
          </p:nvSpPr>
          <p:spPr>
            <a:xfrm>
              <a:off x="640800" y="6530040"/>
              <a:ext cx="112320" cy="3373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21"/>
            <p:cNvSpPr/>
            <p:nvPr/>
          </p:nvSpPr>
          <p:spPr>
            <a:xfrm>
              <a:off x="534600" y="5359680"/>
              <a:ext cx="25560" cy="2217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22"/>
            <p:cNvSpPr/>
            <p:nvPr/>
          </p:nvSpPr>
          <p:spPr>
            <a:xfrm>
              <a:off x="590400" y="6244920"/>
              <a:ext cx="165600" cy="6224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10" name="Freeform 27"/>
            <p:cNvSpPr/>
            <p:nvPr/>
          </p:nvSpPr>
          <p:spPr>
            <a:xfrm>
              <a:off x="20520" y="0"/>
              <a:ext cx="409320" cy="4401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28"/>
            <p:cNvSpPr/>
            <p:nvPr/>
          </p:nvSpPr>
          <p:spPr>
            <a:xfrm>
              <a:off x="453960" y="4316400"/>
              <a:ext cx="350640" cy="15807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29"/>
            <p:cNvSpPr/>
            <p:nvPr/>
          </p:nvSpPr>
          <p:spPr>
            <a:xfrm>
              <a:off x="831600" y="5862960"/>
              <a:ext cx="357120" cy="990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30"/>
            <p:cNvSpPr/>
            <p:nvPr/>
          </p:nvSpPr>
          <p:spPr>
            <a:xfrm>
              <a:off x="429840" y="4364280"/>
              <a:ext cx="457200" cy="22359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31"/>
            <p:cNvSpPr/>
            <p:nvPr/>
          </p:nvSpPr>
          <p:spPr>
            <a:xfrm>
              <a:off x="385560" y="1288800"/>
              <a:ext cx="144360" cy="30272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32"/>
            <p:cNvSpPr/>
            <p:nvPr/>
          </p:nvSpPr>
          <p:spPr>
            <a:xfrm>
              <a:off x="919080" y="6571800"/>
              <a:ext cx="110880" cy="2815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33"/>
            <p:cNvSpPr/>
            <p:nvPr/>
          </p:nvSpPr>
          <p:spPr>
            <a:xfrm>
              <a:off x="414000" y="4107600"/>
              <a:ext cx="68040" cy="5115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34"/>
            <p:cNvSpPr/>
            <p:nvPr/>
          </p:nvSpPr>
          <p:spPr>
            <a:xfrm>
              <a:off x="804600" y="3145680"/>
              <a:ext cx="1168560" cy="27169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35"/>
            <p:cNvSpPr/>
            <p:nvPr/>
          </p:nvSpPr>
          <p:spPr>
            <a:xfrm>
              <a:off x="887400" y="6600600"/>
              <a:ext cx="99720" cy="2527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36"/>
            <p:cNvSpPr/>
            <p:nvPr/>
          </p:nvSpPr>
          <p:spPr>
            <a:xfrm>
              <a:off x="804600" y="5897160"/>
              <a:ext cx="114120" cy="6742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37"/>
            <p:cNvSpPr/>
            <p:nvPr/>
          </p:nvSpPr>
          <p:spPr>
            <a:xfrm>
              <a:off x="804600" y="5772600"/>
              <a:ext cx="31680" cy="2278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38"/>
            <p:cNvSpPr/>
            <p:nvPr/>
          </p:nvSpPr>
          <p:spPr>
            <a:xfrm>
              <a:off x="831600" y="6322680"/>
              <a:ext cx="174600" cy="53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Freeform 11"/>
          <p:cNvSpPr/>
          <p:nvPr/>
        </p:nvSpPr>
        <p:spPr>
          <a:xfrm flipV="1">
            <a:off x="0" y="710280"/>
            <a:ext cx="1359000" cy="507960"/>
          </a:xfrm>
          <a:prstGeom prst="pie">
            <a:avLst/>
          </a:pr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1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6640C-21E6-4979-9816-38F2AAFBB00D}" type="slidenum">
              <a:rPr b="0" lang="zh-CN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5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66" name="Freeform 11"/>
            <p:cNvSpPr/>
            <p:nvPr/>
          </p:nvSpPr>
          <p:spPr>
            <a:xfrm>
              <a:off x="0" y="2575080"/>
              <a:ext cx="69840" cy="6260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12"/>
            <p:cNvSpPr/>
            <p:nvPr/>
          </p:nvSpPr>
          <p:spPr>
            <a:xfrm>
              <a:off x="89280" y="3156480"/>
              <a:ext cx="449280" cy="23223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13"/>
            <p:cNvSpPr/>
            <p:nvPr/>
          </p:nvSpPr>
          <p:spPr>
            <a:xfrm>
              <a:off x="560520" y="5447160"/>
              <a:ext cx="423360" cy="1420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14"/>
            <p:cNvSpPr/>
            <p:nvPr/>
          </p:nvSpPr>
          <p:spPr>
            <a:xfrm>
              <a:off x="666720" y="6504120"/>
              <a:ext cx="118800" cy="3632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15"/>
            <p:cNvSpPr/>
            <p:nvPr/>
          </p:nvSpPr>
          <p:spPr>
            <a:xfrm>
              <a:off x="69840" y="3201120"/>
              <a:ext cx="570960" cy="33285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16"/>
            <p:cNvSpPr/>
            <p:nvPr/>
          </p:nvSpPr>
          <p:spPr>
            <a:xfrm>
              <a:off x="15480" y="228600"/>
              <a:ext cx="73800" cy="29278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17"/>
            <p:cNvSpPr/>
            <p:nvPr/>
          </p:nvSpPr>
          <p:spPr>
            <a:xfrm>
              <a:off x="54360" y="2944080"/>
              <a:ext cx="54360" cy="493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18"/>
            <p:cNvSpPr/>
            <p:nvPr/>
          </p:nvSpPr>
          <p:spPr>
            <a:xfrm>
              <a:off x="534600" y="5478840"/>
              <a:ext cx="131760" cy="1024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19"/>
            <p:cNvSpPr/>
            <p:nvPr/>
          </p:nvSpPr>
          <p:spPr>
            <a:xfrm>
              <a:off x="538560" y="1398960"/>
              <a:ext cx="1442520" cy="4048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20"/>
            <p:cNvSpPr/>
            <p:nvPr/>
          </p:nvSpPr>
          <p:spPr>
            <a:xfrm>
              <a:off x="640800" y="6530040"/>
              <a:ext cx="112320" cy="3373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21"/>
            <p:cNvSpPr/>
            <p:nvPr/>
          </p:nvSpPr>
          <p:spPr>
            <a:xfrm>
              <a:off x="534600" y="5359680"/>
              <a:ext cx="25560" cy="2217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22"/>
            <p:cNvSpPr/>
            <p:nvPr/>
          </p:nvSpPr>
          <p:spPr>
            <a:xfrm>
              <a:off x="590400" y="6244920"/>
              <a:ext cx="165600" cy="6224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8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79" name="Freeform 27"/>
            <p:cNvSpPr/>
            <p:nvPr/>
          </p:nvSpPr>
          <p:spPr>
            <a:xfrm>
              <a:off x="20520" y="0"/>
              <a:ext cx="409320" cy="4401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28"/>
            <p:cNvSpPr/>
            <p:nvPr/>
          </p:nvSpPr>
          <p:spPr>
            <a:xfrm>
              <a:off x="453960" y="4316400"/>
              <a:ext cx="350640" cy="15807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29"/>
            <p:cNvSpPr/>
            <p:nvPr/>
          </p:nvSpPr>
          <p:spPr>
            <a:xfrm>
              <a:off x="831600" y="5862960"/>
              <a:ext cx="357120" cy="990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30"/>
            <p:cNvSpPr/>
            <p:nvPr/>
          </p:nvSpPr>
          <p:spPr>
            <a:xfrm>
              <a:off x="429840" y="4364280"/>
              <a:ext cx="457200" cy="22359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31"/>
            <p:cNvSpPr/>
            <p:nvPr/>
          </p:nvSpPr>
          <p:spPr>
            <a:xfrm>
              <a:off x="385560" y="1288800"/>
              <a:ext cx="144360" cy="30272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32"/>
            <p:cNvSpPr/>
            <p:nvPr/>
          </p:nvSpPr>
          <p:spPr>
            <a:xfrm>
              <a:off x="919080" y="6571800"/>
              <a:ext cx="110880" cy="2815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33"/>
            <p:cNvSpPr/>
            <p:nvPr/>
          </p:nvSpPr>
          <p:spPr>
            <a:xfrm>
              <a:off x="414000" y="4107600"/>
              <a:ext cx="68040" cy="5115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34"/>
            <p:cNvSpPr/>
            <p:nvPr/>
          </p:nvSpPr>
          <p:spPr>
            <a:xfrm>
              <a:off x="804600" y="3145680"/>
              <a:ext cx="1168560" cy="27169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35"/>
            <p:cNvSpPr/>
            <p:nvPr/>
          </p:nvSpPr>
          <p:spPr>
            <a:xfrm>
              <a:off x="887400" y="6600600"/>
              <a:ext cx="99720" cy="2527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36"/>
            <p:cNvSpPr/>
            <p:nvPr/>
          </p:nvSpPr>
          <p:spPr>
            <a:xfrm>
              <a:off x="804600" y="5897160"/>
              <a:ext cx="114120" cy="6742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37"/>
            <p:cNvSpPr/>
            <p:nvPr/>
          </p:nvSpPr>
          <p:spPr>
            <a:xfrm>
              <a:off x="804600" y="5772600"/>
              <a:ext cx="31680" cy="2278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38"/>
            <p:cNvSpPr/>
            <p:nvPr/>
          </p:nvSpPr>
          <p:spPr>
            <a:xfrm>
              <a:off x="831600" y="6322680"/>
              <a:ext cx="174600" cy="53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1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Freeform 11"/>
          <p:cNvSpPr/>
          <p:nvPr/>
        </p:nvSpPr>
        <p:spPr>
          <a:xfrm flipV="1">
            <a:off x="0" y="710280"/>
            <a:ext cx="1359000" cy="507960"/>
          </a:xfrm>
          <a:prstGeom prst="pie">
            <a:avLst/>
          </a:pr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dt" idx="22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ftr" idx="23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sldNum" idx="24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6C962-34BA-4238-AE06-B65BC099724B}" type="slidenum">
              <a:rPr b="0" lang="zh-CN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4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535" name="Freeform 11"/>
            <p:cNvSpPr/>
            <p:nvPr/>
          </p:nvSpPr>
          <p:spPr>
            <a:xfrm>
              <a:off x="0" y="2575080"/>
              <a:ext cx="69840" cy="6260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Freeform 12"/>
            <p:cNvSpPr/>
            <p:nvPr/>
          </p:nvSpPr>
          <p:spPr>
            <a:xfrm>
              <a:off x="89280" y="3156480"/>
              <a:ext cx="449280" cy="23223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Freeform 13"/>
            <p:cNvSpPr/>
            <p:nvPr/>
          </p:nvSpPr>
          <p:spPr>
            <a:xfrm>
              <a:off x="560520" y="5447160"/>
              <a:ext cx="423360" cy="1420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14"/>
            <p:cNvSpPr/>
            <p:nvPr/>
          </p:nvSpPr>
          <p:spPr>
            <a:xfrm>
              <a:off x="666720" y="6504120"/>
              <a:ext cx="118800" cy="3632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15"/>
            <p:cNvSpPr/>
            <p:nvPr/>
          </p:nvSpPr>
          <p:spPr>
            <a:xfrm>
              <a:off x="69840" y="3201120"/>
              <a:ext cx="570960" cy="33285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16"/>
            <p:cNvSpPr/>
            <p:nvPr/>
          </p:nvSpPr>
          <p:spPr>
            <a:xfrm>
              <a:off x="15480" y="228600"/>
              <a:ext cx="73800" cy="29278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17"/>
            <p:cNvSpPr/>
            <p:nvPr/>
          </p:nvSpPr>
          <p:spPr>
            <a:xfrm>
              <a:off x="54360" y="2944080"/>
              <a:ext cx="54360" cy="493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eform 18"/>
            <p:cNvSpPr/>
            <p:nvPr/>
          </p:nvSpPr>
          <p:spPr>
            <a:xfrm>
              <a:off x="534600" y="5478840"/>
              <a:ext cx="131760" cy="1024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eform 19"/>
            <p:cNvSpPr/>
            <p:nvPr/>
          </p:nvSpPr>
          <p:spPr>
            <a:xfrm>
              <a:off x="538560" y="1398960"/>
              <a:ext cx="1442520" cy="4048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Freeform 20"/>
            <p:cNvSpPr/>
            <p:nvPr/>
          </p:nvSpPr>
          <p:spPr>
            <a:xfrm>
              <a:off x="640800" y="6530040"/>
              <a:ext cx="112320" cy="3373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Freeform 21"/>
            <p:cNvSpPr/>
            <p:nvPr/>
          </p:nvSpPr>
          <p:spPr>
            <a:xfrm>
              <a:off x="534600" y="5359680"/>
              <a:ext cx="25560" cy="2217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Freeform 22"/>
            <p:cNvSpPr/>
            <p:nvPr/>
          </p:nvSpPr>
          <p:spPr>
            <a:xfrm>
              <a:off x="590400" y="6244920"/>
              <a:ext cx="165600" cy="6224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7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548" name="Freeform 27"/>
            <p:cNvSpPr/>
            <p:nvPr/>
          </p:nvSpPr>
          <p:spPr>
            <a:xfrm>
              <a:off x="20520" y="0"/>
              <a:ext cx="409320" cy="4401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28"/>
            <p:cNvSpPr/>
            <p:nvPr/>
          </p:nvSpPr>
          <p:spPr>
            <a:xfrm>
              <a:off x="453960" y="4316400"/>
              <a:ext cx="350640" cy="15807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Freeform 29"/>
            <p:cNvSpPr/>
            <p:nvPr/>
          </p:nvSpPr>
          <p:spPr>
            <a:xfrm>
              <a:off x="831600" y="5862960"/>
              <a:ext cx="357120" cy="990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Freeform 30"/>
            <p:cNvSpPr/>
            <p:nvPr/>
          </p:nvSpPr>
          <p:spPr>
            <a:xfrm>
              <a:off x="429840" y="4364280"/>
              <a:ext cx="457200" cy="22359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Freeform 31"/>
            <p:cNvSpPr/>
            <p:nvPr/>
          </p:nvSpPr>
          <p:spPr>
            <a:xfrm>
              <a:off x="385560" y="1288800"/>
              <a:ext cx="144360" cy="30272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32"/>
            <p:cNvSpPr/>
            <p:nvPr/>
          </p:nvSpPr>
          <p:spPr>
            <a:xfrm>
              <a:off x="919080" y="6571800"/>
              <a:ext cx="110880" cy="2815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33"/>
            <p:cNvSpPr/>
            <p:nvPr/>
          </p:nvSpPr>
          <p:spPr>
            <a:xfrm>
              <a:off x="414000" y="4107600"/>
              <a:ext cx="68040" cy="5115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34"/>
            <p:cNvSpPr/>
            <p:nvPr/>
          </p:nvSpPr>
          <p:spPr>
            <a:xfrm>
              <a:off x="804600" y="3145680"/>
              <a:ext cx="1168560" cy="27169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35"/>
            <p:cNvSpPr/>
            <p:nvPr/>
          </p:nvSpPr>
          <p:spPr>
            <a:xfrm>
              <a:off x="887400" y="6600600"/>
              <a:ext cx="99720" cy="2527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36"/>
            <p:cNvSpPr/>
            <p:nvPr/>
          </p:nvSpPr>
          <p:spPr>
            <a:xfrm>
              <a:off x="804600" y="5897160"/>
              <a:ext cx="114120" cy="6742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37"/>
            <p:cNvSpPr/>
            <p:nvPr/>
          </p:nvSpPr>
          <p:spPr>
            <a:xfrm>
              <a:off x="804600" y="5772600"/>
              <a:ext cx="31680" cy="2278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38"/>
            <p:cNvSpPr/>
            <p:nvPr/>
          </p:nvSpPr>
          <p:spPr>
            <a:xfrm>
              <a:off x="831600" y="6322680"/>
              <a:ext cx="174600" cy="53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0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Freeform 11"/>
          <p:cNvSpPr/>
          <p:nvPr/>
        </p:nvSpPr>
        <p:spPr>
          <a:xfrm flipV="1">
            <a:off x="0" y="710280"/>
            <a:ext cx="1359000" cy="507960"/>
          </a:xfrm>
          <a:prstGeom prst="pie">
            <a:avLst/>
          </a:pr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dt" idx="25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ftr" idx="26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 type="sldNum" idx="27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C9DA7-4B03-4264-B916-1E7A1AEB6EB9}" type="slidenum">
              <a:rPr b="0" lang="zh-CN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Rectangle 1"/>
          <p:cNvSpPr/>
          <p:nvPr/>
        </p:nvSpPr>
        <p:spPr>
          <a:xfrm>
            <a:off x="731880" y="1683000"/>
            <a:ext cx="7601040" cy="22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勤奋</a:t>
            </a:r>
            <a:r>
              <a:rPr b="1" lang="en-US" sz="4800" spc="-1" strike="noStrike">
                <a:solidFill>
                  <a:srgbClr val="000000"/>
                </a:solidFill>
                <a:latin typeface="宋体"/>
              </a:rPr>
              <a:t>+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专注</a:t>
            </a:r>
            <a:r>
              <a:rPr b="1" lang="en-US" sz="4800" spc="-1" strike="noStrike">
                <a:solidFill>
                  <a:srgbClr val="000000"/>
                </a:solidFill>
                <a:latin typeface="宋体"/>
              </a:rPr>
              <a:t>+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坚持</a:t>
            </a:r>
            <a:r>
              <a:rPr b="1" lang="en-US" sz="48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考研成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en-US" sz="4800" spc="-1" strike="noStrike">
                <a:solidFill>
                  <a:srgbClr val="000000"/>
                </a:solidFill>
                <a:latin typeface="宋体"/>
              </a:rPr>
              <a:t>---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考研经历分享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9" name="组合 1"/>
          <p:cNvGrpSpPr/>
          <p:nvPr/>
        </p:nvGrpSpPr>
        <p:grpSpPr>
          <a:xfrm>
            <a:off x="-216000" y="5167440"/>
            <a:ext cx="3637080" cy="3166920"/>
            <a:chOff x="-216000" y="5167440"/>
            <a:chExt cx="3637080" cy="3166920"/>
          </a:xfrm>
        </p:grpSpPr>
        <p:sp>
          <p:nvSpPr>
            <p:cNvPr id="1230" name="Rectangle 4"/>
            <p:cNvSpPr/>
            <p:nvPr/>
          </p:nvSpPr>
          <p:spPr>
            <a:xfrm>
              <a:off x="1259640" y="6237360"/>
              <a:ext cx="216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四川理工学院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31" name="图片 5" descr=""/>
            <p:cNvPicPr/>
            <p:nvPr/>
          </p:nvPicPr>
          <p:blipFill>
            <a:blip r:embed="rId1"/>
            <a:stretch/>
          </p:blipFill>
          <p:spPr>
            <a:xfrm>
              <a:off x="-216000" y="5167440"/>
              <a:ext cx="2375280" cy="3166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32" name="文本框 1"/>
          <p:cNvSpPr/>
          <p:nvPr/>
        </p:nvSpPr>
        <p:spPr>
          <a:xfrm>
            <a:off x="6227640" y="4316400"/>
            <a:ext cx="2448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工艺本硕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王永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8" name="组合 25"/>
          <p:cNvGrpSpPr/>
          <p:nvPr/>
        </p:nvGrpSpPr>
        <p:grpSpPr>
          <a:xfrm>
            <a:off x="179280" y="22320"/>
            <a:ext cx="3921120" cy="647640"/>
            <a:chOff x="179280" y="22320"/>
            <a:chExt cx="3921120" cy="647640"/>
          </a:xfrm>
        </p:grpSpPr>
        <p:sp>
          <p:nvSpPr>
            <p:cNvPr id="1319" name="矩形 7"/>
            <p:cNvSpPr/>
            <p:nvPr/>
          </p:nvSpPr>
          <p:spPr>
            <a:xfrm>
              <a:off x="609480" y="109440"/>
              <a:ext cx="3490920" cy="473040"/>
            </a:xfrm>
            <a:prstGeom prst="rect">
              <a:avLst/>
            </a:prstGeom>
            <a:solidFill>
              <a:srgbClr val="e3e9db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030a0"/>
                  </a:solidFill>
                  <a:latin typeface="Arial"/>
                </a:rPr>
                <a:t>     </a:t>
              </a:r>
              <a:r>
                <a:rPr b="0" lang="zh-CN" sz="1800" spc="-1" strike="noStrike">
                  <a:solidFill>
                    <a:srgbClr val="7030a0"/>
                  </a:solidFill>
                  <a:latin typeface="Arial"/>
                </a:rPr>
                <a:t>考研并没有那么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菱形 8"/>
            <p:cNvSpPr/>
            <p:nvPr/>
          </p:nvSpPr>
          <p:spPr>
            <a:xfrm>
              <a:off x="179280" y="22320"/>
              <a:ext cx="860400" cy="647640"/>
            </a:xfrm>
            <a:prstGeom prst="diamond">
              <a:avLst/>
            </a:prstGeom>
            <a:solidFill>
              <a:srgbClr val="e3e9db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四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1" name="文本框 1"/>
          <p:cNvSpPr/>
          <p:nvPr/>
        </p:nvSpPr>
        <p:spPr>
          <a:xfrm>
            <a:off x="1187280" y="148428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说：我的专业课期末都是飘过的，考研专业课那么难，肿么破？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其实学长的专业课曾经也是飘过的，那只是说明当时没有认真挺好课做好课后作业而已。当你复习了高数再去学自学专业课，你会发现原来专业课里面好多高数知识啊！这就是学以致用，慢慢的便都融会贯通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TextBox 3"/>
          <p:cNvSpPr/>
          <p:nvPr/>
        </p:nvSpPr>
        <p:spPr>
          <a:xfrm>
            <a:off x="1209600" y="2781360"/>
            <a:ext cx="741672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下面我谈下我的考研过程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首先我没有报班，基础一般。其次我参加了第九届化工设计竞赛，也就是三井杯，从去年四月份一直做到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8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月份，去昆明理工答完辩回校我记得是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8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月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号，然后去成都同学家一趟，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8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月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5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回校开始正式考研复习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你没听错，我只复习了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个月的时间。中间还有专业实验和校外实习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总结考研成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我想说：专注、勤奋、坚持！考研并没有那么难，相信自己！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You   can  do   it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1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3" name="组合 25"/>
          <p:cNvGrpSpPr/>
          <p:nvPr/>
        </p:nvGrpSpPr>
        <p:grpSpPr>
          <a:xfrm>
            <a:off x="179280" y="22320"/>
            <a:ext cx="3921120" cy="647640"/>
            <a:chOff x="179280" y="22320"/>
            <a:chExt cx="3921120" cy="647640"/>
          </a:xfrm>
        </p:grpSpPr>
        <p:sp>
          <p:nvSpPr>
            <p:cNvPr id="1324" name="矩形 7"/>
            <p:cNvSpPr/>
            <p:nvPr/>
          </p:nvSpPr>
          <p:spPr>
            <a:xfrm>
              <a:off x="609480" y="109440"/>
              <a:ext cx="3490920" cy="473040"/>
            </a:xfrm>
            <a:prstGeom prst="rect">
              <a:avLst/>
            </a:prstGeom>
            <a:solidFill>
              <a:srgbClr val="e3e9db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030a0"/>
                  </a:solidFill>
                  <a:latin typeface="Arial"/>
                </a:rPr>
                <a:t>     </a:t>
              </a:r>
              <a:r>
                <a:rPr b="0" lang="zh-CN" sz="1800" spc="-1" strike="noStrike">
                  <a:solidFill>
                    <a:srgbClr val="7030a0"/>
                  </a:solidFill>
                  <a:latin typeface="Arial"/>
                </a:rPr>
                <a:t>考研励志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菱形 8"/>
            <p:cNvSpPr/>
            <p:nvPr/>
          </p:nvSpPr>
          <p:spPr>
            <a:xfrm>
              <a:off x="179280" y="22320"/>
              <a:ext cx="860400" cy="647640"/>
            </a:xfrm>
            <a:prstGeom prst="diamond">
              <a:avLst/>
            </a:prstGeom>
            <a:solidFill>
              <a:srgbClr val="e3e9db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6" name="文本框 1"/>
          <p:cNvSpPr/>
          <p:nvPr/>
        </p:nvSpPr>
        <p:spPr>
          <a:xfrm>
            <a:off x="1187280" y="1300320"/>
            <a:ext cx="727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0c0"/>
                </a:solidFill>
                <a:latin typeface="Arial"/>
              </a:rPr>
              <a:t>分享一些考研路上激励我的句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TextBox 1"/>
          <p:cNvSpPr/>
          <p:nvPr/>
        </p:nvSpPr>
        <p:spPr>
          <a:xfrm>
            <a:off x="1258920" y="1989000"/>
            <a:ext cx="67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hing is impossible for a willing heart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心之所愿，无所不成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TextBox 10"/>
          <p:cNvSpPr/>
          <p:nvPr/>
        </p:nvSpPr>
        <p:spPr>
          <a:xfrm>
            <a:off x="1258920" y="2627280"/>
            <a:ext cx="67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y hungry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y foolish.    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不忘初心，方得始终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TextBox 11"/>
          <p:cNvSpPr/>
          <p:nvPr/>
        </p:nvSpPr>
        <p:spPr>
          <a:xfrm>
            <a:off x="1258920" y="3274920"/>
            <a:ext cx="67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harder you work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ukier you will be.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越努力越幸运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TextBox 12"/>
          <p:cNvSpPr/>
          <p:nvPr/>
        </p:nvSpPr>
        <p:spPr>
          <a:xfrm>
            <a:off x="1258920" y="3924360"/>
            <a:ext cx="806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urther the heart is ,the farther the road is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心有多远，路就有多远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TextBox 13"/>
          <p:cNvSpPr/>
          <p:nvPr/>
        </p:nvSpPr>
        <p:spPr>
          <a:xfrm>
            <a:off x="1258920" y="4572000"/>
            <a:ext cx="806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urther the heart is ,the farther the road is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心有多远，路就有多远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TextBox 14"/>
          <p:cNvSpPr/>
          <p:nvPr/>
        </p:nvSpPr>
        <p:spPr>
          <a:xfrm>
            <a:off x="900000" y="5291280"/>
            <a:ext cx="842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 when you choic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matter wind and rain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既然选择了远方便只顾风雨兼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3" name="组合 1"/>
          <p:cNvGrpSpPr/>
          <p:nvPr/>
        </p:nvGrpSpPr>
        <p:grpSpPr>
          <a:xfrm>
            <a:off x="-216000" y="5167440"/>
            <a:ext cx="3637080" cy="3166920"/>
            <a:chOff x="-216000" y="5167440"/>
            <a:chExt cx="3637080" cy="3166920"/>
          </a:xfrm>
        </p:grpSpPr>
        <p:sp>
          <p:nvSpPr>
            <p:cNvPr id="1334" name="Rectangle 4"/>
            <p:cNvSpPr/>
            <p:nvPr/>
          </p:nvSpPr>
          <p:spPr>
            <a:xfrm>
              <a:off x="1259640" y="6237360"/>
              <a:ext cx="216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四川理工学院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35" name="图片 5" descr=""/>
            <p:cNvPicPr/>
            <p:nvPr/>
          </p:nvPicPr>
          <p:blipFill>
            <a:blip r:embed="rId1"/>
            <a:stretch/>
          </p:blipFill>
          <p:spPr>
            <a:xfrm>
              <a:off x="-216000" y="5167440"/>
              <a:ext cx="2375280" cy="3166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WordArt 2"/>
          <p:cNvSpPr txBox="1"/>
          <p:nvPr/>
        </p:nvSpPr>
        <p:spPr>
          <a:xfrm>
            <a:off x="2843280" y="2565360"/>
            <a:ext cx="331308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谢谢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337" name="TextBox 2"/>
          <p:cNvSpPr/>
          <p:nvPr/>
        </p:nvSpPr>
        <p:spPr>
          <a:xfrm>
            <a:off x="2711880" y="1062000"/>
            <a:ext cx="27410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联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Q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2197809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最后祝愿学弟学妹们考研顺利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8" name="组合 1"/>
          <p:cNvGrpSpPr/>
          <p:nvPr/>
        </p:nvGrpSpPr>
        <p:grpSpPr>
          <a:xfrm>
            <a:off x="-216000" y="5167440"/>
            <a:ext cx="3637080" cy="3166920"/>
            <a:chOff x="-216000" y="5167440"/>
            <a:chExt cx="3637080" cy="3166920"/>
          </a:xfrm>
        </p:grpSpPr>
        <p:sp>
          <p:nvSpPr>
            <p:cNvPr id="1339" name="Rectangle 4"/>
            <p:cNvSpPr/>
            <p:nvPr/>
          </p:nvSpPr>
          <p:spPr>
            <a:xfrm>
              <a:off x="1259640" y="6237360"/>
              <a:ext cx="216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四川理工学院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40" name="图片 5" descr=""/>
            <p:cNvPicPr/>
            <p:nvPr/>
          </p:nvPicPr>
          <p:blipFill>
            <a:blip r:embed="rId1"/>
            <a:stretch/>
          </p:blipFill>
          <p:spPr>
            <a:xfrm>
              <a:off x="-216000" y="5167440"/>
              <a:ext cx="2375280" cy="31669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3" name="组合 9"/>
          <p:cNvGrpSpPr/>
          <p:nvPr/>
        </p:nvGrpSpPr>
        <p:grpSpPr>
          <a:xfrm>
            <a:off x="1335240" y="1650960"/>
            <a:ext cx="4017960" cy="647640"/>
            <a:chOff x="1335240" y="1650960"/>
            <a:chExt cx="4017960" cy="647640"/>
          </a:xfrm>
        </p:grpSpPr>
        <p:sp>
          <p:nvSpPr>
            <p:cNvPr id="1234" name="矩形 6"/>
            <p:cNvSpPr/>
            <p:nvPr/>
          </p:nvSpPr>
          <p:spPr>
            <a:xfrm>
              <a:off x="1862280" y="1749240"/>
              <a:ext cx="3490920" cy="473040"/>
            </a:xfrm>
            <a:prstGeom prst="rect">
              <a:avLst/>
            </a:prstGeom>
            <a:solidFill>
              <a:srgbClr val="e3e9db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00"/>
                  </a:solidFill>
                  <a:latin typeface="Arial"/>
                </a:rPr>
                <a:t>     </a:t>
              </a:r>
              <a:r>
                <a:rPr b="0" lang="zh-CN" sz="1800" spc="-1" strike="noStrike">
                  <a:solidFill>
                    <a:srgbClr val="ff0000"/>
                  </a:solidFill>
                  <a:latin typeface="Arial"/>
                </a:rPr>
                <a:t>个人考研情况和考研须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菱形 5"/>
            <p:cNvSpPr/>
            <p:nvPr/>
          </p:nvSpPr>
          <p:spPr>
            <a:xfrm>
              <a:off x="1335240" y="1650960"/>
              <a:ext cx="860400" cy="647640"/>
            </a:xfrm>
            <a:prstGeom prst="diamond">
              <a:avLst/>
            </a:prstGeom>
            <a:solidFill>
              <a:srgbClr val="e3e9db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6" name="组合 22"/>
          <p:cNvGrpSpPr/>
          <p:nvPr/>
        </p:nvGrpSpPr>
        <p:grpSpPr>
          <a:xfrm>
            <a:off x="1862280" y="2395440"/>
            <a:ext cx="3921120" cy="647640"/>
            <a:chOff x="1862280" y="2395440"/>
            <a:chExt cx="3921120" cy="647640"/>
          </a:xfrm>
        </p:grpSpPr>
        <p:sp>
          <p:nvSpPr>
            <p:cNvPr id="1237" name="矩形 23"/>
            <p:cNvSpPr/>
            <p:nvPr/>
          </p:nvSpPr>
          <p:spPr>
            <a:xfrm>
              <a:off x="2292480" y="2482560"/>
              <a:ext cx="3490920" cy="473040"/>
            </a:xfrm>
            <a:prstGeom prst="rect">
              <a:avLst/>
            </a:prstGeom>
            <a:solidFill>
              <a:srgbClr val="e3e9db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zh-CN" sz="1800" spc="-1" strike="noStrike">
                  <a:solidFill>
                    <a:srgbClr val="00b050"/>
                  </a:solidFill>
                  <a:latin typeface="Arial"/>
                </a:rPr>
                <a:t>考研的五大优势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菱形 24"/>
            <p:cNvSpPr/>
            <p:nvPr/>
          </p:nvSpPr>
          <p:spPr>
            <a:xfrm>
              <a:off x="1862280" y="2395440"/>
              <a:ext cx="860400" cy="647640"/>
            </a:xfrm>
            <a:prstGeom prst="diamond">
              <a:avLst/>
            </a:prstGeom>
            <a:solidFill>
              <a:srgbClr val="e3e9db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9" name="组合 25"/>
          <p:cNvGrpSpPr/>
          <p:nvPr/>
        </p:nvGrpSpPr>
        <p:grpSpPr>
          <a:xfrm>
            <a:off x="2300400" y="3139920"/>
            <a:ext cx="3921120" cy="648000"/>
            <a:chOff x="2300400" y="3139920"/>
            <a:chExt cx="3921120" cy="648000"/>
          </a:xfrm>
        </p:grpSpPr>
        <p:sp>
          <p:nvSpPr>
            <p:cNvPr id="1240" name="矩形 26"/>
            <p:cNvSpPr/>
            <p:nvPr/>
          </p:nvSpPr>
          <p:spPr>
            <a:xfrm>
              <a:off x="2730600" y="3227040"/>
              <a:ext cx="3490920" cy="473400"/>
            </a:xfrm>
            <a:prstGeom prst="rect">
              <a:avLst/>
            </a:prstGeom>
            <a:solidFill>
              <a:srgbClr val="e3e9db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zh-CN" sz="1800" spc="-1" strike="noStrike">
                  <a:solidFill>
                    <a:srgbClr val="0070c0"/>
                  </a:solidFill>
                  <a:latin typeface="Arial"/>
                </a:rPr>
                <a:t>我的建议和推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菱形 27"/>
            <p:cNvSpPr/>
            <p:nvPr/>
          </p:nvSpPr>
          <p:spPr>
            <a:xfrm>
              <a:off x="2300400" y="3139920"/>
              <a:ext cx="860400" cy="648000"/>
            </a:xfrm>
            <a:prstGeom prst="diamond">
              <a:avLst/>
            </a:prstGeom>
            <a:solidFill>
              <a:srgbClr val="e3e9db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2" name="圆角矩形 10"/>
          <p:cNvSpPr/>
          <p:nvPr/>
        </p:nvSpPr>
        <p:spPr>
          <a:xfrm>
            <a:off x="1392120" y="527040"/>
            <a:ext cx="1606680" cy="885960"/>
          </a:xfrm>
          <a:prstGeom prst="roundRect">
            <a:avLst>
              <a:gd name="adj" fmla="val 16667"/>
            </a:avLst>
          </a:prstGeom>
          <a:solidFill>
            <a:srgbClr val="e3e9db"/>
          </a:solidFill>
          <a:ln cap="rnd" w="15840">
            <a:solidFill>
              <a:srgbClr val="7820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主要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矩形 11"/>
          <p:cNvSpPr/>
          <p:nvPr/>
        </p:nvSpPr>
        <p:spPr>
          <a:xfrm>
            <a:off x="3160800" y="3948120"/>
            <a:ext cx="3490920" cy="473040"/>
          </a:xfrm>
          <a:prstGeom prst="rect">
            <a:avLst/>
          </a:prstGeom>
          <a:solidFill>
            <a:srgbClr val="e3e9db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1800" spc="-1" strike="noStrike">
                <a:solidFill>
                  <a:srgbClr val="7030a0"/>
                </a:solidFill>
                <a:latin typeface="Arial"/>
              </a:rPr>
              <a:t>考研并没有那么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菱形 12"/>
          <p:cNvSpPr/>
          <p:nvPr/>
        </p:nvSpPr>
        <p:spPr>
          <a:xfrm>
            <a:off x="2730600" y="3860640"/>
            <a:ext cx="860400" cy="648000"/>
          </a:xfrm>
          <a:prstGeom prst="diamond">
            <a:avLst/>
          </a:prstGeom>
          <a:solidFill>
            <a:srgbClr val="e3e9db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矩形 13"/>
          <p:cNvSpPr/>
          <p:nvPr/>
        </p:nvSpPr>
        <p:spPr>
          <a:xfrm>
            <a:off x="3457440" y="4740120"/>
            <a:ext cx="3490920" cy="473400"/>
          </a:xfrm>
          <a:prstGeom prst="rect">
            <a:avLst/>
          </a:prstGeom>
          <a:solidFill>
            <a:srgbClr val="e3e9db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00000"/>
                </a:solidFill>
                <a:latin typeface="Arial"/>
              </a:rPr>
              <a:t>考研励志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菱形 14"/>
          <p:cNvSpPr/>
          <p:nvPr/>
        </p:nvSpPr>
        <p:spPr>
          <a:xfrm>
            <a:off x="3027240" y="4653000"/>
            <a:ext cx="860400" cy="647640"/>
          </a:xfrm>
          <a:prstGeom prst="diamond">
            <a:avLst/>
          </a:prstGeom>
          <a:solidFill>
            <a:srgbClr val="e3e9db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7" name="组合 1"/>
          <p:cNvGrpSpPr/>
          <p:nvPr/>
        </p:nvGrpSpPr>
        <p:grpSpPr>
          <a:xfrm>
            <a:off x="-216000" y="5167440"/>
            <a:ext cx="3637080" cy="3166920"/>
            <a:chOff x="-216000" y="5167440"/>
            <a:chExt cx="3637080" cy="3166920"/>
          </a:xfrm>
        </p:grpSpPr>
        <p:sp>
          <p:nvSpPr>
            <p:cNvPr id="1248" name="Rectangle 4"/>
            <p:cNvSpPr/>
            <p:nvPr/>
          </p:nvSpPr>
          <p:spPr>
            <a:xfrm>
              <a:off x="1259640" y="6237360"/>
              <a:ext cx="216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四川理工学院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49" name="图片 5" descr=""/>
            <p:cNvPicPr/>
            <p:nvPr/>
          </p:nvPicPr>
          <p:blipFill>
            <a:blip r:embed="rId1"/>
            <a:stretch/>
          </p:blipFill>
          <p:spPr>
            <a:xfrm>
              <a:off x="-216000" y="5167440"/>
              <a:ext cx="2375280" cy="31669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/>
          </p:nvPr>
        </p:nvSpPr>
        <p:spPr>
          <a:xfrm>
            <a:off x="0" y="1268280"/>
            <a:ext cx="82152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25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宋体"/>
              </a:rPr>
              <a:t> 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  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51" name="Text Box 6"/>
          <p:cNvSpPr/>
          <p:nvPr/>
        </p:nvSpPr>
        <p:spPr>
          <a:xfrm>
            <a:off x="706320" y="1628640"/>
            <a:ext cx="7848720" cy="38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b0f0"/>
                </a:solidFill>
                <a:latin typeface="宋体"/>
              </a:rPr>
              <a:t>个人考研基本信息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录取院校：中国石油大学（华东） 化学工程学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录取专业：化学工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初试成绩：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33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政治：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56 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英语：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66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数学：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88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专业课：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128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宋体"/>
              </a:rPr>
              <a:t>PS</a:t>
            </a:r>
            <a:r>
              <a:rPr b="0" lang="zh-CN" sz="2000" spc="-1" strike="noStrike">
                <a:solidFill>
                  <a:srgbClr val="ff0000"/>
                </a:solidFill>
                <a:latin typeface="宋体"/>
              </a:rPr>
              <a:t>：中石油（华东）初试专业课只能选物化，与许多学校不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初试专业排名：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27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复试排名：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今年本专业复试分数线：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290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复试录取比例：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1.3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000" spc="-1" strike="noStrike">
                <a:solidFill>
                  <a:srgbClr val="ff0000"/>
                </a:solidFill>
                <a:latin typeface="宋体"/>
              </a:rPr>
              <a:t>复试</a:t>
            </a:r>
            <a:r>
              <a:rPr b="0" lang="en-US" sz="2000" spc="-1" strike="noStrike">
                <a:solidFill>
                  <a:srgbClr val="ff0000"/>
                </a:solidFill>
                <a:latin typeface="宋体"/>
              </a:rPr>
              <a:t>91</a:t>
            </a:r>
            <a:r>
              <a:rPr b="0" lang="zh-CN" sz="2000" spc="-1" strike="noStrike">
                <a:solidFill>
                  <a:srgbClr val="ff0000"/>
                </a:solidFill>
                <a:latin typeface="宋体"/>
              </a:rPr>
              <a:t>，录取</a:t>
            </a:r>
            <a:r>
              <a:rPr b="0" lang="en-US" sz="2000" spc="-1" strike="noStrike">
                <a:solidFill>
                  <a:srgbClr val="ff0000"/>
                </a:solidFill>
                <a:latin typeface="宋体"/>
              </a:rPr>
              <a:t>69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2" name="组合 9"/>
          <p:cNvGrpSpPr/>
          <p:nvPr/>
        </p:nvGrpSpPr>
        <p:grpSpPr>
          <a:xfrm>
            <a:off x="179280" y="54000"/>
            <a:ext cx="4017960" cy="647640"/>
            <a:chOff x="179280" y="54000"/>
            <a:chExt cx="4017960" cy="647640"/>
          </a:xfrm>
        </p:grpSpPr>
        <p:sp>
          <p:nvSpPr>
            <p:cNvPr id="1253" name="矩形 10"/>
            <p:cNvSpPr/>
            <p:nvPr/>
          </p:nvSpPr>
          <p:spPr>
            <a:xfrm>
              <a:off x="706320" y="152280"/>
              <a:ext cx="3490920" cy="473040"/>
            </a:xfrm>
            <a:prstGeom prst="rect">
              <a:avLst/>
            </a:prstGeom>
            <a:solidFill>
              <a:srgbClr val="e3e9db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zh-CN" sz="1800" spc="-1" strike="noStrike">
                  <a:solidFill>
                    <a:srgbClr val="ff0000"/>
                  </a:solidFill>
                  <a:latin typeface="Arial"/>
                </a:rPr>
                <a:t>个人考研情况和考研须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菱形 11"/>
            <p:cNvSpPr/>
            <p:nvPr/>
          </p:nvSpPr>
          <p:spPr>
            <a:xfrm>
              <a:off x="179280" y="54000"/>
              <a:ext cx="860400" cy="647640"/>
            </a:xfrm>
            <a:prstGeom prst="diamond">
              <a:avLst/>
            </a:prstGeom>
            <a:solidFill>
              <a:srgbClr val="e3e9db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5" name="组合 1"/>
          <p:cNvGrpSpPr/>
          <p:nvPr/>
        </p:nvGrpSpPr>
        <p:grpSpPr>
          <a:xfrm>
            <a:off x="-216000" y="5167440"/>
            <a:ext cx="3637080" cy="3166920"/>
            <a:chOff x="-216000" y="5167440"/>
            <a:chExt cx="3637080" cy="3166920"/>
          </a:xfrm>
        </p:grpSpPr>
        <p:sp>
          <p:nvSpPr>
            <p:cNvPr id="1256" name="Rectangle 4"/>
            <p:cNvSpPr/>
            <p:nvPr/>
          </p:nvSpPr>
          <p:spPr>
            <a:xfrm>
              <a:off x="1259640" y="6237360"/>
              <a:ext cx="216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四川理工学院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57" name="图片 5" descr=""/>
            <p:cNvPicPr/>
            <p:nvPr/>
          </p:nvPicPr>
          <p:blipFill>
            <a:blip r:embed="rId1"/>
            <a:stretch/>
          </p:blipFill>
          <p:spPr>
            <a:xfrm>
              <a:off x="-216000" y="5167440"/>
              <a:ext cx="2375280" cy="3166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58" name="图片 9" descr="QQ图片20151011115809.jpg"/>
          <p:cNvPicPr/>
          <p:nvPr/>
        </p:nvPicPr>
        <p:blipFill>
          <a:blip r:embed="rId2"/>
          <a:stretch/>
        </p:blipFill>
        <p:spPr>
          <a:xfrm>
            <a:off x="2928960" y="357120"/>
            <a:ext cx="1876320" cy="3038400"/>
          </a:xfrm>
          <a:prstGeom prst="rect">
            <a:avLst/>
          </a:prstGeom>
          <a:ln w="0">
            <a:noFill/>
          </a:ln>
        </p:spPr>
      </p:pic>
      <p:pic>
        <p:nvPicPr>
          <p:cNvPr id="1259" name="图片 12" descr="QQ图片20151011115756.jpg"/>
          <p:cNvPicPr/>
          <p:nvPr/>
        </p:nvPicPr>
        <p:blipFill>
          <a:blip r:embed="rId3"/>
          <a:stretch/>
        </p:blipFill>
        <p:spPr>
          <a:xfrm>
            <a:off x="6500880" y="357120"/>
            <a:ext cx="2266920" cy="3029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1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1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8" dur="500"/>
                                        <p:tgtEl>
                                          <p:spTgt spid="1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/>
                                        <p:tgtEl>
                                          <p:spTgt spid="1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3" dur="500"/>
                                        <p:tgtEl>
                                          <p:spTgt spid="1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/>
                                        <p:tgtEl>
                                          <p:spTgt spid="1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/>
          </p:nvPr>
        </p:nvSpPr>
        <p:spPr>
          <a:xfrm>
            <a:off x="0" y="1268280"/>
            <a:ext cx="82152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25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宋体"/>
              </a:rPr>
              <a:t> 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  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61" name="Text Box 6"/>
          <p:cNvSpPr/>
          <p:nvPr/>
        </p:nvSpPr>
        <p:spPr>
          <a:xfrm>
            <a:off x="711360" y="1197000"/>
            <a:ext cx="7848360" cy="31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0000"/>
                </a:solidFill>
                <a:latin typeface="宋体"/>
              </a:rPr>
              <a:t>考研须知①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b0f0"/>
                </a:solidFill>
                <a:latin typeface="方正舒体"/>
                <a:ea typeface="方正舒体"/>
              </a:rPr>
              <a:t>为什么考研？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b0f0"/>
                </a:solidFill>
                <a:latin typeface="方正舒体"/>
                <a:ea typeface="方正舒体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仿宋"/>
                <a:ea typeface="仿宋"/>
              </a:rPr>
              <a:t>你对这个专业真的感兴趣吗？</a:t>
            </a:r>
            <a:r>
              <a:rPr b="0" lang="zh-CN" sz="3000" spc="-1" strike="noStrike">
                <a:solidFill>
                  <a:srgbClr val="002060"/>
                </a:solidFill>
                <a:latin typeface="华文行楷"/>
                <a:ea typeface="华文行楷"/>
              </a:rPr>
              <a:t>兴趣</a:t>
            </a:r>
            <a:r>
              <a:rPr b="0" lang="zh-CN" sz="2000" spc="-1" strike="noStrike">
                <a:solidFill>
                  <a:srgbClr val="002060"/>
                </a:solidFill>
                <a:latin typeface="仿宋"/>
                <a:ea typeface="仿宋"/>
              </a:rPr>
              <a:t>是最好的老师。兴趣会不会给你带来学习的动力，只有有过这种感觉的人才会明白。我相信大家都曾有过对于一些事物因为感兴趣而去学习的感觉，只是时间长短而已。考研需要兴趣，也更需要</a:t>
            </a:r>
            <a:r>
              <a:rPr b="0" lang="zh-CN" sz="2000" spc="-1" strike="noStrike">
                <a:solidFill>
                  <a:srgbClr val="ff0000"/>
                </a:solidFill>
                <a:latin typeface="仿宋"/>
                <a:ea typeface="仿宋"/>
              </a:rPr>
              <a:t>勤奋</a:t>
            </a:r>
            <a:r>
              <a:rPr b="0" lang="zh-CN" sz="2000" spc="-1" strike="noStrike">
                <a:solidFill>
                  <a:srgbClr val="002060"/>
                </a:solidFill>
                <a:latin typeface="仿宋"/>
                <a:ea typeface="仿宋"/>
              </a:rPr>
              <a:t>和</a:t>
            </a:r>
            <a:r>
              <a:rPr b="0" lang="zh-CN" sz="2000" spc="-1" strike="noStrike">
                <a:solidFill>
                  <a:srgbClr val="ff0000"/>
                </a:solidFill>
                <a:latin typeface="仿宋"/>
                <a:ea typeface="仿宋"/>
              </a:rPr>
              <a:t>专注</a:t>
            </a:r>
            <a:r>
              <a:rPr b="0" lang="zh-CN" sz="2000" spc="-1" strike="noStrike">
                <a:solidFill>
                  <a:srgbClr val="002060"/>
                </a:solidFill>
                <a:latin typeface="仿宋"/>
                <a:ea typeface="仿宋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仿宋"/>
                <a:ea typeface="仿宋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仿宋"/>
                <a:ea typeface="仿宋"/>
              </a:rPr>
              <a:t>考研是最适合我的选择吗？</a:t>
            </a:r>
            <a:r>
              <a:rPr b="0" lang="zh-CN" sz="2000" spc="-1" strike="noStrike">
                <a:solidFill>
                  <a:srgbClr val="7030a0"/>
                </a:solidFill>
                <a:latin typeface="仿宋"/>
                <a:ea typeface="仿宋"/>
              </a:rPr>
              <a:t>我认为考研并不是唯一的选择，也不一定是最好的选择。关键是你想要什么，你要选择什么样的道路？不论你选择什么，这是你的选择，要对自己的选择负责，你现在的选择将决定你今后的生活。如果你选择了考研，就一定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方正舒体"/>
                <a:ea typeface="方正舒体"/>
              </a:rPr>
              <a:t>坚持下去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仿宋"/>
                <a:ea typeface="仿宋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2" name="组合 9"/>
          <p:cNvGrpSpPr/>
          <p:nvPr/>
        </p:nvGrpSpPr>
        <p:grpSpPr>
          <a:xfrm>
            <a:off x="179280" y="54000"/>
            <a:ext cx="4017960" cy="647640"/>
            <a:chOff x="179280" y="54000"/>
            <a:chExt cx="4017960" cy="647640"/>
          </a:xfrm>
        </p:grpSpPr>
        <p:sp>
          <p:nvSpPr>
            <p:cNvPr id="1263" name="矩形 10"/>
            <p:cNvSpPr/>
            <p:nvPr/>
          </p:nvSpPr>
          <p:spPr>
            <a:xfrm>
              <a:off x="706320" y="152280"/>
              <a:ext cx="3490920" cy="473040"/>
            </a:xfrm>
            <a:prstGeom prst="rect">
              <a:avLst/>
            </a:prstGeom>
            <a:solidFill>
              <a:srgbClr val="e3e9db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zh-CN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0" lang="zh-CN" sz="1800" spc="-1" strike="noStrike">
                  <a:solidFill>
                    <a:srgbClr val="ff0000"/>
                  </a:solidFill>
                  <a:latin typeface="Arial"/>
                </a:rPr>
                <a:t>个人考研情况和考研须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菱形 11"/>
            <p:cNvSpPr/>
            <p:nvPr/>
          </p:nvSpPr>
          <p:spPr>
            <a:xfrm>
              <a:off x="179280" y="54000"/>
              <a:ext cx="860400" cy="647640"/>
            </a:xfrm>
            <a:prstGeom prst="diamond">
              <a:avLst/>
            </a:prstGeom>
            <a:solidFill>
              <a:srgbClr val="e3e9db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5" name="组合 1"/>
          <p:cNvGrpSpPr/>
          <p:nvPr/>
        </p:nvGrpSpPr>
        <p:grpSpPr>
          <a:xfrm>
            <a:off x="-216000" y="5167440"/>
            <a:ext cx="3637080" cy="3166920"/>
            <a:chOff x="-216000" y="5167440"/>
            <a:chExt cx="3637080" cy="3166920"/>
          </a:xfrm>
        </p:grpSpPr>
        <p:sp>
          <p:nvSpPr>
            <p:cNvPr id="1266" name="Rectangle 4"/>
            <p:cNvSpPr/>
            <p:nvPr/>
          </p:nvSpPr>
          <p:spPr>
            <a:xfrm>
              <a:off x="1259640" y="6237360"/>
              <a:ext cx="216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四川理工学院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67" name="图片 5" descr=""/>
            <p:cNvPicPr/>
            <p:nvPr/>
          </p:nvPicPr>
          <p:blipFill>
            <a:blip r:embed="rId1"/>
            <a:stretch/>
          </p:blipFill>
          <p:spPr>
            <a:xfrm>
              <a:off x="-216000" y="5167440"/>
              <a:ext cx="2375280" cy="31669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/>
          </p:nvPr>
        </p:nvSpPr>
        <p:spPr>
          <a:xfrm>
            <a:off x="0" y="1268280"/>
            <a:ext cx="82152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25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宋体"/>
              </a:rPr>
              <a:t> 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  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69" name="Text Box 6"/>
          <p:cNvSpPr/>
          <p:nvPr/>
        </p:nvSpPr>
        <p:spPr>
          <a:xfrm>
            <a:off x="711360" y="1197000"/>
            <a:ext cx="7848360" cy="30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0000"/>
                </a:solidFill>
                <a:latin typeface="宋体"/>
              </a:rPr>
              <a:t>考研须知②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2060"/>
                </a:solidFill>
                <a:latin typeface="方正舒体"/>
                <a:ea typeface="方正舒体"/>
              </a:rPr>
              <a:t>如何选择报考学校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可以说考研院校的选择至关重要，由于不了解考研中的诸多因素，导致报考学校时的跟风、盲目、举棋不定都是对考研不利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宋体"/>
              </a:rPr>
              <a:t>建议：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考研初期可以根据自己的兴趣爱好、自我学习能力评估、本科课程的掌握程度，给自己进行合理定位，初步确定几所不同层次高校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考虑所报高校初试专业课，</a:t>
            </a:r>
            <a:r>
              <a:rPr b="0" lang="zh-CN" sz="2000" spc="-1" strike="noStrike">
                <a:solidFill>
                  <a:srgbClr val="ff0000"/>
                </a:solidFill>
                <a:latin typeface="宋体"/>
              </a:rPr>
              <a:t>分清学术型和专业型硕士的区别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每年考研网上正式报名时间在十月份。去年是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月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日至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月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3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日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也就是到了考研后期，这是对于自己的复习情况基本有所了解，确定好所报高校后，最好不要随意再进行更改，避免因所报高校专业不同而浪费精力。此时要相信自己，将精力放在复习冲刺上。</a:t>
            </a:r>
            <a:r>
              <a:rPr b="0" lang="en-US" sz="2000" spc="-1" strike="noStrike">
                <a:solidFill>
                  <a:srgbClr val="ff0000"/>
                </a:solidFill>
                <a:latin typeface="宋体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0" name="组合 9"/>
          <p:cNvGrpSpPr/>
          <p:nvPr/>
        </p:nvGrpSpPr>
        <p:grpSpPr>
          <a:xfrm>
            <a:off x="179280" y="54000"/>
            <a:ext cx="4017960" cy="647640"/>
            <a:chOff x="179280" y="54000"/>
            <a:chExt cx="4017960" cy="647640"/>
          </a:xfrm>
        </p:grpSpPr>
        <p:sp>
          <p:nvSpPr>
            <p:cNvPr id="1271" name="矩形 10"/>
            <p:cNvSpPr/>
            <p:nvPr/>
          </p:nvSpPr>
          <p:spPr>
            <a:xfrm>
              <a:off x="706320" y="152280"/>
              <a:ext cx="3490920" cy="473040"/>
            </a:xfrm>
            <a:prstGeom prst="rect">
              <a:avLst/>
            </a:prstGeom>
            <a:solidFill>
              <a:srgbClr val="e3e9db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00"/>
                  </a:solidFill>
                  <a:latin typeface="Arial"/>
                </a:rPr>
                <a:t>     </a:t>
              </a:r>
              <a:r>
                <a:rPr b="0" lang="zh-CN" sz="1800" spc="-1" strike="noStrike">
                  <a:solidFill>
                    <a:srgbClr val="ff0000"/>
                  </a:solidFill>
                  <a:latin typeface="Arial"/>
                </a:rPr>
                <a:t>个人考研情况和考研须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菱形 11"/>
            <p:cNvSpPr/>
            <p:nvPr/>
          </p:nvSpPr>
          <p:spPr>
            <a:xfrm>
              <a:off x="179280" y="54000"/>
              <a:ext cx="860400" cy="647640"/>
            </a:xfrm>
            <a:prstGeom prst="diamond">
              <a:avLst/>
            </a:prstGeom>
            <a:solidFill>
              <a:srgbClr val="e3e9db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3" name="组合 1"/>
          <p:cNvGrpSpPr/>
          <p:nvPr/>
        </p:nvGrpSpPr>
        <p:grpSpPr>
          <a:xfrm>
            <a:off x="-216000" y="5167440"/>
            <a:ext cx="3637080" cy="3166920"/>
            <a:chOff x="-216000" y="5167440"/>
            <a:chExt cx="3637080" cy="3166920"/>
          </a:xfrm>
        </p:grpSpPr>
        <p:sp>
          <p:nvSpPr>
            <p:cNvPr id="1274" name="Rectangle 4"/>
            <p:cNvSpPr/>
            <p:nvPr/>
          </p:nvSpPr>
          <p:spPr>
            <a:xfrm>
              <a:off x="1259640" y="6237360"/>
              <a:ext cx="216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四川理工学院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75" name="图片 5" descr=""/>
            <p:cNvPicPr/>
            <p:nvPr/>
          </p:nvPicPr>
          <p:blipFill>
            <a:blip r:embed="rId1"/>
            <a:stretch/>
          </p:blipFill>
          <p:spPr>
            <a:xfrm>
              <a:off x="-216000" y="5167440"/>
              <a:ext cx="2375280" cy="31669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Rectangle 6"/>
          <p:cNvSpPr/>
          <p:nvPr/>
        </p:nvSpPr>
        <p:spPr>
          <a:xfrm>
            <a:off x="0" y="6440400"/>
            <a:ext cx="91440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66f54"/>
                </a:solidFill>
                <a:latin typeface="Times New Roman"/>
              </a:rPr>
              <a:t>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7" name="组合 22"/>
          <p:cNvGrpSpPr/>
          <p:nvPr/>
        </p:nvGrpSpPr>
        <p:grpSpPr>
          <a:xfrm>
            <a:off x="179280" y="0"/>
            <a:ext cx="3961080" cy="647640"/>
            <a:chOff x="179280" y="0"/>
            <a:chExt cx="3961080" cy="647640"/>
          </a:xfrm>
        </p:grpSpPr>
        <p:sp>
          <p:nvSpPr>
            <p:cNvPr id="1278" name="矩形 11"/>
            <p:cNvSpPr/>
            <p:nvPr/>
          </p:nvSpPr>
          <p:spPr>
            <a:xfrm>
              <a:off x="649080" y="87120"/>
              <a:ext cx="3491280" cy="473040"/>
            </a:xfrm>
            <a:prstGeom prst="rect">
              <a:avLst/>
            </a:prstGeom>
            <a:solidFill>
              <a:srgbClr val="e3e9db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b050"/>
                  </a:solidFill>
                  <a:latin typeface="Arial"/>
                </a:rPr>
                <a:t>     </a:t>
              </a:r>
              <a:r>
                <a:rPr b="0" lang="zh-CN" sz="1800" spc="-1" strike="noStrike">
                  <a:solidFill>
                    <a:srgbClr val="00b050"/>
                  </a:solidFill>
                  <a:latin typeface="Arial"/>
                </a:rPr>
                <a:t>考研五大优势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菱形 12"/>
            <p:cNvSpPr/>
            <p:nvPr/>
          </p:nvSpPr>
          <p:spPr>
            <a:xfrm>
              <a:off x="179280" y="0"/>
              <a:ext cx="860400" cy="647640"/>
            </a:xfrm>
            <a:prstGeom prst="diamond">
              <a:avLst/>
            </a:prstGeom>
            <a:solidFill>
              <a:srgbClr val="e3e9db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0" name="文本框 2"/>
          <p:cNvSpPr/>
          <p:nvPr/>
        </p:nvSpPr>
        <p:spPr>
          <a:xfrm>
            <a:off x="1039680" y="1341360"/>
            <a:ext cx="773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一、考研是对整个大学学习的一次总结，让你对自己所学专业进行一次系统的复习。本科生到研究生，就是量变到质变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文本框 2"/>
          <p:cNvSpPr/>
          <p:nvPr/>
        </p:nvSpPr>
        <p:spPr>
          <a:xfrm>
            <a:off x="1042920" y="3645000"/>
            <a:ext cx="773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三、学历的提升，当下，虽然公司企业强调个人能力，但越来越多的情况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学历要求成为了一道门槛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文本框 2"/>
          <p:cNvSpPr/>
          <p:nvPr/>
        </p:nvSpPr>
        <p:spPr>
          <a:xfrm>
            <a:off x="1042920" y="5229360"/>
            <a:ext cx="773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五、考研就像一场战斗，一旦你坚持到最后，你会发现，不管是你的知识储备、性格品质都会得到很大提升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文本框 2"/>
          <p:cNvSpPr/>
          <p:nvPr/>
        </p:nvSpPr>
        <p:spPr>
          <a:xfrm>
            <a:off x="1042920" y="4437000"/>
            <a:ext cx="773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四、交际圈扩大，每个人的发展都不是单一的发展，离不开群体。不可否认，你未来的发展与自己的朋友圈有着密切的联系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文本框 2"/>
          <p:cNvSpPr/>
          <p:nvPr/>
        </p:nvSpPr>
        <p:spPr>
          <a:xfrm>
            <a:off x="1042920" y="2060640"/>
            <a:ext cx="773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二、对于我们工艺这个专业，就我了解到同学的就业情况，才刚毕业就有些同学从事了其他行业。原因何在，是因为我们本科阶段学的范围太宽，好像就业面很广，其实不然。如果你喜欢本专业，你不想从事本专业工作么？。当我们读研后，将会有自己的研究方向，以后工作便更有针对性，从事本专业的机会将会大大增加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5" name="组合 1"/>
          <p:cNvGrpSpPr/>
          <p:nvPr/>
        </p:nvGrpSpPr>
        <p:grpSpPr>
          <a:xfrm>
            <a:off x="-216000" y="5167440"/>
            <a:ext cx="3637080" cy="3166920"/>
            <a:chOff x="-216000" y="5167440"/>
            <a:chExt cx="3637080" cy="3166920"/>
          </a:xfrm>
        </p:grpSpPr>
        <p:sp>
          <p:nvSpPr>
            <p:cNvPr id="1286" name="Rectangle 4"/>
            <p:cNvSpPr/>
            <p:nvPr/>
          </p:nvSpPr>
          <p:spPr>
            <a:xfrm>
              <a:off x="1259640" y="6237360"/>
              <a:ext cx="216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四川理工学院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87" name="图片 5" descr=""/>
            <p:cNvPicPr/>
            <p:nvPr/>
          </p:nvPicPr>
          <p:blipFill>
            <a:blip r:embed="rId1"/>
            <a:stretch/>
          </p:blipFill>
          <p:spPr>
            <a:xfrm>
              <a:off x="-216000" y="5167440"/>
              <a:ext cx="2375280" cy="31669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Text Box 3"/>
          <p:cNvSpPr/>
          <p:nvPr/>
        </p:nvSpPr>
        <p:spPr>
          <a:xfrm>
            <a:off x="1042920" y="1844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9" name="组合 25"/>
          <p:cNvGrpSpPr/>
          <p:nvPr/>
        </p:nvGrpSpPr>
        <p:grpSpPr>
          <a:xfrm>
            <a:off x="179280" y="22320"/>
            <a:ext cx="3921120" cy="647640"/>
            <a:chOff x="179280" y="22320"/>
            <a:chExt cx="3921120" cy="647640"/>
          </a:xfrm>
        </p:grpSpPr>
        <p:sp>
          <p:nvSpPr>
            <p:cNvPr id="1290" name="矩形 9"/>
            <p:cNvSpPr/>
            <p:nvPr/>
          </p:nvSpPr>
          <p:spPr>
            <a:xfrm>
              <a:off x="609480" y="109440"/>
              <a:ext cx="3490920" cy="473040"/>
            </a:xfrm>
            <a:prstGeom prst="rect">
              <a:avLst/>
            </a:prstGeom>
            <a:solidFill>
              <a:srgbClr val="e3e9db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70c0"/>
                  </a:solidFill>
                  <a:latin typeface="Arial"/>
                </a:rPr>
                <a:t>     </a:t>
              </a:r>
              <a:r>
                <a:rPr b="0" lang="zh-CN" sz="1800" spc="-1" strike="noStrike">
                  <a:solidFill>
                    <a:srgbClr val="0070c0"/>
                  </a:solidFill>
                  <a:latin typeface="Arial"/>
                </a:rPr>
                <a:t>我的建议和推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菱形 10"/>
            <p:cNvSpPr/>
            <p:nvPr/>
          </p:nvSpPr>
          <p:spPr>
            <a:xfrm>
              <a:off x="179280" y="22320"/>
              <a:ext cx="860400" cy="647640"/>
            </a:xfrm>
            <a:prstGeom prst="diamond">
              <a:avLst/>
            </a:prstGeom>
            <a:solidFill>
              <a:srgbClr val="e3e9db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2" name="文本框 1"/>
          <p:cNvSpPr/>
          <p:nvPr/>
        </p:nvSpPr>
        <p:spPr>
          <a:xfrm>
            <a:off x="985680" y="1763640"/>
            <a:ext cx="732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准备不在于早，而在于是否真正用心准备，是否真正全身心投入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流程图: 终止 12"/>
          <p:cNvSpPr/>
          <p:nvPr/>
        </p:nvSpPr>
        <p:spPr>
          <a:xfrm>
            <a:off x="1403280" y="727200"/>
            <a:ext cx="5256360" cy="503280"/>
          </a:xfrm>
          <a:prstGeom prst="flowChartTerminator">
            <a:avLst/>
          </a:prstGeom>
          <a:solidFill>
            <a:srgbClr val="e3e9db"/>
          </a:solidFill>
          <a:ln cap="rnd" w="9360">
            <a:solidFill>
              <a:srgbClr val="65a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我的四点建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文本框 1"/>
          <p:cNvSpPr/>
          <p:nvPr/>
        </p:nvSpPr>
        <p:spPr>
          <a:xfrm>
            <a:off x="1042920" y="2556000"/>
            <a:ext cx="732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一定要制定一个适合自己的复习计划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文本框 1"/>
          <p:cNvSpPr/>
          <p:nvPr/>
        </p:nvSpPr>
        <p:spPr>
          <a:xfrm>
            <a:off x="1042920" y="3274920"/>
            <a:ext cx="732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身体是革命的本钱，懂得劳逸结合。保证好自己的睡眠时间，最好每周有两到三次的身体锻炼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文本框 1"/>
          <p:cNvSpPr/>
          <p:nvPr/>
        </p:nvSpPr>
        <p:spPr>
          <a:xfrm>
            <a:off x="1042920" y="4282920"/>
            <a:ext cx="732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心态，从始至终保持平稳的心态至关重要，心浮气躁乃学习大忌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7" name="组合 1"/>
          <p:cNvGrpSpPr/>
          <p:nvPr/>
        </p:nvGrpSpPr>
        <p:grpSpPr>
          <a:xfrm>
            <a:off x="-216000" y="5167440"/>
            <a:ext cx="3637080" cy="3166920"/>
            <a:chOff x="-216000" y="5167440"/>
            <a:chExt cx="3637080" cy="3166920"/>
          </a:xfrm>
        </p:grpSpPr>
        <p:sp>
          <p:nvSpPr>
            <p:cNvPr id="1298" name="Rectangle 4"/>
            <p:cNvSpPr/>
            <p:nvPr/>
          </p:nvSpPr>
          <p:spPr>
            <a:xfrm>
              <a:off x="1259640" y="6237360"/>
              <a:ext cx="216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四川理工学院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99" name="图片 5" descr=""/>
            <p:cNvPicPr/>
            <p:nvPr/>
          </p:nvPicPr>
          <p:blipFill>
            <a:blip r:embed="rId1"/>
            <a:stretch/>
          </p:blipFill>
          <p:spPr>
            <a:xfrm>
              <a:off x="-216000" y="5167440"/>
              <a:ext cx="2375280" cy="31669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1" dur="2000" fill="hold"/>
                                        <p:tgtEl>
                                          <p:spTgt spid="12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2000"/>
                            </p:stCondLst>
                            <p:childTnLst>
                              <p:par>
                                <p:cTn id="15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2" dur="2000" fill="hold"/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" dur="2000" fill="hold"/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94" dur="500" fill="hold"/>
                                        <p:tgtEl>
                                          <p:spTgt spid="12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95" dur="500" fill="hold"/>
                                        <p:tgtEl>
                                          <p:spTgt spid="12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96" dur="500" fill="hold"/>
                                        <p:tgtEl>
                                          <p:spTgt spid="12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Text Box 3"/>
          <p:cNvSpPr/>
          <p:nvPr/>
        </p:nvSpPr>
        <p:spPr>
          <a:xfrm>
            <a:off x="1042920" y="1844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1" name="组合 25"/>
          <p:cNvGrpSpPr/>
          <p:nvPr/>
        </p:nvGrpSpPr>
        <p:grpSpPr>
          <a:xfrm>
            <a:off x="179280" y="22320"/>
            <a:ext cx="3921120" cy="647640"/>
            <a:chOff x="179280" y="22320"/>
            <a:chExt cx="3921120" cy="647640"/>
          </a:xfrm>
        </p:grpSpPr>
        <p:sp>
          <p:nvSpPr>
            <p:cNvPr id="1302" name="矩形 9"/>
            <p:cNvSpPr/>
            <p:nvPr/>
          </p:nvSpPr>
          <p:spPr>
            <a:xfrm>
              <a:off x="609480" y="109440"/>
              <a:ext cx="3490920" cy="473040"/>
            </a:xfrm>
            <a:prstGeom prst="rect">
              <a:avLst/>
            </a:prstGeom>
            <a:solidFill>
              <a:srgbClr val="e3e9db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70c0"/>
                  </a:solidFill>
                  <a:latin typeface="Arial"/>
                </a:rPr>
                <a:t>     </a:t>
              </a:r>
              <a:r>
                <a:rPr b="0" lang="zh-CN" sz="1800" spc="-1" strike="noStrike">
                  <a:solidFill>
                    <a:srgbClr val="0070c0"/>
                  </a:solidFill>
                  <a:latin typeface="Arial"/>
                </a:rPr>
                <a:t>我的建议和推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菱形 10"/>
            <p:cNvSpPr/>
            <p:nvPr/>
          </p:nvSpPr>
          <p:spPr>
            <a:xfrm>
              <a:off x="179280" y="22320"/>
              <a:ext cx="860400" cy="647640"/>
            </a:xfrm>
            <a:prstGeom prst="diamond">
              <a:avLst/>
            </a:prstGeom>
            <a:solidFill>
              <a:srgbClr val="e3e9db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4" name="文本框 1"/>
          <p:cNvSpPr/>
          <p:nvPr/>
        </p:nvSpPr>
        <p:spPr>
          <a:xfrm>
            <a:off x="1100160" y="1314360"/>
            <a:ext cx="7326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数学：我们专业都是考数二（线代加高数），当然不管数几，数学终究是重中之重。每年都有因为总分上线，而卡到数学 的同学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推荐书籍：以同济版教材为纲，前期汤家凤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0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或张宇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题配合李永乐线代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6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后期回归历年真题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英语：长期积累的过程，每天花点时间记点单词、读点文章，保持对英语学习的感觉很重要。建议在暑假开始做真题，把真题吃透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推荐书籍：考研单词一本  作文一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政治：不建议复习太早，暑假结束后正式复习不晚，以红宝书为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推荐书籍：肖秀荣考研政治系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专业课：建议从暑假开始，课本至少复习两遍，把课后题做两边。然后买报考学校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年的初试题，越详细的越好，把它做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以上是我针对未报班的同学，对于报班的同学，我想说既然报了班，就跟着班走，轻松些，书籍的话考研班会发很多，没必要再买太多。书不再多，而是要把自己手里的资料吃透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流程图: 终止 12"/>
          <p:cNvSpPr/>
          <p:nvPr/>
        </p:nvSpPr>
        <p:spPr>
          <a:xfrm>
            <a:off x="1403280" y="727200"/>
            <a:ext cx="5256360" cy="503280"/>
          </a:xfrm>
          <a:prstGeom prst="flowChartTerminator">
            <a:avLst/>
          </a:prstGeom>
          <a:solidFill>
            <a:srgbClr val="e3e9db"/>
          </a:solidFill>
          <a:ln cap="rnd" w="9360">
            <a:solidFill>
              <a:srgbClr val="65a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复习方案和推荐书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6" name="组合 1"/>
          <p:cNvGrpSpPr/>
          <p:nvPr/>
        </p:nvGrpSpPr>
        <p:grpSpPr>
          <a:xfrm>
            <a:off x="-216000" y="5167440"/>
            <a:ext cx="3637080" cy="3166920"/>
            <a:chOff x="-216000" y="5167440"/>
            <a:chExt cx="3637080" cy="3166920"/>
          </a:xfrm>
        </p:grpSpPr>
        <p:sp>
          <p:nvSpPr>
            <p:cNvPr id="1307" name="Rectangle 4"/>
            <p:cNvSpPr/>
            <p:nvPr/>
          </p:nvSpPr>
          <p:spPr>
            <a:xfrm>
              <a:off x="1259640" y="6237360"/>
              <a:ext cx="216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四川理工学院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08" name="图片 5" descr=""/>
            <p:cNvPicPr/>
            <p:nvPr/>
          </p:nvPicPr>
          <p:blipFill>
            <a:blip r:embed="rId1"/>
            <a:stretch/>
          </p:blipFill>
          <p:spPr>
            <a:xfrm>
              <a:off x="-216000" y="5167440"/>
              <a:ext cx="2375280" cy="31669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9" name="组合 25"/>
          <p:cNvGrpSpPr/>
          <p:nvPr/>
        </p:nvGrpSpPr>
        <p:grpSpPr>
          <a:xfrm>
            <a:off x="179280" y="22320"/>
            <a:ext cx="3921120" cy="647640"/>
            <a:chOff x="179280" y="22320"/>
            <a:chExt cx="3921120" cy="647640"/>
          </a:xfrm>
        </p:grpSpPr>
        <p:sp>
          <p:nvSpPr>
            <p:cNvPr id="1310" name="矩形 7"/>
            <p:cNvSpPr/>
            <p:nvPr/>
          </p:nvSpPr>
          <p:spPr>
            <a:xfrm>
              <a:off x="609480" y="109440"/>
              <a:ext cx="3490920" cy="473040"/>
            </a:xfrm>
            <a:prstGeom prst="rect">
              <a:avLst/>
            </a:prstGeom>
            <a:solidFill>
              <a:srgbClr val="e3e9db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030a0"/>
                  </a:solidFill>
                  <a:latin typeface="Arial"/>
                </a:rPr>
                <a:t>     </a:t>
              </a:r>
              <a:r>
                <a:rPr b="0" lang="zh-CN" sz="1800" spc="-1" strike="noStrike">
                  <a:solidFill>
                    <a:srgbClr val="7030a0"/>
                  </a:solidFill>
                  <a:latin typeface="Arial"/>
                </a:rPr>
                <a:t>考研并没有那么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菱形 8"/>
            <p:cNvSpPr/>
            <p:nvPr/>
          </p:nvSpPr>
          <p:spPr>
            <a:xfrm>
              <a:off x="179280" y="22320"/>
              <a:ext cx="860400" cy="647640"/>
            </a:xfrm>
            <a:prstGeom prst="diamond">
              <a:avLst/>
            </a:prstGeom>
            <a:solidFill>
              <a:srgbClr val="e3e9db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四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2" name="文本框 1"/>
          <p:cNvSpPr/>
          <p:nvPr/>
        </p:nvSpPr>
        <p:spPr>
          <a:xfrm>
            <a:off x="1187280" y="1484280"/>
            <a:ext cx="727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在你们当中，我想可能会有同学有这样的想法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说：我现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级都没过，英语这么差，怎么考研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其实考研英语和四六级并无多大关系，考研英语没有听力，我想许多同学之所以没有过四六级，就是败在英语听力上。说实话，我英语也不好，正是因为考研复习英语才过了四级，听力成绩依然很低。考研的路上，是不是还有意想不到的收获，我的几位同学也正是考研复习才通过了英语六级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3" name="图片 1" descr=""/>
          <p:cNvPicPr/>
          <p:nvPr/>
        </p:nvPicPr>
        <p:blipFill>
          <a:blip r:embed="rId1"/>
          <a:stretch/>
        </p:blipFill>
        <p:spPr>
          <a:xfrm>
            <a:off x="4476600" y="176040"/>
            <a:ext cx="4667400" cy="3343320"/>
          </a:xfrm>
          <a:prstGeom prst="rect">
            <a:avLst/>
          </a:prstGeom>
          <a:ln w="0">
            <a:noFill/>
          </a:ln>
        </p:spPr>
      </p:pic>
      <p:sp>
        <p:nvSpPr>
          <p:cNvPr id="1314" name="TextBox 3"/>
          <p:cNvSpPr/>
          <p:nvPr/>
        </p:nvSpPr>
        <p:spPr>
          <a:xfrm>
            <a:off x="1187280" y="3860640"/>
            <a:ext cx="741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说：我曾挂在高数上，高数那么难，怎么办！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之所以觉得难，是因为我们之前没有去认真听好老师的讲课，一旦落下几章，后面便像听天书一样。高数是一门连贯性很强的课程，当我们自学的时候，你会发现，学好上一章，下一章的内容似乎就是让一章节的延伸，慢慢的就找到了学习的乐趣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5" name="组合 1"/>
          <p:cNvGrpSpPr/>
          <p:nvPr/>
        </p:nvGrpSpPr>
        <p:grpSpPr>
          <a:xfrm>
            <a:off x="-216000" y="5167440"/>
            <a:ext cx="3637080" cy="3166920"/>
            <a:chOff x="-216000" y="5167440"/>
            <a:chExt cx="3637080" cy="3166920"/>
          </a:xfrm>
        </p:grpSpPr>
        <p:sp>
          <p:nvSpPr>
            <p:cNvPr id="1316" name="Rectangle 4"/>
            <p:cNvSpPr/>
            <p:nvPr/>
          </p:nvSpPr>
          <p:spPr>
            <a:xfrm>
              <a:off x="1259640" y="6237360"/>
              <a:ext cx="216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四川理工学院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17" name="图片 5" descr=""/>
            <p:cNvPicPr/>
            <p:nvPr/>
          </p:nvPicPr>
          <p:blipFill>
            <a:blip r:embed="rId2"/>
            <a:stretch/>
          </p:blipFill>
          <p:spPr>
            <a:xfrm>
              <a:off x="-216000" y="5167440"/>
              <a:ext cx="2375280" cy="3166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8" dur="500"/>
                                        <p:tgtEl>
                                          <p:spTgt spid="1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/>
                                        <p:tgtEl>
                                          <p:spTgt spid="1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13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30T13:55:32Z</dcterms:created>
  <dc:creator>微软用户</dc:creator>
  <dc:description/>
  <cp:keywords/>
  <dc:language>en-US</dc:language>
  <cp:lastModifiedBy>kk</cp:lastModifiedBy>
  <dcterms:modified xsi:type="dcterms:W3CDTF">2016-04-27T09:13:26Z</dcterms:modified>
  <cp:revision>1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