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6C4BB-830B-4FD8-92D4-68FE76DB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D669D-581C-4640-A2E4-699EBFEC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D88DB-484F-4425-8AA9-9CE3022E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32449-E2F0-452A-8A1F-CE628467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DD3E4-FA9D-490D-A0B2-27353FFA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828E3-CEFF-4614-A55E-14A1FDF0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B09D4-2AB9-4466-BF1D-FA53843C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082EC-640C-4EC3-9987-04EF9801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E9854-07FB-4704-ADDF-8347FCE0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69A78-58EE-45C9-8BE0-CDDF656D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49BC8-0CD0-4A4B-90DE-3641B706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6DD30-1813-470C-A627-DF248533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A1E77-99DA-41B6-A40F-71783A4B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57D72-045D-4EE5-8A03-92BEED95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411F2-FADB-4ED6-B8D8-B108CA89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44A42-5B0F-44EF-A24D-90DFEF83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8CD63-E97C-4A8D-8DE9-838DF570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DC92C-4D3A-4974-AEDC-F4B336DB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D8CF4-BBA9-4B1C-812B-B3EA1CDB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5A0C2-93D1-4FD4-A7D0-D5506495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527AC-107B-4113-A5BE-4F2CF548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2F9D5-0291-4DC9-BA6F-C830C54E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EC40D-9DFE-4598-9FCF-3EA731FB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BEAC2-E2AC-449C-AC95-11C06683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B3628-7AF9-4DD9-9C4F-84A4DA4B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02153-E21C-4C37-99E0-B9E9F747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8FF02-F6D4-43DF-BA73-53C78C13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91B61-A265-4655-A8A5-3AB0FD9C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0A927-ABE9-4922-A84F-F1431682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7E168-CD79-4A07-A424-8452AF09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66B-CF9D-471A-A1C2-66BDB8D2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245F5-0070-4006-AD18-C55B1FED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7F2DA-910F-4FEF-83C8-B85AC45F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7F7B9-6D55-4F14-9CA9-D7A814AF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5438F-8ACC-4BC2-990D-5EA0D388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B0983-DBB2-46F5-A128-010859CE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74D97-6D66-47E4-A688-971A2531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A9F49-F001-4983-B96B-11E450C4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2F510-59F4-4A81-B85E-A4B3C6AC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3CC51-AFD0-4A14-93C2-8C55F0F4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FC353-C4AF-4897-9B56-4B641A57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047-5264-4D54-8B47-B4370819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249F3-BB41-40F3-97C6-12C5C4A7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EFE44-78ED-4506-93E6-D681FF73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F8072-2D5F-4D4C-8C6C-5E00A37D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D701A-C578-4276-A9FD-A38922A0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2C49C-1645-4479-8F8D-183B1883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DBB-2AB5-45C9-A9A4-FB12095E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369-8583-4042-AAEB-62AF1865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C58-8F2A-4FD6-9A73-FE928E45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0272-0909-4081-BAF4-EA2BEBBE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116-14CE-4460-8DC4-5DB67F7A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53A-F383-46CD-ADF0-2438C4DF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1E53-7D83-4CAC-9457-29C83989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0FC-3673-451E-AEF5-52E0D79B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DD0-5004-4143-80D9-EDD2CF54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4DF1-79D1-403F-AD94-4CA55373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BF5B-EA53-4F64-B5DA-4F03DA36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AB23-B460-462A-AAFB-74CF1D44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ACE3-65B6-4AAE-8EE4-BA0E839F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7F1D-31B4-4D5D-B7D9-86B1C876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14A5-8F84-4415-8F6B-A7D61737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B686-2A50-49D8-AECE-706B8F7C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E66F-D0BF-4E97-A07E-67E335B2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ADBB-F297-4812-96FA-2B8E0EA9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B302-5689-4A02-BD0C-E973DC02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6189-DC89-4F12-B2F5-3B72C1B9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C3AE-D0A4-4012-BF81-2F13B979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C212-1F06-4D1F-B073-4DB44728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CB2D7-0AE0-4188-B95C-5B501DF2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4D0A0-697C-4D64-B6EB-EBB2AAEA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F664F-2EBA-4D1C-B7BE-FA6660A3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AA9E3-C7E5-4B1F-B65D-7745B3EE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DD9F6-8425-4DDE-9296-C85F7271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77913-BBD9-4012-81D2-D5DC4702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FDB2F-B5A4-4FF5-8C48-C007B4BE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E9E57-192F-495E-B4B3-B3155C83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5BFD0-E7BE-40C5-A8A5-8962328E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7572-ADE5-448A-A61F-B3ACEDF6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CCD96-8593-443C-B418-3E3F63EC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07D37-34D7-4A2F-A7E2-45628997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AFD5E-9D56-4835-98DE-11A84211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A8249-37C8-4566-BDE2-B7718107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174D7-1436-4F82-BB66-E0F343E0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E66E8-BE55-4331-BF1D-25F917AC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400F4-78FE-4028-A35C-0E0E006A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0AF6F-CA15-42F0-8357-C831923E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BA477-922F-48AF-8536-889A0B81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D1AFD-9D41-46F3-8829-E372CCE8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6A1FE-FA3F-4908-A035-AE86910F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F798E-CDA7-4E3A-8105-B1E4C830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E8B5E-F1E6-40F7-9921-8533E2D6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EE3AF-7E24-473F-926F-2E5142BB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AC980-CCFE-480E-9A1C-B3BB9F1F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E8C54-4628-48E6-9CF1-0EC17DCC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62628-9F50-44E0-81E0-F046ECCC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0496F-75E8-4D6E-907E-F0E06E35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35FFC-E1FD-495A-9A30-1F15FD5B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F1635-85CB-4E51-8CCB-71AB40B1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A7381-C8E6-4438-9C93-8214AD76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CFAB1-345C-42B8-B2E9-5839C99A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1B041-C219-4171-B70E-A81275B0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11454-17CC-4642-A05F-6ABF2090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0537C-5C7D-4378-AD0F-1E0C3A50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18961-D23D-433A-96AF-5A23271C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296E8-83D6-4582-BC84-F0E931F2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E19F5-3F41-420D-9A24-E3B93022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80DF0-9DEE-4336-A354-20CDD3D3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BEDCA-2E0C-4DF6-B7BB-5B0E52BD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E0771-42D0-40D1-97CF-B19B0802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2BE7C-A33D-4231-9792-787A33B4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486F8-1928-4ECB-82B4-BF254CCD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972B1-0311-4B81-82C0-9B77AA33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C2553-27E7-4987-B128-03AD08A2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C7536-CB6C-45BD-936B-E79221EC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D44A5-4F06-4A76-923C-58717DA8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2F7B0-CA51-42D4-B7DE-33063833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72A1E-DED3-4D5E-822F-B17F8A43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A7CFF-1E28-4FB9-A601-D9CB157A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35F0F-737C-47C4-BFA7-425F2130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67E98-D94A-4125-8B9C-2FD3DF10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0B9A4-7FA8-4885-8814-944F92F5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FF320-32EC-460E-95C9-9C6C98A8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34434-82B7-415C-A7F0-F149881C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9172C-789A-43AA-A218-30271B82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57087-D861-43EF-9336-F1A13B58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4B960-3599-4105-A068-B7A3C9F7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B985F-B264-4E47-9F09-EF8892A4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ED1A9-FAF1-46DF-8563-DDDDEE71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53881-6AC4-490F-9AD2-640929DB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D0D94-3C80-4152-B2EF-7596628E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6A6EB-F425-49C7-9255-30B4ACB1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46C6-F12E-4C51-BE3E-8400823B1E4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78B8-36D1-4393-887E-064E6D6527E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E522-D939-42C3-9F5F-89C0FF83CC3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D86C-4579-4093-870E-041081FAABA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8933-26EE-4647-9938-82A293FE213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7E2E-0D1B-4029-803F-D0713B0726C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B9AE-B731-416B-851C-77F193222B9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D596-A6BF-42B7-8DFD-83343245D4F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183D-6073-4216-841D-8C40937C39E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B46A-1898-495B-AC4B-96A2B0A1DBD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303B-D3A8-40FB-99EF-4B5A06887C6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321,4,&#24187;&#28783;&#29255; 4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组合 1"/>
          <p:cNvGrpSpPr/>
          <p:nvPr/>
        </p:nvGrpSpPr>
        <p:grpSpPr>
          <a:xfrm>
            <a:off x="-22320" y="981000"/>
            <a:ext cx="9144000" cy="1467000"/>
            <a:chOff x="-22320" y="981000"/>
            <a:chExt cx="9144000" cy="1467000"/>
          </a:xfrm>
        </p:grpSpPr>
        <p:sp>
          <p:nvSpPr>
            <p:cNvPr id="480" name="圆角矩形 2"/>
            <p:cNvSpPr/>
            <p:nvPr/>
          </p:nvSpPr>
          <p:spPr>
            <a:xfrm>
              <a:off x="-22320" y="981000"/>
              <a:ext cx="9144000" cy="146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bd97"/>
                </a:gs>
                <a:gs pos="50000">
                  <a:srgbClr val="ffffff"/>
                </a:gs>
                <a:gs pos="100000">
                  <a:srgbClr val="c4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4"/>
            <p:cNvSpPr/>
            <p:nvPr/>
          </p:nvSpPr>
          <p:spPr>
            <a:xfrm>
              <a:off x="179280" y="1180440"/>
              <a:ext cx="891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70c0"/>
                  </a:solidFill>
                  <a:latin typeface="华文行楷"/>
                  <a:ea typeface="华文行楷"/>
                </a:rPr>
                <a:t>考研经验交流会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2" name="直接连接符 4"/>
          <p:cNvSpPr/>
          <p:nvPr/>
        </p:nvSpPr>
        <p:spPr>
          <a:xfrm flipV="1">
            <a:off x="-19080" y="62028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直接连接符 5"/>
          <p:cNvSpPr/>
          <p:nvPr/>
        </p:nvSpPr>
        <p:spPr>
          <a:xfrm flipV="1">
            <a:off x="-54000" y="2838600"/>
            <a:ext cx="9144000" cy="712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图片 7" descr=""/>
          <p:cNvPicPr/>
          <p:nvPr/>
        </p:nvPicPr>
        <p:blipFill>
          <a:blip r:embed="rId1"/>
          <a:stretch/>
        </p:blipFill>
        <p:spPr>
          <a:xfrm>
            <a:off x="179280" y="2279520"/>
            <a:ext cx="5184720" cy="4044960"/>
          </a:xfrm>
          <a:prstGeom prst="rect">
            <a:avLst/>
          </a:prstGeom>
          <a:ln w="0">
            <a:noFill/>
          </a:ln>
        </p:spPr>
      </p:pic>
      <p:sp>
        <p:nvSpPr>
          <p:cNvPr id="485" name="TextBox 8"/>
          <p:cNvSpPr/>
          <p:nvPr/>
        </p:nvSpPr>
        <p:spPr>
          <a:xfrm>
            <a:off x="4714920" y="4500720"/>
            <a:ext cx="30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仿宋"/>
                <a:ea typeface="仿宋"/>
              </a:rPr>
              <a:t>介绍人： 刘 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仿宋"/>
                <a:ea typeface="仿宋"/>
              </a:rPr>
              <a:t>班  级：工艺</a:t>
            </a:r>
            <a:r>
              <a:rPr b="1" lang="en-US" sz="2800" spc="-1" strike="noStrike">
                <a:solidFill>
                  <a:srgbClr val="0070c0"/>
                </a:solidFill>
                <a:latin typeface="仿宋"/>
                <a:ea typeface="仿宋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仿宋"/>
                <a:ea typeface="仿宋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57200" y="1285560"/>
            <a:ext cx="8329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中旬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英语：单词、阅读（练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翻译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学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础课视频题（第三遍）、汤家凤高数线代强化（第二遍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政治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大纲解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遍、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专业课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丁忠伟《化工原理学习指导》第一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57200" y="6426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考前一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英语：何凯文作文背诵第四遍、恋练有词第三遍、真题一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学：真题每天一套（上午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政治：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风中劲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背诵）、肖秀荣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真题讲解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选择题训练）、肖秀荣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练习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全篇背诵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专业课：真题（模拟考试，归纳总结）、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《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化工原理指导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复习笔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最后一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调整状态，注意休息，注意饮食，适当复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组合 3"/>
          <p:cNvGrpSpPr/>
          <p:nvPr/>
        </p:nvGrpSpPr>
        <p:grpSpPr>
          <a:xfrm>
            <a:off x="0" y="372960"/>
            <a:ext cx="9144000" cy="1467000"/>
            <a:chOff x="0" y="372960"/>
            <a:chExt cx="9144000" cy="1467000"/>
          </a:xfrm>
        </p:grpSpPr>
        <p:sp>
          <p:nvSpPr>
            <p:cNvPr id="537" name="圆角矩形 4"/>
            <p:cNvSpPr/>
            <p:nvPr/>
          </p:nvSpPr>
          <p:spPr>
            <a:xfrm>
              <a:off x="0" y="372960"/>
              <a:ext cx="9144000" cy="146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bd97"/>
                </a:gs>
                <a:gs pos="50000">
                  <a:srgbClr val="ffffff"/>
                </a:gs>
                <a:gs pos="100000">
                  <a:srgbClr val="c4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矩形 4"/>
            <p:cNvSpPr/>
            <p:nvPr/>
          </p:nvSpPr>
          <p:spPr>
            <a:xfrm>
              <a:off x="201600" y="572400"/>
              <a:ext cx="891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70c0"/>
                  </a:solidFill>
                  <a:latin typeface="华文行楷"/>
                  <a:ea typeface="华文行楷"/>
                </a:rPr>
                <a:t>阳光总在风雨后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9" name="圆角矩形 15"/>
          <p:cNvSpPr/>
          <p:nvPr/>
        </p:nvSpPr>
        <p:spPr>
          <a:xfrm>
            <a:off x="4680" y="270828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右箭头 16"/>
          <p:cNvSpPr/>
          <p:nvPr/>
        </p:nvSpPr>
        <p:spPr>
          <a:xfrm>
            <a:off x="2085840" y="2922480"/>
            <a:ext cx="979560" cy="48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圆角矩形 17"/>
          <p:cNvSpPr/>
          <p:nvPr/>
        </p:nvSpPr>
        <p:spPr>
          <a:xfrm>
            <a:off x="6945480" y="2708280"/>
            <a:ext cx="157608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圆角矩形 18"/>
          <p:cNvSpPr/>
          <p:nvPr/>
        </p:nvSpPr>
        <p:spPr>
          <a:xfrm>
            <a:off x="3541680" y="270828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右箭头 19"/>
          <p:cNvSpPr/>
          <p:nvPr/>
        </p:nvSpPr>
        <p:spPr>
          <a:xfrm>
            <a:off x="5672160" y="2924280"/>
            <a:ext cx="979560" cy="485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右箭头 20"/>
          <p:cNvSpPr/>
          <p:nvPr/>
        </p:nvSpPr>
        <p:spPr>
          <a:xfrm>
            <a:off x="303120" y="4653000"/>
            <a:ext cx="979560" cy="485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圆角矩形 21"/>
          <p:cNvSpPr/>
          <p:nvPr/>
        </p:nvSpPr>
        <p:spPr>
          <a:xfrm>
            <a:off x="1787400" y="443880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右箭头 22"/>
          <p:cNvSpPr/>
          <p:nvPr/>
        </p:nvSpPr>
        <p:spPr>
          <a:xfrm>
            <a:off x="3840120" y="4654440"/>
            <a:ext cx="979560" cy="48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圆角矩形 24"/>
          <p:cNvSpPr/>
          <p:nvPr/>
        </p:nvSpPr>
        <p:spPr>
          <a:xfrm>
            <a:off x="5118120" y="444024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拟录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文本框 25"/>
          <p:cNvSpPr/>
          <p:nvPr/>
        </p:nvSpPr>
        <p:spPr>
          <a:xfrm>
            <a:off x="3541680" y="4073400"/>
            <a:ext cx="11066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等待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26"/>
          <p:cNvSpPr/>
          <p:nvPr/>
        </p:nvSpPr>
        <p:spPr>
          <a:xfrm>
            <a:off x="117360" y="4073400"/>
            <a:ext cx="110664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准备复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文本框 27"/>
          <p:cNvSpPr/>
          <p:nvPr/>
        </p:nvSpPr>
        <p:spPr>
          <a:xfrm>
            <a:off x="5353200" y="2384280"/>
            <a:ext cx="1106280" cy="36828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Calibri"/>
                <a:ea typeface="宋体"/>
              </a:rPr>
              <a:t>等待成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文本框 28"/>
          <p:cNvSpPr/>
          <p:nvPr/>
        </p:nvSpPr>
        <p:spPr>
          <a:xfrm>
            <a:off x="1787400" y="2384280"/>
            <a:ext cx="1106640" cy="3682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Calibri"/>
                <a:ea typeface="宋体"/>
              </a:rPr>
              <a:t>准备初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3" name="组合 3"/>
          <p:cNvGrpSpPr/>
          <p:nvPr/>
        </p:nvGrpSpPr>
        <p:grpSpPr>
          <a:xfrm>
            <a:off x="0" y="372960"/>
            <a:ext cx="9144000" cy="1467000"/>
            <a:chOff x="0" y="372960"/>
            <a:chExt cx="9144000" cy="1467000"/>
          </a:xfrm>
        </p:grpSpPr>
        <p:sp>
          <p:nvSpPr>
            <p:cNvPr id="554" name="圆角矩形 4"/>
            <p:cNvSpPr/>
            <p:nvPr/>
          </p:nvSpPr>
          <p:spPr>
            <a:xfrm>
              <a:off x="0" y="372960"/>
              <a:ext cx="9144000" cy="146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bd97"/>
                </a:gs>
                <a:gs pos="50000">
                  <a:srgbClr val="ffffff"/>
                </a:gs>
                <a:gs pos="100000">
                  <a:srgbClr val="c4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矩形 4"/>
            <p:cNvSpPr/>
            <p:nvPr/>
          </p:nvSpPr>
          <p:spPr>
            <a:xfrm>
              <a:off x="201600" y="572400"/>
              <a:ext cx="891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70c0"/>
                  </a:solidFill>
                  <a:latin typeface="华文行楷"/>
                  <a:ea typeface="华文行楷"/>
                </a:rPr>
                <a:t>春暖花开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6" name="图片 5" descr=""/>
          <p:cNvPicPr/>
          <p:nvPr/>
        </p:nvPicPr>
        <p:blipFill>
          <a:blip r:embed="rId1"/>
          <a:stretch/>
        </p:blipFill>
        <p:spPr>
          <a:xfrm>
            <a:off x="1720800" y="139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直接连接符 6"/>
          <p:cNvSpPr/>
          <p:nvPr/>
        </p:nvSpPr>
        <p:spPr>
          <a:xfrm flipV="1">
            <a:off x="-20520" y="112500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直接连接符 7"/>
          <p:cNvSpPr/>
          <p:nvPr/>
        </p:nvSpPr>
        <p:spPr>
          <a:xfrm flipV="1">
            <a:off x="-20520" y="630828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矩形 9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358120" cy="341640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5" descr=""/>
          <p:cNvPicPr/>
          <p:nvPr/>
        </p:nvPicPr>
        <p:blipFill>
          <a:blip r:embed="rId2"/>
          <a:stretch/>
        </p:blipFill>
        <p:spPr>
          <a:xfrm>
            <a:off x="4286160" y="2500200"/>
            <a:ext cx="48578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1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3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直接连接符 3"/>
          <p:cNvSpPr/>
          <p:nvPr/>
        </p:nvSpPr>
        <p:spPr>
          <a:xfrm flipV="1">
            <a:off x="-20520" y="1049040"/>
            <a:ext cx="9144000" cy="730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直接连接符 4"/>
          <p:cNvSpPr/>
          <p:nvPr/>
        </p:nvSpPr>
        <p:spPr>
          <a:xfrm flipV="1">
            <a:off x="0" y="632412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标题 1"/>
          <p:cNvSpPr/>
          <p:nvPr/>
        </p:nvSpPr>
        <p:spPr>
          <a:xfrm>
            <a:off x="1500120" y="233280"/>
            <a:ext cx="6072120" cy="78912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fffa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、考研情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2"/>
          <p:cNvSpPr/>
          <p:nvPr/>
        </p:nvSpPr>
        <p:spPr>
          <a:xfrm>
            <a:off x="1143000" y="1714680"/>
            <a:ext cx="7000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初试总分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政治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3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英语（一）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学（二）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8 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化工原理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取院校：北京化工大学化学化工学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取专业：化学工程与技术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36" descr=""/>
          <p:cNvPicPr/>
          <p:nvPr/>
        </p:nvPicPr>
        <p:blipFill>
          <a:blip r:embed="rId1"/>
          <a:stretch/>
        </p:blipFill>
        <p:spPr>
          <a:xfrm>
            <a:off x="4884840" y="331920"/>
            <a:ext cx="4240080" cy="6029280"/>
          </a:xfrm>
          <a:prstGeom prst="rect">
            <a:avLst/>
          </a:prstGeom>
          <a:ln w="0">
            <a:noFill/>
          </a:ln>
        </p:spPr>
      </p:pic>
      <p:sp>
        <p:nvSpPr>
          <p:cNvPr id="491" name="直接连接符 3"/>
          <p:cNvSpPr/>
          <p:nvPr/>
        </p:nvSpPr>
        <p:spPr>
          <a:xfrm flipV="1">
            <a:off x="-20520" y="1049040"/>
            <a:ext cx="9144000" cy="730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直接连接符 4"/>
          <p:cNvSpPr/>
          <p:nvPr/>
        </p:nvSpPr>
        <p:spPr>
          <a:xfrm flipV="1">
            <a:off x="0" y="632412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标题 1"/>
          <p:cNvSpPr/>
          <p:nvPr/>
        </p:nvSpPr>
        <p:spPr>
          <a:xfrm>
            <a:off x="120600" y="233280"/>
            <a:ext cx="8666280" cy="78912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fffa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、未来规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4" name="Group 33"/>
          <p:cNvGrpSpPr/>
          <p:nvPr/>
        </p:nvGrpSpPr>
        <p:grpSpPr>
          <a:xfrm>
            <a:off x="185760" y="1452600"/>
            <a:ext cx="4724280" cy="685800"/>
            <a:chOff x="185760" y="1452600"/>
            <a:chExt cx="4724280" cy="685800"/>
          </a:xfrm>
        </p:grpSpPr>
        <p:sp>
          <p:nvSpPr>
            <p:cNvPr id="495" name="AutoShape 47"/>
            <p:cNvSpPr/>
            <p:nvPr/>
          </p:nvSpPr>
          <p:spPr>
            <a:xfrm>
              <a:off x="566640" y="15717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AutoShape 48"/>
            <p:cNvSpPr/>
            <p:nvPr/>
          </p:nvSpPr>
          <p:spPr>
            <a:xfrm>
              <a:off x="185760" y="1452600"/>
              <a:ext cx="68580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Text Box 49"/>
            <p:cNvSpPr/>
            <p:nvPr/>
          </p:nvSpPr>
          <p:spPr>
            <a:xfrm>
              <a:off x="1025640" y="1571760"/>
              <a:ext cx="34290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Calibri"/>
                  <a:ea typeface="宋体"/>
                  <a:hlinkClick r:id="rId2"/>
                </a:rPr>
                <a:t>考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Text Box 50"/>
            <p:cNvSpPr/>
            <p:nvPr/>
          </p:nvSpPr>
          <p:spPr>
            <a:xfrm>
              <a:off x="342000" y="155088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9" name="Group 33"/>
          <p:cNvGrpSpPr/>
          <p:nvPr/>
        </p:nvGrpSpPr>
        <p:grpSpPr>
          <a:xfrm>
            <a:off x="214200" y="2643120"/>
            <a:ext cx="5114880" cy="685800"/>
            <a:chOff x="214200" y="2643120"/>
            <a:chExt cx="5114880" cy="685800"/>
          </a:xfrm>
        </p:grpSpPr>
        <p:sp>
          <p:nvSpPr>
            <p:cNvPr id="500" name="AutoShape 47"/>
            <p:cNvSpPr/>
            <p:nvPr/>
          </p:nvSpPr>
          <p:spPr>
            <a:xfrm>
              <a:off x="595080" y="2762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AutoShape 48"/>
            <p:cNvSpPr/>
            <p:nvPr/>
          </p:nvSpPr>
          <p:spPr>
            <a:xfrm>
              <a:off x="214200" y="2643120"/>
              <a:ext cx="68580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Text Box 49"/>
            <p:cNvSpPr/>
            <p:nvPr/>
          </p:nvSpPr>
          <p:spPr>
            <a:xfrm>
              <a:off x="1900080" y="2801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工作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Text Box 50"/>
            <p:cNvSpPr/>
            <p:nvPr/>
          </p:nvSpPr>
          <p:spPr>
            <a:xfrm>
              <a:off x="370440" y="27414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4" name="Group 33"/>
          <p:cNvGrpSpPr/>
          <p:nvPr/>
        </p:nvGrpSpPr>
        <p:grpSpPr>
          <a:xfrm>
            <a:off x="214200" y="3929040"/>
            <a:ext cx="4714560" cy="685800"/>
            <a:chOff x="214200" y="3929040"/>
            <a:chExt cx="4714560" cy="685800"/>
          </a:xfrm>
        </p:grpSpPr>
        <p:sp>
          <p:nvSpPr>
            <p:cNvPr id="505" name="AutoShape 47"/>
            <p:cNvSpPr/>
            <p:nvPr/>
          </p:nvSpPr>
          <p:spPr>
            <a:xfrm>
              <a:off x="375480" y="4057560"/>
              <a:ext cx="45532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AutoShape 48"/>
            <p:cNvSpPr/>
            <p:nvPr/>
          </p:nvSpPr>
          <p:spPr>
            <a:xfrm>
              <a:off x="214200" y="3929040"/>
              <a:ext cx="71892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Text Box 49"/>
            <p:cNvSpPr/>
            <p:nvPr/>
          </p:nvSpPr>
          <p:spPr>
            <a:xfrm>
              <a:off x="725040" y="4103640"/>
              <a:ext cx="359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出国留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Text Box 50"/>
            <p:cNvSpPr/>
            <p:nvPr/>
          </p:nvSpPr>
          <p:spPr>
            <a:xfrm>
              <a:off x="385920" y="40273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9" name="Group 33"/>
          <p:cNvGrpSpPr/>
          <p:nvPr/>
        </p:nvGrpSpPr>
        <p:grpSpPr>
          <a:xfrm>
            <a:off x="214200" y="5286240"/>
            <a:ext cx="4724280" cy="685800"/>
            <a:chOff x="214200" y="5286240"/>
            <a:chExt cx="4724280" cy="685800"/>
          </a:xfrm>
        </p:grpSpPr>
        <p:sp>
          <p:nvSpPr>
            <p:cNvPr id="510" name="AutoShape 47"/>
            <p:cNvSpPr/>
            <p:nvPr/>
          </p:nvSpPr>
          <p:spPr>
            <a:xfrm>
              <a:off x="595080" y="54054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AutoShape 48"/>
            <p:cNvSpPr/>
            <p:nvPr/>
          </p:nvSpPr>
          <p:spPr>
            <a:xfrm>
              <a:off x="214200" y="5286240"/>
              <a:ext cx="68580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Text Box 49"/>
            <p:cNvSpPr/>
            <p:nvPr/>
          </p:nvSpPr>
          <p:spPr>
            <a:xfrm>
              <a:off x="2228760" y="544968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其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Text Box 50"/>
            <p:cNvSpPr/>
            <p:nvPr/>
          </p:nvSpPr>
          <p:spPr>
            <a:xfrm>
              <a:off x="370440" y="53845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5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如何获取各大院校的招生信息（专业、人数、报录比、专业课科目等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网上查询：主要有学校官网、考研帮、研招网、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小木虫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等几大网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咨询学长学姐（最直接最有效的方式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5" name="Group 33"/>
          <p:cNvGrpSpPr/>
          <p:nvPr/>
        </p:nvGrpSpPr>
        <p:grpSpPr>
          <a:xfrm>
            <a:off x="457200" y="274680"/>
            <a:ext cx="8228880" cy="1142640"/>
            <a:chOff x="457200" y="274680"/>
            <a:chExt cx="8228880" cy="1142640"/>
          </a:xfrm>
        </p:grpSpPr>
        <p:sp>
          <p:nvSpPr>
            <p:cNvPr id="516" name="AutoShape 47"/>
            <p:cNvSpPr/>
            <p:nvPr/>
          </p:nvSpPr>
          <p:spPr>
            <a:xfrm>
              <a:off x="1120320" y="473040"/>
              <a:ext cx="756576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考研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AutoShape 48"/>
            <p:cNvSpPr/>
            <p:nvPr/>
          </p:nvSpPr>
          <p:spPr>
            <a:xfrm>
              <a:off x="457200" y="274680"/>
              <a:ext cx="1194480" cy="114264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Text Box 50"/>
            <p:cNvSpPr/>
            <p:nvPr/>
          </p:nvSpPr>
          <p:spPr>
            <a:xfrm>
              <a:off x="830880" y="4381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三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购买什么样的资料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英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单词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PP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知米背单词、朱伟恋练有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作文：何凯文作文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阅读：何凯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长难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黄皮书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真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完型：星火英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         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重要的事情</a:t>
            </a:r>
            <a:r>
              <a:rPr b="1" lang="zh-CN" sz="2800" spc="-1" strike="noStrike">
                <a:solidFill>
                  <a:srgbClr val="0070c0"/>
                </a:solidFill>
                <a:latin typeface="华文仿宋"/>
                <a:ea typeface="华文仿宋"/>
              </a:rPr>
              <a:t>说三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重要的事情</a:t>
            </a:r>
            <a:r>
              <a:rPr b="1" lang="zh-CN" sz="2800" spc="-1" strike="noStrike">
                <a:solidFill>
                  <a:srgbClr val="7030a0"/>
                </a:solidFill>
                <a:latin typeface="华文仿宋"/>
                <a:ea typeface="华文仿宋"/>
              </a:rPr>
              <a:t>靠自己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92880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数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础复习：同济六版高数课本、线性代数同济五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结合视频学习效率更高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础巩固与提高：汤家凤强化视频、汤家凤数学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李永乐线性辅导书、汤家凤高数复习全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冲刺阶段：汤家凤冲刺视频、汤家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真题解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政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基础提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政治大纲解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结合视频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刷三遍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风中劲草（背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冲刺复习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真题解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背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重点：关注微信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肖秀荣教授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”“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老蒋政治蒋中挺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专业课（以北京化工大学大学版为例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436248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本人考试用书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本科教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天大第二版《化工原理》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陈敏恒《化工原理》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习题练习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丁忠伟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《化工原理学习指导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北京化工大学化工原理考研真题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内容占位符 2" descr="微信图片_20170426225512"/>
          <p:cNvPicPr/>
          <p:nvPr/>
        </p:nvPicPr>
        <p:blipFill>
          <a:blip r:embed="rId1"/>
          <a:stretch/>
        </p:blipFill>
        <p:spPr>
          <a:xfrm>
            <a:off x="49849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直接连接符 3"/>
          <p:cNvSpPr/>
          <p:nvPr/>
        </p:nvSpPr>
        <p:spPr>
          <a:xfrm flipV="1">
            <a:off x="-20520" y="1049040"/>
            <a:ext cx="9144000" cy="730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4"/>
          <p:cNvSpPr/>
          <p:nvPr/>
        </p:nvSpPr>
        <p:spPr>
          <a:xfrm flipV="1">
            <a:off x="0" y="632412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标题 1"/>
          <p:cNvSpPr/>
          <p:nvPr/>
        </p:nvSpPr>
        <p:spPr>
          <a:xfrm>
            <a:off x="1500120" y="233280"/>
            <a:ext cx="6072120" cy="78912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fffa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习规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2"/>
          <p:cNvSpPr/>
          <p:nvPr/>
        </p:nvSpPr>
        <p:spPr>
          <a:xfrm>
            <a:off x="1143000" y="1714680"/>
            <a:ext cx="70009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现阶段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英语：单词、长难句（结合视频）、四六级真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数学：高数课本上下册、线代课本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复习全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一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上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英语：单词、阅读（每天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篇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学：基础课视频题（第二遍）、汤家凤高数线代强化（第一遍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专业课：课本复习一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12:10:31Z</dcterms:created>
  <dc:creator>Administrator</dc:creator>
  <dc:description/>
  <dc:language>en-US</dc:language>
  <cp:lastModifiedBy>Administrator</cp:lastModifiedBy>
  <dcterms:modified xsi:type="dcterms:W3CDTF">2017-04-27T10:07:41Z</dcterms:modified>
  <cp:revision>1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